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FFAF-2194-4241-9413-128A083028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F86E-7F1D-4710-899B-51DA947B8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2880" y="371340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900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8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4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2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8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4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1920" y="380520"/>
            <a:ext cx="8296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900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2880" y="371340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900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8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4880" y="152388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32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8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4880" y="3713400"/>
            <a:ext cx="2605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21920" y="380520"/>
            <a:ext cx="8296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9000" y="371340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1523880"/>
            <a:ext cx="3948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2880" y="3713400"/>
            <a:ext cx="8091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26" descr=""/>
          <p:cNvPicPr/>
          <p:nvPr/>
        </p:nvPicPr>
        <p:blipFill>
          <a:blip r:embed="rId2"/>
          <a:stretch/>
        </p:blipFill>
        <p:spPr>
          <a:xfrm>
            <a:off x="0" y="6556320"/>
            <a:ext cx="9144000" cy="301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185400" indent="-185400"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361080" indent="-174240">
              <a:spcBef>
                <a:spcPts val="3251"/>
              </a:spcBef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2" marL="1799640" indent="8640">
              <a:spcBef>
                <a:spcPts val="3251"/>
              </a:spcBef>
              <a:buClr>
                <a:srgbClr val="0b1f65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3" marL="1898640" indent="-815040">
              <a:spcBef>
                <a:spcPts val="3251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4" marL="1989000" indent="-544320">
              <a:spcBef>
                <a:spcPts val="325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5" marL="1989000" indent="-544320">
              <a:spcBef>
                <a:spcPts val="325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6" marL="1989000" indent="-544320">
              <a:spcBef>
                <a:spcPts val="325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Line 1034"/>
          <p:cNvSpPr/>
          <p:nvPr/>
        </p:nvSpPr>
        <p:spPr>
          <a:xfrm>
            <a:off x="357120" y="1330200"/>
            <a:ext cx="8382240" cy="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5302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6620040" y="6237360"/>
            <a:ext cx="2523960" cy="465120"/>
          </a:xfrm>
          <a:prstGeom prst="rect">
            <a:avLst/>
          </a:prstGeom>
          <a:ln w="0">
            <a:noFill/>
          </a:ln>
        </p:spPr>
      </p:pic>
      <p:sp>
        <p:nvSpPr>
          <p:cNvPr id="42" name="Line 9"/>
          <p:cNvSpPr/>
          <p:nvPr/>
        </p:nvSpPr>
        <p:spPr>
          <a:xfrm>
            <a:off x="1371600" y="914400"/>
            <a:ext cx="0" cy="1143000"/>
          </a:xfrm>
          <a:prstGeom prst="line">
            <a:avLst/>
          </a:prstGeom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185400" indent="-185400"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361080" indent="-174240">
              <a:spcBef>
                <a:spcPts val="3251"/>
              </a:spcBef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2" marL="1799640" indent="8640">
              <a:spcBef>
                <a:spcPts val="3251"/>
              </a:spcBef>
              <a:buClr>
                <a:srgbClr val="0b1f65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3" marL="1898640" indent="-815040">
              <a:spcBef>
                <a:spcPts val="3251"/>
              </a:spcBef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4" marL="1989000" indent="-544320">
              <a:spcBef>
                <a:spcPts val="325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5" marL="1989000" indent="-544320">
              <a:spcBef>
                <a:spcPts val="325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6" marL="1989000" indent="-544320">
              <a:spcBef>
                <a:spcPts val="3251"/>
              </a:spcBef>
              <a:buClr>
                <a:srgbClr val="000000"/>
              </a:buClr>
              <a:buSzPct val="4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347400" y="6714720"/>
            <a:ext cx="3682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rchive.ahrq.gov/research/sep02/0902ra23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6191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aramond"/>
              </a:rPr>
              <a:t>Emergency Planning and Preparedness </a:t>
            </a:r>
            <a:endParaRPr b="1" lang="en-US" sz="4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256068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Howard W. Levitin, M.D., FACE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Physician and Consultan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45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saster Planning Internationa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35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35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1" name="Picture 5" descr="Levitin_picture"/>
          <p:cNvPicPr/>
          <p:nvPr/>
        </p:nvPicPr>
        <p:blipFill>
          <a:blip r:embed="rId1"/>
          <a:srcRect l="25570" t="13248" r="23902" b="23923"/>
          <a:stretch/>
        </p:blipFill>
        <p:spPr>
          <a:xfrm>
            <a:off x="533520" y="3657600"/>
            <a:ext cx="209556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SkidmoreSue"/>
          <p:cNvPicPr/>
          <p:nvPr/>
        </p:nvPicPr>
        <p:blipFill>
          <a:blip r:embed="rId2"/>
          <a:srcRect l="22221" t="0" r="23613" b="4173"/>
          <a:stretch/>
        </p:blipFill>
        <p:spPr>
          <a:xfrm>
            <a:off x="4952880" y="3657600"/>
            <a:ext cx="213048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4876920" y="2560680"/>
            <a:ext cx="42670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ue Losch Skidmore, R.N., B.S.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1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16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Booz Allen Hamil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6560" y="609480"/>
            <a:ext cx="8296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ospital Bioterrorism Preparedness Questionnaire: Phase One Finding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917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23200" indent="-223200"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Readiness efforts occurring independentl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23200" indent="-223200">
              <a:spcBef>
                <a:spcPts val="81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 nationally accepted measures of preparednes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eatment capacit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tockpiling of resour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ass Prophylaxis &amp; vaccin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d utiliz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department overcrowdin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434160" indent="-209520">
              <a:lnSpc>
                <a:spcPct val="90000"/>
              </a:lnSpc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medical serv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3200" indent="-223200">
              <a:spcBef>
                <a:spcPts val="162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Administrative support is key to readines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192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ospital Bioterrorism Preparedness Questionnaire: Phase Two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8091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first questionnaire was revised to include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-220680">
              <a:lnSpc>
                <a:spcPct val="90000"/>
              </a:lnSpc>
              <a:spcBef>
                <a:spcPts val="1301"/>
              </a:spcBef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issues related to regional health care facilities/systems bioterrorism preparedness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-220680">
              <a:lnSpc>
                <a:spcPct val="90000"/>
              </a:lnSpc>
              <a:spcBef>
                <a:spcPts val="1301"/>
              </a:spcBef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objective measures that users need to interpret the results of the questionnaire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-220680">
              <a:lnSpc>
                <a:spcPct val="90000"/>
              </a:lnSpc>
              <a:spcBef>
                <a:spcPts val="1301"/>
              </a:spcBef>
              <a:buClr>
                <a:srgbClr val="0b1f65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best practice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35080"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4931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ospital Bioterrorism Preparedness Questionnaire: Historically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07440" indent="-307440">
              <a:spcBef>
                <a:spcPts val="1463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 evidence that the data gathered predicts preparednes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7440" indent="-307440">
              <a:spcBef>
                <a:spcPts val="1463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 established measures of bioterrorism preparednes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7440" indent="-307440">
              <a:spcBef>
                <a:spcPts val="1463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No generally accepted scenario to base preparednes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7440" indent="-307440">
              <a:spcBef>
                <a:spcPts val="1463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Most assessment tools have not been evaluated for validit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7440" indent="-307440">
              <a:spcBef>
                <a:spcPts val="1463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Most assessment tools have not obtained national buy-in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6560" y="380520"/>
            <a:ext cx="8296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ospital Bioterrorism Preparedness Questionnaire: Validity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488600"/>
            <a:ext cx="79012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marL="187920" indent="-187920">
              <a:lnSpc>
                <a:spcPct val="80000"/>
              </a:lnSpc>
              <a:spcBef>
                <a:spcPts val="125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ooled 12 of the leading assessment tools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187920" indent="-187920">
              <a:lnSpc>
                <a:spcPct val="80000"/>
              </a:lnSpc>
              <a:spcBef>
                <a:spcPts val="125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ach question rated by expert panel on relevance/pertine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187920" indent="-187920">
              <a:lnSpc>
                <a:spcPct val="80000"/>
              </a:lnSpc>
              <a:spcBef>
                <a:spcPts val="125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orking group reviewed all finding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1879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480" y="243828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lvl="1" marL="270000" indent="0">
              <a:lnSpc>
                <a:spcPct val="95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JCAH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MD Department of Health &amp; Mental Hygien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Inova Health Syste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University of Texas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DC Hospital Associatio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Delaware Division of Public Health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PA Department of Public Health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IL Department of Public Health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Vanderbilt University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27000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09480" y="5943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35080" indent="-235080">
              <a:lnSpc>
                <a:spcPct val="80000"/>
              </a:lnSpc>
              <a:spcBef>
                <a:spcPts val="125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Utilized the expertise of The Myers Group – a national survey &amp; market research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648320" y="2438280"/>
            <a:ext cx="3970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87280" indent="6480">
              <a:lnSpc>
                <a:spcPct val="95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64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NJ Department of Health &amp; Senior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64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Baltimore City Health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64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64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Booz Allen Ham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64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Disaster Planning Intern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64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University of Ma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64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University of West Virgi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6480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Emory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4480" y="380520"/>
            <a:ext cx="82962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ospital Bioterrorism Preparedness Questionnaire:  Design Criteria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00600" indent="-3006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Issues under the direct responsibility &amp;control of hospital leadership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00600" indent="-3006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Unique response requirements of a bioterrorism event only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00600" indent="-3006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Regional issues that only involve hospital participation &amp; roles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00600" indent="-3006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Questions will be designed for benchmarking purposes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00600" indent="-3006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Must be relevant to preparedness &amp; capacity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00600" indent="-3006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Each question must be tied to objective measures of readiness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6560" y="380520"/>
            <a:ext cx="82965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ospital Bioterrorism Preparedness Questionnaire:  Focu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32880" y="1523880"/>
            <a:ext cx="39690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3760" indent="-29376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Regional linkages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293760" indent="-29376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Bioterrorism planning &amp; structure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293760" indent="-29376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Training &amp; exercise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293760" indent="-29376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Triage, diagnosis &amp; treatment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293760" indent="-29376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Infection control, decontamination &amp; isolation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293760" indent="-29376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Public health surveillance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29376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160" y="1523880"/>
            <a:ext cx="39704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1200" indent="-3312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Surge capacity &amp; space utilization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31200" indent="-3312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Laboratory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31200" indent="-3312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Pharmacy &amp; mass immunization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31200" indent="-3312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Safety &amp; psych support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31200" indent="-3312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Information systems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  <a:p>
            <a:pPr marL="331200" indent="-331200">
              <a:spcBef>
                <a:spcPts val="14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Public relations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1480" y="380520"/>
            <a:ext cx="84139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Hospital Bioterrorism Preparedness Questionnaire: Readines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32880" y="1676160"/>
            <a:ext cx="80917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307440" indent="-307440">
              <a:lnSpc>
                <a:spcPct val="90000"/>
              </a:lnSpc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Standardize definitions of preparedness &amp; capacity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7440" indent="-307440">
              <a:lnSpc>
                <a:spcPct val="90000"/>
              </a:lnSpc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Peer-reviewed readiness milestones will be developed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7440" indent="-307440">
              <a:lnSpc>
                <a:spcPct val="90000"/>
              </a:lnSpc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The ability to benchmark readiness &amp; measure readiness progres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7440" indent="-307440">
              <a:lnSpc>
                <a:spcPct val="90000"/>
              </a:lnSpc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Data gathered can be used to model readiness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7440" indent="-307440">
              <a:lnSpc>
                <a:spcPct val="90000"/>
              </a:lnSpc>
              <a:spcBef>
                <a:spcPts val="3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Developing a national standard creates allows for research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85800" y="16002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more information about the first phase of the AHRQ-sponsored project and a copy of the original questionnaire, "Bioterroris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 Planning and Preparedness Questionnaire for Healthcar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ilities," please vis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d97af"/>
                </a:solidFill>
                <a:uFillTx/>
                <a:latin typeface="Arial"/>
                <a:hlinkClick r:id="rId1"/>
              </a:rPr>
              <a:t>http://archive.ahrq.gov/research/sep02/0902ra23.ht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6:16:32Z</dcterms:created>
  <dc:creator>BA&amp;H User</dc:creator>
  <dc:description/>
  <dc:language>en-US</dc:language>
  <cp:lastModifiedBy>emily.moser</cp:lastModifiedBy>
  <cp:lastPrinted>2003-04-08T14:04:15Z</cp:lastPrinted>
  <dcterms:modified xsi:type="dcterms:W3CDTF">2011-03-15T19:48:00Z</dcterms:modified>
  <cp:revision>26</cp:revision>
  <dc:subject/>
  <dc:title>AHRQ Web-Assisted Audio Conference on Drill Planning and Readiness Assessment </dc:title>
</cp:coreProperties>
</file>