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FAF-D1B5-4B45-83F0-985A619B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3F7-0F43-4DB6-836A-9A538E76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C40-81EB-4396-B70A-6A94CDC5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F70-7CEF-4D1D-B3D2-4A543A90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B7D9-9E3C-4F58-92A3-4910DC23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F00D-ACE8-440E-9996-BE00403A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1D7A-B5EC-4730-ADDD-D3C04C8B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0858-0826-4B3F-9EA6-74253CFC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8F7A-5455-4D15-9CB0-B2D459BE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DC90-0AD0-4263-8CE5-B4A0FD2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13C2-2ED4-4CCD-B990-02F5865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74C-3A06-41A1-B63D-399C3914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D945-2370-40B3-91FF-D4E5A78D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E47-AE67-433F-B9E9-F2B5505F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732-F232-426E-92E2-9EB2DF6C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F2E8-6467-45DE-BA32-7783C8B9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57DA-D263-404F-BB75-1486281C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549-728D-4469-BD0D-EF49808E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3DF-BA8E-42B1-A5C4-6C817AC4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FEF-D02E-4B7B-B971-214DE1BC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41E-CCEE-4732-8A89-53173D71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5A2-011B-4D78-B8DD-D09FE58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9DA-0435-40E8-B99C-75DFBCA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F2C-EC7C-4AC9-8E77-CE5E8E58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3109-68B7-4D75-B76C-193509CCA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53C-6DB5-4BC0-A80B-13D56B111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Book Antiqua"/>
              </a:rPr>
              <a:t>Disaster Planning Drills  and Readiness Assessment</a:t>
            </a:r>
            <a:endParaRPr b="0" lang="en-US" sz="48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ary Massey, R.N., B.S.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isaster Coordinat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naheim Memorial Medical Cent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naheim, 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1253" t="3331" r="28749" b="35000"/>
          <a:stretch/>
        </p:blipFill>
        <p:spPr>
          <a:xfrm>
            <a:off x="5638680" y="2971800"/>
            <a:ext cx="2438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STANDARDIZED FORM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atient tracking form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ICS job action sheet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tandardized critique form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ECONOMIC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ICS websit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ww.emsa.ca.gov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RSA fund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MRS fund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ffice of Domestic Preparedness clas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reativity and elbow grea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TRAINING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aving the best disaster drill ideas in the world won’t work unless everyone knows the pl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10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STANDARDIZED FORM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atient tracking form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ICS job action sheet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tandardized critique form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DISASTER PLANNING DRILL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386160" cy="3962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563400" cy="609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09680" y="4343400"/>
            <a:ext cx="18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ahe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943600" y="196200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200400" y="2438280"/>
            <a:ext cx="2286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TYPES OF DRILL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acilit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et/Count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MMRS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Metropolitan Medical Response Syste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tatewid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810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KEY LESSONS LEARNED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6920" y="2057040"/>
            <a:ext cx="3962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dentify the objectiv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ring all the players togeth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uild the relationship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3429000" cy="2863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51814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ring all the players togeth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1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1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16640" indent="-1166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ring the players togeth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Book Antiqua"/>
              </a:rPr>
              <a:t>BUILDING RELATIONSHIPS</a:t>
            </a:r>
            <a:endParaRPr b="0" lang="en-US" sz="48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COMMUNITY-WIDE PLAN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JCAHO Emergency Preparedness standard 1.6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tion O:  alternate roles and responsibilities of personnel during emergencies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including who they report to within a command structure that is consistent with that used by the local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Hospital Emergency Incident Command System (HEICS)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400440"/>
            <a:ext cx="76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4419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05520" y="4452840"/>
            <a:ext cx="266688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52520" y="1620720"/>
          <a:ext cx="8315280" cy="26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520" y="1620720"/>
                    <a:ext cx="831528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ok Antiqua"/>
              </a:rPr>
              <a:t>HEICS: emergency management system unifies hospitals with other emergency responders</a:t>
            </a:r>
            <a:endParaRPr b="0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430524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2362320"/>
            <a:ext cx="4114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 Antiqua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ain of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 Antiqua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on termi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 Antiqua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OTHER LESSONS LEARNED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8788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Mistakes are OK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cument the proble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nd a sol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st it at the next dril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5:47:49Z</dcterms:created>
  <dc:creator>Mary Massey</dc:creator>
  <dc:description/>
  <dc:language>en-US</dc:language>
  <cp:lastModifiedBy>Network Administrator</cp:lastModifiedBy>
  <dcterms:modified xsi:type="dcterms:W3CDTF">2003-04-17T19:20:52Z</dcterms:modified>
  <cp:revision>21</cp:revision>
  <dc:subject/>
  <dc:title>Emergency Management in the Age of Terror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800835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Disasterteleconference changes</vt:lpwstr>
  </property>
  <property fmtid="{D5CDD505-2E9C-101B-9397-08002B2CF9AE}" pid="6" name="_PreviousAdHocReviewCycleID">
    <vt:r8>-2005124932</vt:r8>
  </property>
</Properties>
</file>