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F35-E4C1-4871-BBD7-4B460BC0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61E-F514-490E-9A14-B4E6ECCE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62C-9892-47C1-AED4-F5F2BD44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9E8-92BA-40BF-968E-F47ED07A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4B5D-7FBA-43F5-B292-222ADFBA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2202-5A63-4A64-9447-E5C9E295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990F-47DE-4BB2-9F18-039EED85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79DB-B26B-45C6-988F-FD97FBB0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DB93-1563-476E-AFFB-C1AC680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9E8B-8D39-44E8-8900-0A49699B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C43D-0694-4F5D-8637-37E7D05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F57-B925-49E7-B463-0593B1A9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A822-6BDE-4ADE-AFA4-24E1F10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6338-FE0C-4F41-82E4-D83C3A5E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EF8-6292-408F-B40D-F140C58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3CE8-C872-478E-9B2B-26A6AB76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4349-660B-4904-B4A0-FD4F5467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B03-2E6C-4060-B104-56253D3A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C1E-6211-4311-B232-E27B0F6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386-4A0F-4F2A-9F4C-0F66B199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143-2E9E-493B-99A2-E943F8A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554-8C33-480B-AA62-91060A69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633-C4CE-43A6-8BD0-7E04AA04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41E-F4FA-49D3-9BC4-89BC0608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D25A-8469-495D-AAA4-FE1A3DCCF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13DF-42E0-43A0-987D-D748A09B3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Book Antiqua"/>
              </a:rPr>
              <a:t>Disaster Planning Drills  and Readiness Assessment</a:t>
            </a:r>
            <a:endParaRPr b="0" lang="en-US" sz="48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ary Massey, R.N., B.S.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isaster Coordinato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aheim Memorial Medical Cent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naheim, C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1253" t="3331" r="28749" b="35000"/>
          <a:stretch/>
        </p:blipFill>
        <p:spPr>
          <a:xfrm>
            <a:off x="5638680" y="2971800"/>
            <a:ext cx="24386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STANDARDIZED FORM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atient tracking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ICS job action shee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ndardized critique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ECONOMIC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ICS websit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emsa.ca.gov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RSA fund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MMRS funding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Office of Domestic Preparedness class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reativity and elbow greas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TRAINING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aving the best disaster drill ideas in the world won’t work unless everyone knows the pla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81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STANDARDIZED FORM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atient tracking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ICS job action sheet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ndardized critique form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362320"/>
            <a:ext cx="411480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DISASTER PLANNING DRILL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38616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563400" cy="609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09680" y="4343400"/>
            <a:ext cx="18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nahei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3600" y="196200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3200400" y="243828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TYPES OF DRILLS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00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Facilit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et/County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MRS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Metropolitan Medical Response Syste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Statewid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KEY LESSONS LEARNED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2057040"/>
            <a:ext cx="3962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dentify the objectiv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ring all the players togeth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uild the relationship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429000" cy="2863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00600" y="1447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51814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ring all the players togeth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116640" indent="-11664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Bring the players together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Book Antiqua"/>
              </a:rPr>
              <a:t>BUILDING RELATIONSHIPS</a:t>
            </a:r>
            <a:endParaRPr b="0" lang="en-US" sz="4800" spc="-1" strike="noStrike">
              <a:solidFill>
                <a:srgbClr val="ffcc6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COMMUNITY-WIDE PLAN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JCAHO Emergency Preparedness standard 1.6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tion O:  alternate roles and responsibilities of personnel during emergencies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including who they report to within a command structure that is consistent with that used by the local commun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Hospital Emergency Incident Command System (HEICS)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640044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3880" y="4419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05520" y="4452840"/>
            <a:ext cx="266688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452520" y="1620720"/>
          <a:ext cx="8315280" cy="26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520" y="1620720"/>
                    <a:ext cx="8315280" cy="26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Book Antiqua"/>
              </a:rPr>
              <a:t>HEICS: emergency management system unifies hospitals with other emergency responders</a:t>
            </a:r>
            <a:endParaRPr b="0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95280" y="430524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2362320"/>
            <a:ext cx="4114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in of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on termi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Book Antiqua"/>
              <a:buChar char="•"/>
              <a:tabLst>
                <a:tab algn="l" pos="33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Book Antiqua"/>
              </a:rPr>
              <a:t>OTHER LESSONS LEARNED</a:t>
            </a:r>
            <a:endParaRPr b="0" lang="en-US" sz="5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8788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istakes are OK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cument the problem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nd a solu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est it at the next dril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5:47:49Z</dcterms:created>
  <dc:creator>Mary Massey</dc:creator>
  <dc:description/>
  <dc:language>en-US</dc:language>
  <cp:lastModifiedBy>Network Administrator</cp:lastModifiedBy>
  <dcterms:modified xsi:type="dcterms:W3CDTF">2003-04-17T19:20:52Z</dcterms:modified>
  <cp:revision>21</cp:revision>
  <dc:subject/>
  <dc:title>Emergency Management in the Age of Terror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8008353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Disasterteleconference changes</vt:lpwstr>
  </property>
  <property fmtid="{D5CDD505-2E9C-101B-9397-08002B2CF9AE}" pid="6" name="_PreviousAdHocReviewCycleID">
    <vt:r8>-2005124932</vt:r8>
  </property>
</Properties>
</file>