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B785-19FC-45F1-B213-2924222AB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E23E-D2A5-4975-8EEF-9F041E964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D30F-E4D9-4BAE-B772-6FD99DB0A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E19F-1ADD-4D3D-89B2-22E4C5100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299E5-6F4A-4402-BE7D-DB3547CBA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04792-A97E-470A-99EF-F373BEAB2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0580A-F150-4AEB-BCC8-73515119D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92675-75BE-4637-8FF9-A94C7BF55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C2811-2166-4607-9412-43E0D0AE1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EAFFE-6C61-46C6-BAA6-72E1E3B4D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291EF-16D1-4F48-8C0E-A6D5E539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AA59-5F00-4BD5-92A1-99EE432A8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892A3-6EC1-450F-889B-E2BE620F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43780-08DA-4710-B0BA-176DCFB0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37744-2881-4563-898C-9BBBE9048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E3141-B942-4626-ACCD-9F2847E72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68EC7-C553-487F-9A50-CA70BFE2C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29BD-74C2-4BD4-8CCF-02C7A68E9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98BF-B6EF-44F6-BD9D-F6AB3F12C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DA34-BCB8-4387-A0D7-A1E9F69B2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4F80-5DDC-458B-97AE-CDE680990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8717-25D5-451D-AD0D-496DC185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A85C-5A34-4E8E-A665-AD01BA0B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835E-C5BD-4871-A982-E5C524A7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3783E-1F80-4F64-832B-09DE06720F0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43BA1-9725-43EC-B570-E483B8988CD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isaster Planning Drills and Readiness Assessm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962520"/>
            <a:ext cx="5029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Gary B. Green, MD, MPH, FACE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ssociate Professor of Emergency Medicine &amp; Pathology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Johns Hopkins University School of Medicine and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Johns Hopkins University Evidence-Based Practice Cente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resident, Emergency International, Inc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7402" t="0" r="0" b="0"/>
          <a:stretch/>
        </p:blipFill>
        <p:spPr>
          <a:xfrm>
            <a:off x="6095880" y="3733920"/>
            <a:ext cx="19051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raining Technique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abletop” exercis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oretical” drill with limited/no physical oper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ually focuses on ICS, system integ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ccessfully applied to physician training for bioterrorism preparedn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st as part of comprehensive training pla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omputer simulation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y replace expensive drills, allow identification of weaknesses in disaster plan and implemen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ery limited data availa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raining Technique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isaster Drill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rnerstone” of disaster preparedness effor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gnificant collective experie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igh variability in methods us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mited data concerning objective evalu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n to improve knowledge of disaster pl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ccessful in identifying problems in plan execu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Drill Evaluation: Define Goals &amp; Boundarie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efine specific goals for the dril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n’t be ambitious beyond resources!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inical response training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CS effectiveness evaluation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hem, Bio, Rads included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efine borders of drill activiti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face with outside agenci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 only, entire hospital, selected department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ulaged patients, “smart” victims, no victim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urity, pharmacy, radiology also involved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Resources availabl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equate time before drill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uy-in by key stakehold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parate evaluation team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Drill Evaluation: Methods and Instruments from Available “Tool Box”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linical care evaluatio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rained observ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viders recording events (triage tags, etc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mart” pati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CS, system integratio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irect observation difficul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lf-assessment &amp; “cross-evaluation”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rill flow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vement of patients, staff, supplies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trance/exit observ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Qualitative evaluatio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valuators narrative comm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ideotape review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briefing comm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rveys, structured interviews of drill participa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Evaluation of IC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Lack of “gold standard”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Limitations of direct observation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fficult to capture communications among many key personne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arly impossible to monitor content of communic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valuation may disrupt flow of ev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Focus on result vs. occurrence of communicatio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st-drill survey or interview of key personn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ear understanding of roles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nowledge of command structure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mmunication frequency and adequacy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arrative comments, critiqu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raining of Clinicians for 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Public Health Events Relevant to 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Bioterrorism Preparedness”</a:t>
            </a:r>
            <a:br>
              <a:rPr sz="3100"/>
            </a:br>
            <a:br>
              <a:rPr sz="8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(AHRQ Evidence Report/Technology Assessment #51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First evidence based report on this topic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ork sponsored by AHRQ, done by JHU EPC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tructured review &amp; evaluation of literatur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Released January 2002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vailable on Web at: www.ahrq.gov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Current Evidence About Hospital Disaster Preparedness Training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534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Very few high quality/scientifically based publication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Basic “building blocks” of response system established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Variety of training, assessment techniques reported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rills shown to be effective training tool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rills are dual purpose, also provide opportunity for system evaluatio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erminology not yet standardized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Best” practices not yet defined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Rapid development and dissemination of training and evaluation techniques (growing “toolbox”)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Basic Steps Toward Hospital Disaster Preparednes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ssemble key stakeholders into interdisciplinary team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Review current resources, strengths, weakness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evelop detailed, written response pla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isseminate and practice pla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valuate adequacy of knowledge, skills and resourc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Review and re-engineer plan based on data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odify training as needed to target weakness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ontinuously repeat cycl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4440" y="266760"/>
            <a:ext cx="9010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Continuous Quality Improvement (CQI) Proces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Applied to Disaster Preparedness Capacity Building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08040" y="1447920"/>
            <a:ext cx="7979040" cy="4556880"/>
            <a:chOff x="608040" y="1447920"/>
            <a:chExt cx="7979040" cy="4556880"/>
          </a:xfrm>
        </p:grpSpPr>
        <p:sp>
          <p:nvSpPr>
            <p:cNvPr id="99" name=""/>
            <p:cNvSpPr/>
            <p:nvPr/>
          </p:nvSpPr>
          <p:spPr>
            <a:xfrm>
              <a:off x="1139760" y="2637000"/>
              <a:ext cx="1780920" cy="642600"/>
            </a:xfrm>
            <a:prstGeom prst="rect">
              <a:avLst/>
            </a:prstGeom>
            <a:solidFill>
              <a:srgbClr val="72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eview/modif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isaster pl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789280" y="1476360"/>
              <a:ext cx="3124080" cy="642600"/>
            </a:xfrm>
            <a:prstGeom prst="rect">
              <a:avLst/>
            </a:prstGeom>
            <a:solidFill>
              <a:srgbClr val="72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idactic education training (modular courses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78000" y="2646360"/>
              <a:ext cx="1845000" cy="642600"/>
            </a:xfrm>
            <a:prstGeom prst="rect">
              <a:avLst/>
            </a:prstGeom>
            <a:solidFill>
              <a:srgbClr val="72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kills/practical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raining (drills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607360" y="5087880"/>
              <a:ext cx="2174040" cy="916920"/>
            </a:xfrm>
            <a:prstGeom prst="rect">
              <a:avLst/>
            </a:prstGeom>
            <a:solidFill>
              <a:srgbClr val="72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eport &amp; analysis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of strengths &amp;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weakness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38520" y="5081760"/>
              <a:ext cx="2520000" cy="916920"/>
            </a:xfrm>
            <a:prstGeom prst="rect">
              <a:avLst/>
            </a:prstGeom>
            <a:solidFill>
              <a:srgbClr val="72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odification &amp;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e-engineering of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raining intervention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014560" y="1724040"/>
              <a:ext cx="609480" cy="60948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861920" y="3591000"/>
              <a:ext cx="381240" cy="1295280"/>
            </a:xfrm>
            <a:prstGeom prst="upArrow">
              <a:avLst>
                <a:gd name="adj1" fmla="val 50000"/>
                <a:gd name="adj2" fmla="val 84939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5400000">
              <a:off x="6167160" y="1749240"/>
              <a:ext cx="609480" cy="60984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10801800">
              <a:off x="6433200" y="3578040"/>
              <a:ext cx="381240" cy="1295280"/>
            </a:xfrm>
            <a:prstGeom prst="upArrow">
              <a:avLst>
                <a:gd name="adj1" fmla="val 50000"/>
                <a:gd name="adj2" fmla="val 84939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16200000">
              <a:off x="4300200" y="4885920"/>
              <a:ext cx="381240" cy="1295280"/>
            </a:xfrm>
            <a:prstGeom prst="upArrow">
              <a:avLst>
                <a:gd name="adj1" fmla="val 50000"/>
                <a:gd name="adj2" fmla="val 84939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08040" y="1447920"/>
              <a:ext cx="163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re-cours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Knowledge exa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27960" y="1447920"/>
              <a:ext cx="163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ost-cours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Knowledge exa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25760" y="3794040"/>
              <a:ext cx="15613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rill evaluation: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Institutional &amp;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dividual skills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ssessment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09120" y="3946680"/>
              <a:ext cx="13298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Re) Define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takeholders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&amp; goa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3886200" y="304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Preparation for Conventional vs. Bioterrorism Event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reparedness for biologic, chemical or radiation events is built on conventional preparednes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dditional needed preparations include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contamination of victi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tection of health care work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ainment of infectious ag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gent/vector specific treatm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paredness for “chronic” disas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77724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Disaster Response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1109520" y="2743200"/>
            <a:ext cx="2057400" cy="1905120"/>
          </a:xfrm>
          <a:prstGeom prst="ellipse">
            <a:avLst/>
          </a:prstGeom>
          <a:solidFill>
            <a:srgbClr val="ccff3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HOSPIT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EN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443560" y="2819520"/>
            <a:ext cx="2481120" cy="166680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PIT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I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PON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824440" y="3948120"/>
            <a:ext cx="1752840" cy="533520"/>
          </a:xfrm>
          <a:prstGeom prst="ellipse">
            <a:avLst/>
          </a:prstGeom>
          <a:solidFill>
            <a:srgbClr val="08a417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-HOSPIT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V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995720" y="2489040"/>
            <a:ext cx="3395880" cy="2375640"/>
            <a:chOff x="4995720" y="2489040"/>
            <a:chExt cx="3395880" cy="2375640"/>
          </a:xfrm>
        </p:grpSpPr>
        <p:sp>
          <p:nvSpPr>
            <p:cNvPr id="121" name=""/>
            <p:cNvSpPr/>
            <p:nvPr/>
          </p:nvSpPr>
          <p:spPr>
            <a:xfrm>
              <a:off x="4995720" y="2489040"/>
              <a:ext cx="3395880" cy="2362320"/>
            </a:xfrm>
            <a:prstGeom prst="ellipse">
              <a:avLst/>
            </a:prstGeom>
            <a:noFill/>
            <a:ln w="28440">
              <a:solidFill>
                <a:srgbClr val="00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88680" y="4557600"/>
              <a:ext cx="1316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RAD &amp; CHE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567320" y="2109960"/>
            <a:ext cx="4267080" cy="3123000"/>
            <a:chOff x="4567320" y="2109960"/>
            <a:chExt cx="4267080" cy="3123000"/>
          </a:xfrm>
        </p:grpSpPr>
        <p:sp>
          <p:nvSpPr>
            <p:cNvPr id="124" name=""/>
            <p:cNvSpPr/>
            <p:nvPr/>
          </p:nvSpPr>
          <p:spPr>
            <a:xfrm>
              <a:off x="4567320" y="2109960"/>
              <a:ext cx="4267080" cy="309528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449040" y="4925880"/>
              <a:ext cx="49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BI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2971440" y="1066680"/>
            <a:ext cx="2321280" cy="2273400"/>
            <a:chOff x="2971440" y="1066680"/>
            <a:chExt cx="2321280" cy="2273400"/>
          </a:xfrm>
        </p:grpSpPr>
        <p:sp>
          <p:nvSpPr>
            <p:cNvPr id="127" name=""/>
            <p:cNvSpPr/>
            <p:nvPr/>
          </p:nvSpPr>
          <p:spPr>
            <a:xfrm>
              <a:off x="3295440" y="1066680"/>
              <a:ext cx="1997280" cy="642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MS &amp;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UBLIC SAF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2971440" y="1828800"/>
              <a:ext cx="1283040" cy="1511280"/>
              <a:chOff x="2971440" y="1828800"/>
              <a:chExt cx="1283040" cy="1511280"/>
            </a:xfrm>
          </p:grpSpPr>
          <p:sp>
            <p:nvSpPr>
              <p:cNvPr id="129" name=""/>
              <p:cNvSpPr/>
              <p:nvPr/>
            </p:nvSpPr>
            <p:spPr>
              <a:xfrm flipH="1">
                <a:off x="2971440" y="1828800"/>
                <a:ext cx="762120" cy="8380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254480" y="1892160"/>
                <a:ext cx="0" cy="144792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1" name=""/>
          <p:cNvGrpSpPr/>
          <p:nvPr/>
        </p:nvGrpSpPr>
        <p:grpSpPr>
          <a:xfrm>
            <a:off x="762120" y="2386080"/>
            <a:ext cx="2762280" cy="2619360"/>
            <a:chOff x="762120" y="2386080"/>
            <a:chExt cx="2762280" cy="2619360"/>
          </a:xfrm>
        </p:grpSpPr>
        <p:sp>
          <p:nvSpPr>
            <p:cNvPr id="132" name=""/>
            <p:cNvSpPr/>
            <p:nvPr/>
          </p:nvSpPr>
          <p:spPr>
            <a:xfrm>
              <a:off x="762120" y="2386080"/>
              <a:ext cx="2762280" cy="2619360"/>
            </a:xfrm>
            <a:prstGeom prst="ellipse">
              <a:avLst/>
            </a:prstGeom>
            <a:noFill/>
            <a:ln w="28440">
              <a:solidFill>
                <a:srgbClr val="be796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10200" y="4659480"/>
              <a:ext cx="1316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RAD &amp; CHE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447840" y="2048040"/>
            <a:ext cx="3400200" cy="3375720"/>
            <a:chOff x="447840" y="2048040"/>
            <a:chExt cx="3400200" cy="3375720"/>
          </a:xfrm>
        </p:grpSpPr>
        <p:sp>
          <p:nvSpPr>
            <p:cNvPr id="135" name=""/>
            <p:cNvSpPr/>
            <p:nvPr/>
          </p:nvSpPr>
          <p:spPr>
            <a:xfrm>
              <a:off x="447840" y="2048040"/>
              <a:ext cx="3400200" cy="33382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68040" y="5116680"/>
              <a:ext cx="49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BI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3457080" y="5410080"/>
            <a:ext cx="171828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CID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(IC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352320" y="4647960"/>
            <a:ext cx="1829160" cy="685800"/>
            <a:chOff x="3352320" y="4647960"/>
            <a:chExt cx="1829160" cy="685800"/>
          </a:xfrm>
        </p:grpSpPr>
        <p:sp>
          <p:nvSpPr>
            <p:cNvPr id="139" name=""/>
            <p:cNvSpPr/>
            <p:nvPr/>
          </p:nvSpPr>
          <p:spPr>
            <a:xfrm flipV="1">
              <a:off x="4267080" y="4647960"/>
              <a:ext cx="0" cy="6858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3352320" y="5028840"/>
              <a:ext cx="381240" cy="3049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4876920" y="4940280"/>
              <a:ext cx="304560" cy="3808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4927680" y="1905120"/>
            <a:ext cx="761760" cy="914400"/>
          </a:xfrm>
          <a:prstGeom prst="line">
            <a:avLst/>
          </a:prstGeom>
          <a:ln w="57240">
            <a:solidFill>
              <a:srgbClr val="08a417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66920" y="3200400"/>
            <a:ext cx="2286000" cy="990720"/>
          </a:xfrm>
          <a:prstGeom prst="leftRightArrow">
            <a:avLst>
              <a:gd name="adj1" fmla="val 50000"/>
              <a:gd name="adj2" fmla="val 45934"/>
            </a:avLst>
          </a:prstGeom>
          <a:solidFill>
            <a:srgbClr val="72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TEGR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Basic Components of Disaster 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Response System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ncident Command System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ystem integration (communications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Logistics (materials, facilities, transportation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linical operation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uman resourc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ecurit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ublic relation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Others as defined by local pla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0760" y="383760"/>
            <a:ext cx="76309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raining Technique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Results of AHRQ-sponsored EPC rep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raditional” educational techniqu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ctures, discussions, AV aids, written mater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tandardized (smart) patient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cepted by physicia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ffective for one-on-one trai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fulness for training of large numb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st prohibitiv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eleconferencing or satellite broadcasting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multaneously reaches large numb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ems as effective as traditional techniqu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2T21:29:35Z</dcterms:created>
  <dc:creator>HKIM44</dc:creator>
  <dc:description/>
  <dc:language>en-US</dc:language>
  <cp:lastModifiedBy>Network Administrator</cp:lastModifiedBy>
  <cp:lastPrinted>2003-04-09T16:08:38Z</cp:lastPrinted>
  <dcterms:modified xsi:type="dcterms:W3CDTF">2003-04-18T15:49:38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43474834</vt:r8>
  </property>
  <property fmtid="{D5CDD505-2E9C-101B-9397-08002B2CF9AE}" pid="3" name="_AuthorEmail">
    <vt:lpwstr>JRuhl@ahrq.gov</vt:lpwstr>
  </property>
  <property fmtid="{D5CDD505-2E9C-101B-9397-08002B2CF9AE}" pid="4" name="_AuthorEmailDisplayName">
    <vt:lpwstr>Ruhl, Jessica</vt:lpwstr>
  </property>
  <property fmtid="{D5CDD505-2E9C-101B-9397-08002B2CF9AE}" pid="5" name="_EmailSubject">
    <vt:lpwstr>Disasterteleconference changes</vt:lpwstr>
  </property>
  <property fmtid="{D5CDD505-2E9C-101B-9397-08002B2CF9AE}" pid="6" name="_PreviousAdHocReviewCycleID">
    <vt:r8>-1801406176</vt:r8>
  </property>
</Properties>
</file>