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576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632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84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576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632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06080" y="285480"/>
            <a:ext cx="77216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4576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632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484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4576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632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06080" y="285480"/>
            <a:ext cx="77216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7880" y="1905120"/>
            <a:ext cx="7788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Do Workforce Issues Have To Do With Patient Safety? </a:t>
            </a:r>
            <a:br>
              <a:rPr sz="4000"/>
            </a:b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n You Help Control Some Health Care Costs by Improving Patient Safety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-360" y="342900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 Salsberg, M.P.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ecutive Direct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nter For Health Workforce 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ool of Public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iveristy of Albany,-SUN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nsselaer, 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67652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095880" y="3200400"/>
            <a:ext cx="2689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risis as Opportunity</a:t>
            </a:r>
            <a:br>
              <a:rPr sz="4000"/>
            </a:b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5920" indent="-3859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ter quality of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equate supply of health wor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d worker satisf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effective delivery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cost effective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systems that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culturally diverse work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d enrollment in health professions sch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Health Workforce: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  Basic Premis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5760" indent="-4557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workers are cornerstone of the health care delivery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care system is only as good as its workfo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force directly affects quality, cost and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wide high turnover, difficulty recruiting, worker dissatisfaction are signs of a systemic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5238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06440" y="285840"/>
            <a:ext cx="83566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ow Health Workforce Issues Affect Patient Safe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828800"/>
            <a:ext cx="819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408960" indent="-4089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workforce shor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education and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ing professional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ervision and feed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b Satisfac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nover and ret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b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dequate information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d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160020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20404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dressing Workforce Issues That Impact Patient Ca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ure an adequate supply of wo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a work environment responsive to the workforce: Listen to wo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feedback to workers on their performan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ure appropriate education and continuing 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 jobs to meet worker ne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st in information syste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 for training of managers and supervis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7524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orkforce Shortages Affect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ny Profess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167652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rses, nurse aides, home health aides, lab workers, rad techs, pharmacists, dentists, and m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pitals; nursing homes, home health agen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ban, rural and suburban 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066680"/>
            <a:ext cx="8381880" cy="64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ow Health Workforce Shortages Affect Patient Safe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67652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ess and burn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hed care and less attention to individual patient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of temporary staff with less knowledge of facility, other staff and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nover and loss of expertise and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titution of less qualified wor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actors Contributing to Health Workforce Shortag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367200" indent="-36720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rt term f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1120" indent="-313200"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etition for work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71120" indent="-313200"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ucational system response la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7200" indent="-36720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 Term f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1120" indent="-313200"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 in demand due to aging of nation, growing wealth and new interven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71120" indent="-313200"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ing of work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71120" indent="-313200"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ing racial/ethnic m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71120" indent="-313200"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eer choices for wo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7200" indent="-36720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place f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1120" indent="-313200"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ly and emotionally demanding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71120" indent="-313200"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n-competitive wages and benef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71120" indent="-313200"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b design, working conditions and paper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71120" indent="-313200"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orly trained manag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ates Responses to Health Worker Shortag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2952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28600" y="1752480"/>
          <a:ext cx="8669160" cy="383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8669160" cy="38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In Our Hands-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How Hospital Leaders Can Build a Thriving Workforc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”  April 200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mmendations from AHA Commission on the Workforce for Hospitals and Health Syste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ster Meaningfu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the Workplace Part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aden the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aborate with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 Societal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22:43:27Z</dcterms:created>
  <dc:creator>AHRQ</dc:creator>
  <dc:description/>
  <dc:language>en-US</dc:language>
  <cp:lastModifiedBy>AHRQ</cp:lastModifiedBy>
  <dcterms:modified xsi:type="dcterms:W3CDTF">2003-02-07T22:45:28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14906366</vt:r8>
  </property>
  <property fmtid="{D5CDD505-2E9C-101B-9397-08002B2CF9AE}" pid="3" name="_AuthorEmail">
    <vt:lpwstr>SSeitz@AHRQ.GOV</vt:lpwstr>
  </property>
  <property fmtid="{D5CDD505-2E9C-101B-9397-08002B2CF9AE}" pid="4" name="_AuthorEmailDisplayName">
    <vt:lpwstr>Seitz, Steve</vt:lpwstr>
  </property>
  <property fmtid="{D5CDD505-2E9C-101B-9397-08002B2CF9AE}" pid="5" name="_EmailSubject">
    <vt:lpwstr>Event 3</vt:lpwstr>
  </property>
</Properties>
</file>