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o Workforce Issues Have To Do With Patient Safety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360" y="35809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ck Needleman, Ph.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stant Professor of Economics and Health Poli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artment of Health Policy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vard School of Public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31590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28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 is the association observed with RNs, not LPNs or Aide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ure.  Possible explan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largest nursing category, most var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ng these outcomes draws on RN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ccurately mea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draw conclusion that can cut back LPNs or Aides with imp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28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implications for policy mak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matters to patient safety in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s to assure adequate nursing are legiti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equacy needs to be clearly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to monitor nursing sensitive indicators as measures of patient safety in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28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and usefulness of state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state discharge data sets and state staffing survey data.  Invaluable 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ments nee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4800" indent="-3214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on admission coding of secondary diagn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4800" indent="-3214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“must report” secondary diagn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24800" indent="-3214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/outpatient sp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4800" indent="-3214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gher RN staffing was associated with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edical pati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r length of st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rates of urinary tract infections, shock and cardiac arrest, upper gastrointestinal bleeding, pneumonia, and “failure to rescu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urgical pati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rates of “failure to rescue” and urinary tract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eedleman, Buerhaus et al, “Nurse Staffing and Quality of Care in Hospitals,”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May 30,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03560"/>
            <a:ext cx="792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riation in Hospital Staff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38080" y="1752480"/>
            <a:ext cx="7543440" cy="4419360"/>
            <a:chOff x="838080" y="1752480"/>
            <a:chExt cx="7543440" cy="4419360"/>
          </a:xfrm>
        </p:grpSpPr>
        <p:sp>
          <p:nvSpPr>
            <p:cNvPr id="86" name=""/>
            <p:cNvSpPr/>
            <p:nvPr/>
          </p:nvSpPr>
          <p:spPr>
            <a:xfrm>
              <a:off x="5805000" y="5588640"/>
              <a:ext cx="257652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94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38440" y="5588640"/>
              <a:ext cx="226620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9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5588640"/>
              <a:ext cx="270036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75th Percent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5000" y="5006520"/>
              <a:ext cx="257652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81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8440" y="5006520"/>
              <a:ext cx="226620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.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5006520"/>
              <a:ext cx="270036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5th Percent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05000" y="4415760"/>
              <a:ext cx="25765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38440" y="4415760"/>
              <a:ext cx="22662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5.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415760"/>
              <a:ext cx="2700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axim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5000" y="3830760"/>
              <a:ext cx="257652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9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38440" y="3830760"/>
              <a:ext cx="226620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3830760"/>
              <a:ext cx="270036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im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5000" y="3249000"/>
              <a:ext cx="257652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86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38440" y="3249000"/>
              <a:ext cx="226620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7.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249000"/>
              <a:ext cx="2700360" cy="5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a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05000" y="1752480"/>
              <a:ext cx="257652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N hours as % Licensed h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38440" y="1752480"/>
              <a:ext cx="226620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N hours/da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1752480"/>
              <a:ext cx="2700360" cy="14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as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1752480"/>
              <a:ext cx="7543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6171840"/>
              <a:ext cx="754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1752480"/>
              <a:ext cx="0" cy="1496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1520" y="1752480"/>
              <a:ext cx="0" cy="1496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3249000"/>
              <a:ext cx="0" cy="1166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1520" y="3249000"/>
              <a:ext cx="0" cy="1166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8080" y="4415760"/>
              <a:ext cx="0" cy="590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1520" y="4415760"/>
              <a:ext cx="0" cy="590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5006520"/>
              <a:ext cx="0" cy="58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1520" y="5006520"/>
              <a:ext cx="0" cy="58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5588640"/>
              <a:ext cx="0" cy="583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81520" y="5588640"/>
              <a:ext cx="0" cy="583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3249000"/>
              <a:ext cx="754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timate of increasing RN staffing from 25th to 75th percent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1905120"/>
            <a:ext cx="7543440" cy="4571640"/>
            <a:chOff x="762120" y="1905120"/>
            <a:chExt cx="7543440" cy="4571640"/>
          </a:xfrm>
        </p:grpSpPr>
        <p:sp>
          <p:nvSpPr>
            <p:cNvPr id="120" name=""/>
            <p:cNvSpPr/>
            <p:nvPr/>
          </p:nvSpPr>
          <p:spPr>
            <a:xfrm>
              <a:off x="6013800" y="5969160"/>
              <a:ext cx="22914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.9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5000" y="5969160"/>
              <a:ext cx="3628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ilure to Resc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5969160"/>
              <a:ext cx="1622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3800" y="5460840"/>
              <a:ext cx="2291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.9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85000" y="5460840"/>
              <a:ext cx="3628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inary Tract Infe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5460840"/>
              <a:ext cx="1622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rg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3800" y="4953240"/>
              <a:ext cx="22914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.5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85000" y="4953240"/>
              <a:ext cx="3628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ilure to Resc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4953240"/>
              <a:ext cx="1622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3800" y="4444920"/>
              <a:ext cx="2291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9.4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5000" y="4444920"/>
              <a:ext cx="3628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hock/Cardiac Arre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120" y="4444920"/>
              <a:ext cx="1622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3800" y="3936960"/>
              <a:ext cx="2291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.4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85000" y="3936960"/>
              <a:ext cx="3628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neumon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3936960"/>
              <a:ext cx="1622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3800" y="3429000"/>
              <a:ext cx="22914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.1%-5.2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85000" y="3429000"/>
              <a:ext cx="3628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GI Ble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3429000"/>
              <a:ext cx="1622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3800" y="2921040"/>
              <a:ext cx="2291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.6%-9.0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5000" y="2921040"/>
              <a:ext cx="3628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inary Tract Infe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2921040"/>
              <a:ext cx="1622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13800" y="2413080"/>
              <a:ext cx="22914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.5%-5.2%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85000" y="2413080"/>
              <a:ext cx="36288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ngth of Sta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2413080"/>
              <a:ext cx="1622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13800" y="1905120"/>
              <a:ext cx="22914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5000" y="1905120"/>
              <a:ext cx="3628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20" y="1905120"/>
              <a:ext cx="1622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120" y="1905120"/>
              <a:ext cx="7543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20" y="6476760"/>
              <a:ext cx="754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120" y="190512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05560" y="190512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241308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05560" y="241308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292104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05560" y="292104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342900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05560" y="342900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20" y="393696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05560" y="393696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120" y="444492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05560" y="444492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495324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05560" y="495324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2120" y="546084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5560" y="5460840"/>
              <a:ext cx="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96916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05560" y="5969160"/>
              <a:ext cx="0" cy="507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2413080"/>
              <a:ext cx="7543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460840"/>
              <a:ext cx="7543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y these outcomes are importa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length of stay adds to cost, discomfort, may reflect othe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s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rescue deaths among patients with serious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neumonia, upper GI bleed, shock/cardiac arrest have risk of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se impacts are lower bound estimates of effect of nur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2164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ther research need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752480"/>
            <a:ext cx="81536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fying impact of other factors influencing nursing’s impact on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staffing varies so m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ments in measures of nursing need of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improve hospital nursing work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28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ther factors potentially influencing nursing’s impact on patient outco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organization at unit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al culture &amp; clim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organization of nursing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28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much would increasing nursing co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imate to move from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7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centi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RN/LP mix onl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15/day  (  2% incr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RN/LP mix and increas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/day  (10% incr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s need further refi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2808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cost offsets of increasing nurs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sts of shorter length of st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sts of treating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t time at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ed death or discom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measure willingness to pay or valu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46:02Z</dcterms:created>
  <dc:creator>AHRQ</dc:creator>
  <dc:description/>
  <dc:language>en-US</dc:language>
  <cp:lastModifiedBy>AHRQ</cp:lastModifiedBy>
  <dcterms:modified xsi:type="dcterms:W3CDTF">2003-02-07T22:47:11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1418138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Event 3</vt:lpwstr>
  </property>
</Properties>
</file>