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572B-6D35-4C1A-B396-7889866B8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840" y="382608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7407-5702-409E-9EB8-558721ED9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EBDA-E7EE-42C7-BAC8-EC1F52BBF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576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632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484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576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632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1089-4657-468F-B206-A55E86BAD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06080" y="285480"/>
            <a:ext cx="772164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03E2-FDB6-49E9-A1D1-1D38BE3BC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352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840" y="382608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352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4576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632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484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4576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632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8B35-F44A-49C8-94F7-413C2D93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06080" y="285480"/>
            <a:ext cx="772164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352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4840" y="382608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352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4576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1632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7484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4576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1632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A7B7-2348-497F-9A7C-214EB9092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E925-0004-4256-A8D0-9CFA366B1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6080" y="285480"/>
            <a:ext cx="772164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1CE6-5FD6-4987-BD05-41BFA3B0F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05A2-BE9D-4E8D-AB37-70F08940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8767-6A37-48AD-88F8-E5239E7E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FB92-6C41-4F1D-B473-595D6662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CC0B8-D1F3-4D03-AC72-8DCEC387D6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82720" indent="-228600">
              <a:spcBef>
                <a:spcPts val="7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258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258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258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7880" y="1905120"/>
            <a:ext cx="77882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76040" algn="ctr"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82520" algn="ctr">
              <a:spcBef>
                <a:spcPts val="4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84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ow Can States and Institutions Work Together to Create a Culture of Safety</a:t>
            </a:r>
            <a:br>
              <a:rPr sz="32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crete Actions to Improve Patient Safety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-53352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cott Williams, M.D., M.P.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puty Director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tah Department of Health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lt Lake City, 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14882" t="0" r="12756" b="8547"/>
          <a:stretch/>
        </p:blipFill>
        <p:spPr>
          <a:xfrm>
            <a:off x="5943600" y="2743200"/>
            <a:ext cx="2895480" cy="3581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80880" y="5160960"/>
            <a:ext cx="1447920" cy="11541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828800" y="190512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tate Persp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1752480"/>
            <a:ext cx="8381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8600" y="1600200"/>
            <a:ext cx="8381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he State’s Role in Contex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76320" indent="-396720">
              <a:spcBef>
                <a:spcPts val="799"/>
              </a:spcBef>
              <a:spcAft>
                <a:spcPts val="11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al Political and Partnership Cli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440000" indent="-349560">
              <a:spcBef>
                <a:spcPts val="700"/>
              </a:spcBef>
              <a:spcAft>
                <a:spcPts val="11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 Profile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40000" indent="-349560">
              <a:spcBef>
                <a:spcPts val="700"/>
              </a:spcBef>
              <a:spcAft>
                <a:spcPts val="11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l Academic Exp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40000" indent="-349560">
              <a:spcBef>
                <a:spcPts val="700"/>
              </a:spcBef>
              <a:spcAft>
                <a:spcPts val="11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ested Politic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40000" indent="-349560">
              <a:spcBef>
                <a:spcPts val="700"/>
              </a:spcBef>
              <a:spcAft>
                <a:spcPts val="11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ulatory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40000" indent="-349560">
              <a:spcBef>
                <a:spcPts val="700"/>
              </a:spcBef>
              <a:spcAft>
                <a:spcPts val="11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ganizational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6320" indent="-396720">
              <a:spcBef>
                <a:spcPts val="700"/>
              </a:spcBef>
              <a:spcAft>
                <a:spcPts val="11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he Potential Roles of St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5120" indent="-465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vener/ Common 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blic Watchdog/ Impartial Endor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ustry Leve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verter of Unhelpful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atener of Traditional Reg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ul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1295280"/>
            <a:ext cx="8381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581280" y="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1219320"/>
            <a:ext cx="8381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0492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iabilities of State’s R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1447920"/>
            <a:ext cx="7696440" cy="16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447920"/>
            <a:ext cx="8194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65120" indent="-46512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tentially unsafe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6320" indent="-39672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nitive regulatory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6320" indent="-39672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blic disclo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acceptable administrative burd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6320" indent="-39672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t of compl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6320" indent="-39672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por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fulfilled pro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6320" indent="-39672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pid decrease in err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6320" indent="-39672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lpractice insurance prem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440" y="285480"/>
            <a:ext cx="850896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Utah’s Approach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413640" indent="-413640"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ient Safety Re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8680" indent="-352800">
              <a:spcBef>
                <a:spcPts val="4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lunix.hl.state.ut.us/hda/Reports/adverse_events.pd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3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3640" indent="-413640"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tinel Event Reporting Ru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8680" indent="-352800">
              <a:spcBef>
                <a:spcPts val="4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ww.rules.utah.gov/publicat/code/r380/r380-200.ht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3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3640" indent="-413640"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cility Patient Safety Program Ru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8680" indent="-352800">
              <a:spcBef>
                <a:spcPts val="4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ww.rules.utah.gov/publicat/code/r380/r380-210.ht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3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3640" indent="-413640"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HRQ Grant to Evaluate ICD Injury Co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8680" indent="-352800">
              <a:spcBef>
                <a:spcPts val="4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S1188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1523880"/>
            <a:ext cx="8381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Utah’s Collaboration Fac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19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lvl="1" marL="937080" indent="-380520"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sure relieving bedding to prevent pressure ulc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37080" indent="-380520"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-time ultrasound guidance during central line inser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37080" indent="-380520"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ropriate provision of nutrition (emphasis on early enteral nutrition for critically ill or surgical patien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37080" indent="-380520"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ient self-management for warfarin (Coumadin) to achieve appropriate outpatient anticoagulation and prevent com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37080" indent="-380520"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ients to recall and restate informed consent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464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1523880"/>
            <a:ext cx="8381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838080" y="22860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ublic Information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1219320"/>
            <a:ext cx="8305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t out in front of issue &amp; stay on mess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edical errors occur in hospitals, nursing homes, outpatient clinics, and at hom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ore reported events is goo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erious errors sometimes happen but we have mechanisms in place to review them, determine the cause, and prevent them from recurring”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tients and families are important partner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1066680"/>
            <a:ext cx="8381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80880" y="38088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HRQ’s Patient Safety Cor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0000"/>
          </a:bodyPr>
          <a:p>
            <a:pPr marL="418320" indent="-418320">
              <a:spcBef>
                <a:spcPts val="22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tah’s “wish list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78400" indent="-356760">
              <a:spcBef>
                <a:spcPts val="17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xicon &amp;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8400" indent="-356760">
              <a:spcBef>
                <a:spcPts val="17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orks (administrat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8400" indent="-356760">
              <a:spcBef>
                <a:spcPts val="17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orks (clinic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8400" indent="-356760">
              <a:spcBef>
                <a:spcPts val="17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ot cause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8400" indent="-356760">
              <a:spcBef>
                <a:spcPts val="17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ing financial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8400" indent="-356760">
              <a:spcBef>
                <a:spcPts val="17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olving patients and 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1295280"/>
            <a:ext cx="8381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143000" y="380880"/>
            <a:ext cx="7162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1209600"/>
            <a:ext cx="8229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9000"/>
          </a:bodyPr>
          <a:p>
            <a:pPr marL="413640" indent="-413640">
              <a:spcBef>
                <a:spcPts val="17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hesitate to jump when the window is o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3640" indent="-413640">
              <a:spcBef>
                <a:spcPts val="17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y, fire, a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3640" indent="-413640">
              <a:spcBef>
                <a:spcPts val="17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ditional regulation does not prevent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3640" indent="-413640">
              <a:spcBef>
                <a:spcPts val="17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’s should pressure the industry to change and then be flexible and let them have the cre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3640" indent="-413640">
              <a:spcBef>
                <a:spcPts val="17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 the effectiveness of existing capacity before proposing new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3640" indent="-413640">
              <a:spcBef>
                <a:spcPts val="17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’re never fin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1295280"/>
            <a:ext cx="8382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7T22:35:59Z</dcterms:created>
  <dc:creator>AHRQ</dc:creator>
  <dc:description/>
  <dc:language>en-US</dc:language>
  <cp:lastModifiedBy>AHRQ</cp:lastModifiedBy>
  <dcterms:modified xsi:type="dcterms:W3CDTF">2003-02-07T22:40:05Z</dcterms:modified>
  <cp:revision>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5695674</vt:r8>
  </property>
  <property fmtid="{D5CDD505-2E9C-101B-9397-08002B2CF9AE}" pid="3" name="_AuthorEmail">
    <vt:lpwstr>SSeitz@AHRQ.GOV</vt:lpwstr>
  </property>
  <property fmtid="{D5CDD505-2E9C-101B-9397-08002B2CF9AE}" pid="4" name="_AuthorEmailDisplayName">
    <vt:lpwstr>Seitz, Steve</vt:lpwstr>
  </property>
  <property fmtid="{D5CDD505-2E9C-101B-9397-08002B2CF9AE}" pid="5" name="_EmailSubject">
    <vt:lpwstr>Event 2 slides</vt:lpwstr>
  </property>
</Properties>
</file>