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4BC8-30A9-42CE-8CD8-3D883D17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DE73-BABB-49AC-A58A-2113CD09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DEAE-8429-4465-AEFE-16E1D0E40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C876-A766-4645-BA84-14A62DC55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B602-6107-49B9-A64A-07FD1231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50C6-84F0-492F-A2E6-F3EF760C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BD5F-46B3-4493-A09F-0F4D106F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35DF-8E29-46BB-BE02-D696BB2D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7E18-7357-4EB6-94E8-13594DD2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FBD1-B614-40E4-A9A7-D0A59F96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9236-B2D7-41C6-A5D2-C4374FE5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5FA7-8452-4F1A-9C15-55E72E13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7BB4-F2A5-4F42-9264-9F5C55D26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7880" y="1905120"/>
            <a:ext cx="7788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w Can States and Institutions Work Together to Create a Culture of Safety</a:t>
            </a:r>
            <a:br>
              <a:rPr sz="32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crete Actions to Improve Patient Safety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-5335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ott Williams, M.D., M.P.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puty Director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tah Department of Healt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lt Lake City, 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14882" t="0" r="12756" b="8547"/>
          <a:stretch/>
        </p:blipFill>
        <p:spPr>
          <a:xfrm>
            <a:off x="5943600" y="2743200"/>
            <a:ext cx="2895480" cy="3581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80880" y="5160960"/>
            <a:ext cx="1447920" cy="11541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828800" y="19051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ate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17524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8600" y="160020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State’s Role in Con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76320" indent="-396720">
              <a:spcBef>
                <a:spcPts val="799"/>
              </a:spcBef>
              <a:spcAft>
                <a:spcPts val="11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l Political and Partnership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40000" indent="-349560">
              <a:spcBef>
                <a:spcPts val="700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Profile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0000" indent="-349560">
              <a:spcBef>
                <a:spcPts val="700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Academic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0000" indent="-349560">
              <a:spcBef>
                <a:spcPts val="700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ested Polit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0000" indent="-349560">
              <a:spcBef>
                <a:spcPts val="700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tory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0000" indent="-349560">
              <a:spcBef>
                <a:spcPts val="700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zational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Potential Roles of St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5120" indent="-465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ner/ Common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Watchdog/ Impartial Endor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ustry Leve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erter of Unhelpful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atener of Traditional 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12952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581280" y="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21932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0492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iabilities of State’s R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1447920"/>
            <a:ext cx="7696440" cy="16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447920"/>
            <a:ext cx="819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65120" indent="-4651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entially unsaf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3967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nitive regulatory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3967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lic discl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cceptable administrative burd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3967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t of comp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3967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fulfilled pro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3967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pid decrease in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6320" indent="-3967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lpractice insurance prem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85480"/>
            <a:ext cx="850896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Utah’s Approach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3640" indent="-41364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 Safety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lunix.hl.state.ut.us/hda/Reports/adverse_events.pd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tinel Event Reporting R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rules.utah.gov/publicat/code/r380/r380-200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y Patient Safety Program R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rules.utah.gov/publicat/code/r380/r380-210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RQ Grant to Evaluate ICD Injury Co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S1188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15238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Utah’s Collaboration Fac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937080" indent="-38052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sure relieving bedding to prevent pressure ulc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-time ultrasound guidance during central line inser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priate provision of nutrition (emphasis on early enteral nutrition for critically ill or surgical patien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 self-management for warfarin (Coumadin) to achieve appropriate outpatient anticoagulation and prevent com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s to recall and restate informed consent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5238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38080" y="2286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ublic Information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out in front of issue &amp; stay on 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edical errors occur in hospitals, nursing homes, outpatient clinics, and at hom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ore reported events is goo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rious errors sometimes happen but we have mechanisms in place to review them, determine the cause, and prevent them from recurring”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tients and families are important partn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10666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38088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HRQ’s Patient Safety Cor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 marL="418320" indent="-418320">
              <a:spcBef>
                <a:spcPts val="22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tah’s “wish lis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78400" indent="-356760">
              <a:spcBef>
                <a:spcPts val="17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xicon &amp;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8400" indent="-356760">
              <a:spcBef>
                <a:spcPts val="17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orks (administr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8400" indent="-356760">
              <a:spcBef>
                <a:spcPts val="17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orks (clinic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8400" indent="-356760">
              <a:spcBef>
                <a:spcPts val="17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ot caus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8400" indent="-356760">
              <a:spcBef>
                <a:spcPts val="17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ing financi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8400" indent="-356760">
              <a:spcBef>
                <a:spcPts val="17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olving patients and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12952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43000" y="38088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209600"/>
            <a:ext cx="822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413640" indent="-413640">
              <a:spcBef>
                <a:spcPts val="17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hesitate to jump when the window is 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3640" indent="-413640">
              <a:spcBef>
                <a:spcPts val="17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y, fire, a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3640" indent="-413640">
              <a:spcBef>
                <a:spcPts val="17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ditional regulation does not prevent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3640" indent="-413640">
              <a:spcBef>
                <a:spcPts val="17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’s should pressure the industry to change and then be flexible and let them have the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3640" indent="-413640">
              <a:spcBef>
                <a:spcPts val="17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the effectiveness of existing capacity before proposing new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3640" indent="-413640">
              <a:spcBef>
                <a:spcPts val="17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’re never 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22:35:59Z</dcterms:created>
  <dc:creator>AHRQ</dc:creator>
  <dc:description/>
  <dc:language>en-US</dc:language>
  <cp:lastModifiedBy>AHRQ</cp:lastModifiedBy>
  <dcterms:modified xsi:type="dcterms:W3CDTF">2003-02-07T22:40:05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5695674</vt:r8>
  </property>
  <property fmtid="{D5CDD505-2E9C-101B-9397-08002B2CF9AE}" pid="3" name="_AuthorEmail">
    <vt:lpwstr>SSeitz@AHRQ.GOV</vt:lpwstr>
  </property>
  <property fmtid="{D5CDD505-2E9C-101B-9397-08002B2CF9AE}" pid="4" name="_AuthorEmailDisplayName">
    <vt:lpwstr>Seitz, Steve</vt:lpwstr>
  </property>
  <property fmtid="{D5CDD505-2E9C-101B-9397-08002B2CF9AE}" pid="5" name="_EmailSubject">
    <vt:lpwstr>Event 2 slides</vt:lpwstr>
  </property>
</Properties>
</file>