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WHOO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Can States and Institutions Work Together to Create a Culture of Safety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rete Actions to Improve Patient Safety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-1067040" y="28951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lie Morath, M.S., R.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ef Operating Officer and Chief Executive Nurse, Children’s Hospital and Clinics, Minneapolis/St. Paul, 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4382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5105520"/>
          <a:ext cx="3810240" cy="152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105520"/>
                    <a:ext cx="3810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rcRect l="0" t="0" r="18010" b="17983"/>
          <a:stretch/>
        </p:blipFill>
        <p:spPr>
          <a:xfrm>
            <a:off x="6172200" y="2895480"/>
            <a:ext cx="2603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ecutive Se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 levels of su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52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ideas and behavior of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52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hallenging professionals outside the confines of the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52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hanging conventional wis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loses sleep over this problem of patient safety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8737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ngagement of State Officials and Hospital Leade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the dialo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he regulatory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common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to close g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spital Lea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onal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ders in medical/professional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itude/informed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Improvement Cor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ucture to present “ide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hods to evaluate effectiveness of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loyment/ dissemination strategies within and across the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9051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official potential pitf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46400" indent="-44640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vidual and isolated problem focused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ion of the public versus improvement of the system, e.g., “heads must rol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accountability and expectations versus space for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9051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official potential pitf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chdog” relationship versus partnership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from real world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2164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Leader’s Ro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5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 and L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5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5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tient Safety Manifes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5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Public Declaration of Intent for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228600"/>
            <a:ext cx="7721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tient Safety Manifes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laring an Urgent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pting Leadership Respo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ining Knowledge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suring Accoun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ing My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igning External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lerating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We Lear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ths and expectation of perfection are deeply roo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r of failure, blame, and sanction permeate health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ing and understanding complexity is critical to creating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ries and conversations creat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the cases alive:  revisit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601"/>
              </a:spcBef>
              <a:buClr>
                <a:srgbClr val="ffffff"/>
              </a:buClr>
              <a:buSzPct val="95000"/>
              <a:buFont typeface="Arial"/>
              <a:buChar char="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on’t know what it means n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601"/>
              </a:spcBef>
              <a:buClr>
                <a:srgbClr val="ffffff"/>
              </a:buClr>
              <a:buSzPct val="95000"/>
              <a:buFont typeface="Arial"/>
              <a:buChar char="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disturb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601"/>
              </a:spcBef>
              <a:buClr>
                <a:srgbClr val="ffffff"/>
              </a:buClr>
              <a:buSzPct val="95000"/>
              <a:buFont typeface="Arial"/>
              <a:buChar char="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not conclude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601"/>
              </a:spcBef>
              <a:buClr>
                <a:srgbClr val="ffffff"/>
              </a:buClr>
              <a:buSzPct val="95000"/>
              <a:buFont typeface="Arial"/>
              <a:buChar char="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iction-less dissemin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ounting” or reporting that loses the story is a w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rors are sources of  learning and resil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rors define margins of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llow and break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itize on themes/arche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fety requires 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ff"/>
              </a:buClr>
              <a:buSzPct val="95000"/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fety is as much about recovery as pre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19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We Lear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6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IPROCAL ACCOUNTABILITY”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946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i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 about telling people to be more carefu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6765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Rules to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480" y="167652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x what you ca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l what you fix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d someone who can fix what you can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943600" y="4648320"/>
          <a:ext cx="2819520" cy="18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648320"/>
                    <a:ext cx="281952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486400" y="12952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hing about me without 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it looks wrong, it is wro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losure and truth-t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081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verlearn” Key Safety Concep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5000"/>
              </a:lnSpc>
              <a:spcBef>
                <a:spcPts val="374"/>
              </a:spcBef>
              <a:spcAft>
                <a:spcPts val="938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wiss chee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5000"/>
              </a:lnSpc>
              <a:spcBef>
                <a:spcPts val="374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5000"/>
              </a:lnSpc>
              <a:spcBef>
                <a:spcPts val="374"/>
              </a:spcBef>
              <a:spcAft>
                <a:spcPts val="938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lunt and sharp e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5000"/>
              </a:lnSpc>
              <a:spcBef>
                <a:spcPts val="374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5000"/>
              </a:lnSpc>
              <a:spcBef>
                <a:spcPts val="374"/>
              </a:spcBef>
              <a:spcAft>
                <a:spcPts val="938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ndsight bi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5000"/>
              </a:lnSpc>
              <a:spcBef>
                <a:spcPts val="374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5000"/>
              </a:lnSpc>
              <a:spcBef>
                <a:spcPts val="374"/>
              </a:spcBef>
              <a:spcAft>
                <a:spcPts val="938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gh Reliability Organization (HR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34:56Z</dcterms:created>
  <dc:creator>AHRQ</dc:creator>
  <dc:description/>
  <dc:language>en-US</dc:language>
  <cp:lastModifiedBy>AHRQ</cp:lastModifiedBy>
  <dcterms:modified xsi:type="dcterms:W3CDTF">2003-02-07T22:41:17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33988662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Event 2 slides</vt:lpwstr>
  </property>
</Properties>
</file>