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Can States and Institutions Work Together to Create a Culture of Safety?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rete Actions to Improve Patient Safe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-360" y="33523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ge Keyes, M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Scientist Administra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Quality Improvement and Patient Safety, Agency for Healthcare Research and Quality (AHRQ) Rockville, M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071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mprovement Co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considered two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C’s EI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 of Agriculture cooperative state research, education, and extension servi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sibility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e needs and opi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mprovement Co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users/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 representative conferenc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HP state representative conferenc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hip buy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content with short, practical cou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iteria Used to Evaluate Evidence-Based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6440" y="1771560"/>
            <a:ext cx="8502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 wanted to improve patient safety at my institution over next 3 years and resources were not a significant factor, how would I grade this practi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-person editorial board independently rated each of the 79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best availabl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ajor categories for 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ear Opportunities for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8000"/>
          </a:bodyPr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perative glucos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supplemental perioperative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ver alloy coated urinary cath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269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ylactic antibiotics  to prevent perioperative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ts val="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antibiotic use to prevent antibiotic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ts val="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analgesics in patients w/acute abdomen (w/o compromising diagnostic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ing surgery/procedures to high volume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3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 washing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85840"/>
            <a:ext cx="9144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ear Opportunities for Research (cont’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1676520"/>
            <a:ext cx="90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 enteral nu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sur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4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 use of prophylaxis to prevent venous thromboembolism in at-risk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4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e staf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4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/Infor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25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OE with DSS to decrease medication errors and AE related to the drug order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uilding the Business Case for Patient Safety– an AHRQ-JCAHO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vitational Confer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:  more than just a financial ar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and measuring RO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ing the impact of reimbursement and purchas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ing in th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izing the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insp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4472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vidence-based Practices to Improve Patient 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Health Care Safer:  A Critical Analysis of Patient Safety Practices (July 20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practices:  those that reduce the risk of AE related to exposure to medical care across a range of diagnoses or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 researchers (expertise in patient safety, EBM, and clinical medicine, nursing, and phar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ily hospital care but included some nursing home and ambulatory care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of practices relied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valuation of the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508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p Evidence-based Safety Pract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 of 79 practices rated hig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prophylaxis to prevent thromboem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perative beta-bloc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sterile barriers when placing central IV cath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 prophylaxis in surgical patients to prevent perioperative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iotic-impregnated central venous catheters to prevent catheter-related 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aspiration of subglottic secretions to prevent ventilator-associated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p Evidence-based Safety Pract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relieving bedding to prevent pressure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ultrasound guidance during central line inser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provision of nutrition (emphasis on early enteral nutrition for critically ill or surgical pati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elf-management for warfarin (Coumadin) to achieve appropriate outpatient anticoagulation and prevent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o recall and restate informed cons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2164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ponse to the EPC Report on Patient Safety Pract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A – July 24/31, 2002 Leape, Berwick, B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nce of a practice does not always rely on evidence from a randomized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able judgment based on best “available” evidence may be acceptable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128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ponse to the EPC Report on Patient Safety Pract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A – July 24/31, 2002 Shojania, Duncan, McDonald, Wac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was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dentify evidence-based safety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sistence on evidence should not prevent implementation of practical, low-risk, understudied interventions that seem likely t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ponse to the EPC Report on Patient Safety Pract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p between standards considered acceptable by academics and standards of evidence considered acceptable by those in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QF consensus developmen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mprovement Co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 develop and maintain “front line” capacity for patient safety improvement at the community, regional, and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:  By 2004 have on-site experts and technical assistance in 10 states/health care organizations to improve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33:35Z</dcterms:created>
  <dc:creator>AHRQ</dc:creator>
  <dc:description/>
  <dc:language>en-US</dc:language>
  <cp:lastModifiedBy>AHRQ</cp:lastModifiedBy>
  <dcterms:modified xsi:type="dcterms:W3CDTF">2003-02-07T22:42:3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868646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2 slides</vt:lpwstr>
  </property>
</Properties>
</file>