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0C2C-5C01-4CCD-A82D-907DC3555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 Nichols’ slides for the presentation “Trends in the Uninsured: Impact and Implications of the Current Economic Environment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 Nichols is the Vice President of the Center for Studying Health Syste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the Business Case for Patient Safety?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and Potential Costs Savings</a:t>
            </a:r>
            <a:br>
              <a:rPr sz="36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3809520"/>
            <a:ext cx="563868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mes Mortim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iden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dwest Business Group on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cago, 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2700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stimated Cost of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or Quality Health Ca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nnual Cost of Poor Quality Care Per Covered Employee -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$1,350  Direct Health Care Expen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$  3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Indirect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$1,700  Total Cost of Poor Qua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ose costs that would disappear if every task were always performed without deficiency” - Ju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6002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1280" y="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03560"/>
            <a:ext cx="79246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Care Quality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waste and de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sus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eventable hospital-acquired infec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 estimated two million individuals suffer from hospital-acquired infections each year, leading to nearly 90,000 deaths. Between one quarter and three quarters of these infections could have been prevented.</a:t>
            </a:r>
            <a:br>
              <a:rPr sz="24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: CDC, clinical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d Cost of Poor Quality - $6.2 to $18.6 billion per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jor Findings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and private purchasers bear responsibility by paying for poor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and private purchasers can take four specific steps to improve quality and reduce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ponsible Purchasing </a:t>
            </a:r>
            <a:br>
              <a:rPr sz="32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CTION CYC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397600">
            <a:off x="2868840" y="2291400"/>
            <a:ext cx="3346560" cy="2833560"/>
          </a:xfrm>
          <a:custGeom>
            <a:avLst/>
            <a:gdLst>
              <a:gd name="textAreaLeft" fmla="*/ 0 w 3346560"/>
              <a:gd name="textAreaRight" fmla="*/ 3346920 w 3346560"/>
              <a:gd name="textAreaTop" fmla="*/ 0 h 2833560"/>
              <a:gd name="textAreaBottom" fmla="*/ 2833920 h 2833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57780"/>
                <a:lnTo>
                  <a:pt x="10933" y="1"/>
                </a:lnTo>
                <a:arcTo wR="10800" hR="10800" stAng="-5357780" swAng="535778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89280" y="2324160"/>
            <a:ext cx="3346560" cy="2833560"/>
          </a:xfrm>
          <a:custGeom>
            <a:avLst/>
            <a:gdLst>
              <a:gd name="textAreaLeft" fmla="*/ 0 w 3346560"/>
              <a:gd name="textAreaRight" fmla="*/ 3346920 w 3346560"/>
              <a:gd name="textAreaTop" fmla="*/ 0 h 2833560"/>
              <a:gd name="textAreaBottom" fmla="*/ 2833920 h 2833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57780"/>
                <a:lnTo>
                  <a:pt x="10933" y="1"/>
                </a:lnTo>
                <a:arcTo wR="10800" hR="10800" stAng="-5357780" swAng="535778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0f0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171200">
            <a:off x="2856240" y="2453400"/>
            <a:ext cx="3346560" cy="2833920"/>
          </a:xfrm>
          <a:custGeom>
            <a:avLst/>
            <a:gdLst>
              <a:gd name="textAreaLeft" fmla="*/ 0 w 3346560"/>
              <a:gd name="textAreaRight" fmla="*/ 3346920 w 3346560"/>
              <a:gd name="textAreaTop" fmla="*/ 0 h 2833920"/>
              <a:gd name="textAreaBottom" fmla="*/ 2834280 h 2833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357780"/>
                <a:lnTo>
                  <a:pt x="10933" y="1"/>
                </a:lnTo>
                <a:arcTo wR="10800" hR="10800" stAng="-5357780" swAng="535778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97720" y="4495680"/>
            <a:ext cx="239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tion Set #3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ucate and In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15600">
            <a:off x="2995200" y="2395080"/>
            <a:ext cx="3346560" cy="2833920"/>
          </a:xfrm>
          <a:custGeom>
            <a:avLst/>
            <a:gdLst>
              <a:gd name="textAreaLeft" fmla="*/ 0 w 3346560"/>
              <a:gd name="textAreaRight" fmla="*/ 3346920 w 3346560"/>
              <a:gd name="textAreaTop" fmla="*/ 0 h 2833920"/>
              <a:gd name="textAreaBottom" fmla="*/ 2834280 h 2833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490241"/>
                <a:lnTo>
                  <a:pt x="16496" y="1624"/>
                </a:lnTo>
                <a:arcTo wR="10800" hR="10800" stAng="-3490241" swAng="349024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5600" y="2133720"/>
            <a:ext cx="21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tion Set #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dentify Hig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iority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2480" y="2438280"/>
            <a:ext cx="240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tion Set #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asure &amp; Impr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1000" y="3962520"/>
            <a:ext cx="212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tion Set #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ward 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uality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85480"/>
            <a:ext cx="8128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CEO’s Perspectiv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"Of course we are terribly dependent upon our employees for the operation of our business. But more than that, I personally believe we also have a moral obligation to our loyal workers to provide a safe workplace and safe health care.”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Dean Olson, president of Aircraft Gear, a precision parts manufacturing firm in Rockford, IL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19160" y="0"/>
            <a:ext cx="530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2:04:01Z</dcterms:created>
  <dc:creator>AHRQ</dc:creator>
  <dc:description/>
  <dc:language>en-US</dc:language>
  <cp:lastModifiedBy>AHRQ</cp:lastModifiedBy>
  <dcterms:modified xsi:type="dcterms:W3CDTF">2003-02-07T22:15:14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7208956</vt:r8>
  </property>
  <property fmtid="{D5CDD505-2E9C-101B-9397-08002B2CF9AE}" pid="3" name="_AuthorEmail">
    <vt:lpwstr>SSeitz@AHRQ.GOV</vt:lpwstr>
  </property>
  <property fmtid="{D5CDD505-2E9C-101B-9397-08002B2CF9AE}" pid="4" name="_AuthorEmailDisplayName">
    <vt:lpwstr>Seitz, Steve</vt:lpwstr>
  </property>
  <property fmtid="{D5CDD505-2E9C-101B-9397-08002B2CF9AE}" pid="5" name="_EmailSubject">
    <vt:lpwstr>Query about cost/safety Web-assisted teleconference</vt:lpwstr>
  </property>
</Properties>
</file>