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6937-530A-4DEC-8CF1-4E1D3BA31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 Nichols’ slides for the presentation “Trends in the Uninsured: Impact and Implications of the Current Economic Environment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 Nichols is the Vice President of the Center for Studying Health System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the Business Case for Patient Safety?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and Potential Costs Saving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Leap Frog Case Study</a:t>
            </a:r>
            <a:br>
              <a:rPr sz="3600"/>
            </a:b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3809520"/>
            <a:ext cx="563868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lores Mitc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cutive Director, Massachusetts Group Insurance Commission, Boston, 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5880" y="3048120"/>
            <a:ext cx="2667240" cy="3047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8600" y="16765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Early Bird Sometimes Finds it Hard to Hold on to the Wor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press, both national and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C, State of Maine, Mass Medicaid still not able to get hospitals to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hospitals who had CPOE would no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al data collected by more aggressive H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re is Strength in Numb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5920" indent="-3859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C, Medicaid joined by Verizon, GE, Fidelity, and the Mass Healthcare Purchaser Group, agree to form a joint committee to make Massachusetts a roll-out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 areas throughout America are now rolling out the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pfrog now covers 30 million consu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 after hospital begin to report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8 hospit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0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 as of September 1, 20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xt Ste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e with Leapfrog committee to publicize the hospitals that report and com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6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financial incentives for complying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6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ize complying hospitals in our annual enrollment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duc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our news letter to discuss importance of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our website - including links to other web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plans by our HMOs to do their own education and outr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ourselves available to the press, as speakers at professional meetings to discuss safety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rchasing Princip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e and inform enroll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at the provider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ward superior provider onl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 for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re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ps” and Cost Saving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ized physician order entry (CPO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 8 of 10 serious drug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am and Woman’s reported a per event cost of $4,500 or $2.8 million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70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U daytime staffing with an intensive care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 morbidity 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ps” and Cost Saving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based referrals for 7 high risk proced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% morbidity 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is $1.4 million plus $500,000 per year maintenance or $5 million in savings if you add avoidance of ADE and greater efficiency of drug use  (6.5% of admits have adverse events; 28% avoida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Leapfrog Grou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OM Report: up to 98,000 people die in US hospitals yearly from medical err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ts val="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siness leaders decide to join forces as health care purchasers to deal with this iss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52388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06440" y="285840"/>
            <a:ext cx="7721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Leapfrog Gro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385920" indent="-3859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mobilize employer purchasing power to save lives and reduce preventable medical mistak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0000" indent="-32904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 and educate employ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0000" indent="-32904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incentives for breakthrough improvements in 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0000" indent="-32904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ld health plans accountable for Leapfrog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ts val="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ree initial methods to improve patient safety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0000" indent="-32904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uter physician order ent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0000" indent="-32904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vidence-based hospital referr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0000" indent="-32904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CU physician staff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0020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roup Insurance Commission Joins Leapfrog in 2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-39672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Commen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is hardest 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 of Best Practices and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60020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llenges to Implem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907920" indent="0"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ructural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9200" indent="-32508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chasers contract with health plans, not hosp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9200" indent="-32508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use plans as the vehicle to ge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9200" indent="-32508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t data collection in HMO contr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9200" indent="-32508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d financial penalties for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9200" indent="-32508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d financial rewards for moving admissions to complying hosp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9200" indent="-32508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$1 million on the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2193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72164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llenges to Implem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946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0">
              <a:lnSpc>
                <a:spcPct val="80000"/>
              </a:lnSpc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conomic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ing in life is everyt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1 not the best of ti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plans under atta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s in financial st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962520"/>
            <a:ext cx="81946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lvl="1" marL="937080" indent="-380520">
              <a:spcBef>
                <a:spcPts val="799"/>
              </a:spcBef>
              <a:spcAft>
                <a:spcPts val="11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titutional Bar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82400" indent="-33552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Associations not suppor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82400" indent="-33552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of the three leap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82400" indent="-33552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resentment at outsiders interfering in their busi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99072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g Jam Begins to Lif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4480" y="129528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 Consultant acts as a go-betw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a Faber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ng as mediator sets up meeting with selected hospital leaders GIC and national Leapfrog leaders to thrash ou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up negotiating sessions with major hospita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omise reached - reporting deadlines delayed in exchange for commitment to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ssons Learne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76560" indent="-3765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ce combined with [quiet] persistence works b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strength in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the message simple – and foc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demonize the other 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omise on the small 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 softly and carry a big stick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143000"/>
            <a:ext cx="8381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profile on the public age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rs concerned about quality not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to get consumer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 assume both quality and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22:15:47Z</dcterms:created>
  <dc:creator>AHRQ</dc:creator>
  <dc:description/>
  <dc:language>en-US</dc:language>
  <cp:lastModifiedBy>AHRQ</cp:lastModifiedBy>
  <dcterms:modified xsi:type="dcterms:W3CDTF">2003-02-07T22:17:30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70621651</vt:r8>
  </property>
  <property fmtid="{D5CDD505-2E9C-101B-9397-08002B2CF9AE}" pid="3" name="_AuthorEmail">
    <vt:lpwstr>SSeitz@AHRQ.GOV</vt:lpwstr>
  </property>
  <property fmtid="{D5CDD505-2E9C-101B-9397-08002B2CF9AE}" pid="4" name="_AuthorEmailDisplayName">
    <vt:lpwstr>Seitz, Steve</vt:lpwstr>
  </property>
  <property fmtid="{D5CDD505-2E9C-101B-9397-08002B2CF9AE}" pid="5" name="_EmailSubject">
    <vt:lpwstr>Query about cost/safety Web-assisted teleconference</vt:lpwstr>
  </property>
</Properties>
</file>