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7647-06F0-43C2-B846-7B80E83E3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 Nichols’ slides for the presentation “Trends in the Uninsured: Impact and Implications of the Current Economic Environment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 Nichols is the Vice President of the Center for Studying Health System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576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632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84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4576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632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06080" y="285480"/>
            <a:ext cx="772164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4576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1632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484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4576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1632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06080" y="285480"/>
            <a:ext cx="772164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-22860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7880" y="1905120"/>
            <a:ext cx="7788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spcBef>
                <a:spcPts val="4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7732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at Is the Business Case for Patient Safety?</a:t>
            </a:r>
            <a:br>
              <a:rPr sz="36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sts and Potential Costs Saving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Leap Frog Case Study</a:t>
            </a:r>
            <a:br>
              <a:rPr sz="3600"/>
            </a:b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-360" y="3809520"/>
            <a:ext cx="563868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lores Mitc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ecutive Director, Massachusetts Group Insurance Commission, Boston, 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095880" y="3048120"/>
            <a:ext cx="2667240" cy="3047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28600" y="167652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Early Bird Sometimes Finds it Hard to Hold on to the Worm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press, both national and lo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C, State of Maine, Mass Medicaid still not able to get hospitals to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 hospitals who had CPOE would no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al data collected by more aggressive H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re is Strength in Numb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85920" indent="-38592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C, Medicaid joined by Verizon, GE, Fidelity, and the Mass Healthcare Purchaser Group, agree to form a joint committee to make Massachusetts a roll-out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592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 areas throughout America are now rolling out the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592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pfrog now covers 30 million consu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592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pital after hospital begin to report (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28 hospita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40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% as of September 1, 200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ext Step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27680" indent="-4276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e with Leapfrog committee to publicize the hospitals that report and com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76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 financial incentives for complying pr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76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ize complying hospitals in our annual enrollment mate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duc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55760" indent="-4557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our news letter to discuss importance of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our website - including links to other web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 plans by our HMOs to do their own education and outre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de ourselves available to the press, as speakers at professional meetings to discuss safety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urchasing Princip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ucate and inform enroll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 at the provider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ward superior provider onlin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y for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recogn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ps” and Cost Saving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37040" indent="-4370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ized physician order entry (CPO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-37260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 8 of 10 serious drug err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-37260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gham and Woman’s reported a per event cost of $4,500 or $2.8 million pe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704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U daytime staffing with an intensive care specia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-37260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% morbidity re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ps” and Cost Saving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 based referrals for 7 high risk proced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% morbidity re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 is $1.4 million plus $500,000 per year maintenance or $5 million in savings if you add avoidance of ADE and greater efficiency of drug use  (6.5% of admits have adverse events; 28% avoida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Leapfrog Group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19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OM Report: up to 98,000 people die in US hospitals yearly from medical erro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ts val="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siness leaders decide to join forces as health care purchasers to deal with this issu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152388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06440" y="285840"/>
            <a:ext cx="77216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Leapfrog Grou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marL="385920" indent="-385920"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mobilize employer purchasing power to save lives and reduce preventable medical mistak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0000" indent="-329040"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 and educate employe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0000" indent="-329040"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incentives for breakthrough improvements in safe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0000" indent="-329040"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ld health plans accountable for Leapfrog implem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ts val="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ree initial methods to improve patient safety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0000" indent="-329040"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mputer physician order ent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10000" indent="-329040"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vidence-based hospital referr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10000" indent="-329040"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CU physician staffing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60020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roup Insurance Commission Joins Leapfrog in 200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76320" indent="-396720">
              <a:spcBef>
                <a:spcPts val="700"/>
              </a:spcBef>
              <a:spcAft>
                <a:spcPts val="11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Commen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spcAft>
                <a:spcPts val="11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ation is hardest p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spcAft>
                <a:spcPts val="11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ations of Best Practices and Protoc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60020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llenges to Implemen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lvl="1" marL="907920" indent="0">
              <a:spcBef>
                <a:spcPts val="700"/>
              </a:spcBef>
              <a:spcAft>
                <a:spcPts val="11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tructural Barr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9200" indent="-32508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rchasers contract with health plans, not hospi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39200" indent="-32508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t use plans as the vehicle to get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39200" indent="-32508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t data collection in HMO contr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39200" indent="-32508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luded financial penalties for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39200" indent="-32508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luded financial rewards for moving admissions to complying hospi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39200" indent="-32508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than $1 million on the 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121932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72164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llenges to Implemen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9468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76320" indent="0">
              <a:lnSpc>
                <a:spcPct val="80000"/>
              </a:lnSpc>
              <a:spcBef>
                <a:spcPts val="700"/>
              </a:spcBef>
              <a:spcAft>
                <a:spcPts val="11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conomic Barr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ing in life is everyth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1 not the best of tim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lth plans under attac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pitals in financial str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3962520"/>
            <a:ext cx="81946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lvl="1" marL="937080" indent="-380520">
              <a:spcBef>
                <a:spcPts val="799"/>
              </a:spcBef>
              <a:spcAft>
                <a:spcPts val="11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stitutional Barr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82400" indent="-33552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pital Associations not supporti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82400" indent="-33552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ical of the three leap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82400" indent="-33552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resentment at outsiders interfering in their busin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99072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g Jam Begins to Lif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74480" y="1295280"/>
            <a:ext cx="8669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1880" indent="-37188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efit Consultant acts as a go-betw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8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880" indent="-37188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a Faber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8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880" indent="-37188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ng as mediator sets up meeting with selected hospital leaders GIC and national Leapfrog leaders to thrash out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8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880" indent="-37188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s up negotiating sessions with major hospital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8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880" indent="-37188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romise reached - reporting deadlines delayed in exchange for commitment to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1143000"/>
            <a:ext cx="8382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ssons Learne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19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376560" indent="-3765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ce combined with [quiet] persistence works b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56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560" indent="-3765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strength in nu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56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560" indent="-3765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the message simple – and foc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56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560" indent="-3765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demonize the other s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56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560" indent="-3765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romise on the small po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56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560" indent="-3765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ak softly and carry a big stick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14300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tient Safe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9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55760" indent="-4557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profile on the public agen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chasers concerned about quality not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d to get consumer inte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s assume both quality and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22:15:47Z</dcterms:created>
  <dc:creator>AHRQ</dc:creator>
  <dc:description/>
  <dc:language>en-US</dc:language>
  <cp:lastModifiedBy>AHRQ</cp:lastModifiedBy>
  <dcterms:modified xsi:type="dcterms:W3CDTF">2003-02-07T22:17:30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70621651</vt:r8>
  </property>
  <property fmtid="{D5CDD505-2E9C-101B-9397-08002B2CF9AE}" pid="3" name="_AuthorEmail">
    <vt:lpwstr>SSeitz@AHRQ.GOV</vt:lpwstr>
  </property>
  <property fmtid="{D5CDD505-2E9C-101B-9397-08002B2CF9AE}" pid="4" name="_AuthorEmailDisplayName">
    <vt:lpwstr>Seitz, Steve</vt:lpwstr>
  </property>
  <property fmtid="{D5CDD505-2E9C-101B-9397-08002B2CF9AE}" pid="5" name="_EmailSubject">
    <vt:lpwstr>Query about cost/safety Web-assisted teleconference</vt:lpwstr>
  </property>
</Properties>
</file>