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7648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893880" y="4419360"/>
            <a:ext cx="507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7648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5BCF-87A6-4326-B98C-D00166B6B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3880" y="4419360"/>
            <a:ext cx="507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ported in this slide are based on the subgroup of respondents (n=560) who indicated awareness of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ular target &amp; incen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which to base their responses to Section 2 of the question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on which statistically significant differences were observed are circled.  The p values were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dibility: p&lt;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: p&lt;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: p&lt;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ntended consequences: p&lt;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: p&lt;.0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389-F820-4A1F-9A3D-70D8C61A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524-800A-42AD-9259-0B4F0997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789-BAB7-405F-87BA-38955815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A58-A938-4245-B8EF-071F8CFA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CB4B-E25C-45C3-8FD3-2284EF0B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D697-6489-4AE3-8EF2-00ED6BB9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2DC8-F36E-4A43-BFF2-D8CE1677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D3B3-FCBD-4706-A41F-83DAD6B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08B6-4A3D-4C04-B07B-B1C96723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6DB3-BA36-42E0-9CAF-EAD5E28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B699-DA8D-411D-BDC0-5D7953E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D4E-29CE-402C-8D71-ECB7AA86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0B3E-0BEE-42FE-8459-E323850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AE3-F048-472D-97FC-CE903E5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8A75-673D-4FFB-B83C-409FB1C5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CF8F-FAF2-425B-8F99-5765AF4F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9619-7778-4C9A-87E5-370BB07E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CFB8-0FB6-4B05-90C4-4A0ABE66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A46C-FE91-4B41-9A52-188E4664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045E-2793-4BE2-A14F-0FAC891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7D8F-AD5A-4F5D-A582-D97FF8C7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EED7-B04E-4BCB-BE54-7B566D8F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47E-6EC6-45EB-A004-E9219FC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AA84-602B-4B3A-9610-88BF3FF9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F6DA-7260-4251-8F2B-B07D0A7E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2476-35D0-4504-82AA-E108E7CB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9342-579A-4A27-9DF4-28DE7EB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DAAC-5193-47D9-AE60-9FB1FAC7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7426-5A16-469B-9E94-2636C340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6C51-7A74-4164-9132-73DC2B02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149-F15A-4834-8A64-188F3162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617-B089-430E-960B-C7B581E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2C4-D1A0-442B-951B-E5AFFA7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DE4-88A0-4CB1-B201-9A424D1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E9E-7C47-444F-8A98-06BC58FE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B2B-2666-4BE9-9686-745886E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E1B-08B5-43A6-BAD7-652BA14ECD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835-3665-4673-B0D1-F43905148A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4898-C41C-4430-968F-DF422170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valuation of the Rewarding Results Program</a:t>
            </a:r>
            <a:br>
              <a:rPr sz="3800"/>
            </a:br>
            <a:br>
              <a:rPr sz="34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ry Young, J.D., Ph.D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ston University School of Public Health and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artment of Veterans Affairs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ston, 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ing Results: Seven Demonstr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762120"/>
          <a:ext cx="8305920" cy="5829120"/>
        </p:xfrm>
        <a:graphic>
          <a:graphicData uri="http://schemas.openxmlformats.org/drawingml/2006/table">
            <a:tbl>
              <a:tblPr/>
              <a:tblGrid>
                <a:gridCol w="3833640"/>
                <a:gridCol w="2556000"/>
                <a:gridCol w="191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EMONSTRATION PROJEC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IT OF ACCOUNTABILIT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EOGRAPHIC REG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Cross Blue Shield of Michi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Cross of Califor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Francisco Bay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s to Excel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cinnati, 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le, 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ton, 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y, 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hester, 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 for Performance – Integrated Healthcare 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Initiative Rewarding Results – Center for Health Care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 &amp; 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usetts Health Quality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Targe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56120" y="1952280"/>
            <a:ext cx="447192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-40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5% thresh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7%, 75% threshol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3% thresh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 improv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6280" y="1990800"/>
            <a:ext cx="4157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70800" indent="-370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quality targ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bA1c scree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ic eye ex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mmograph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ll-child vis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0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5480" y="1752120"/>
            <a:ext cx="754236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hold (5% - 20% of claim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lock bonus potential to group (e.g. $60,000/40 primary care physicians; $1.2 million/280 primary care physicia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MPM bonus potential for total panel (e.g. $1.50 per member per month; $3.00 per member per mont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brid: withhold and bon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hanced fee schedule in subsequent y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nancial Incentive Arrang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33920" y="2971800"/>
            <a:ext cx="198108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actice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971800"/>
            <a:ext cx="190512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1828800"/>
            <a:ext cx="20574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Framework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Incentives and Qua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5812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3581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714640" y="20574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76160" y="2057400"/>
            <a:ext cx="1981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048120"/>
            <a:ext cx="243828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vider Per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ial sal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/clinical  cred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 of contro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n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ntended consequ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19080"/>
          <a:ext cx="88963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889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7040" y="316080"/>
            <a:ext cx="75564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elephone Interviews with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hysician Practice Lead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9120" y="1971720"/>
            <a:ext cx="7556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nce of doll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omplexity of distribution formu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linical relevance of quality targ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Validity of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Role of individual physicians (physician-centered vs. system-oriente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7040" y="316080"/>
            <a:ext cx="75564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89120" y="1971720"/>
            <a:ext cx="7556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hysician attitudes may differ from public comment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Providers appear confused about administration of pro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Providers are comfortable with clinical relevance of quality targets but are not impressed with the associated doll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3:18:56Z</dcterms:created>
  <dc:creator>VHABHSDESCHT</dc:creator>
  <dc:description/>
  <dc:language>en-US</dc:language>
  <cp:lastModifiedBy>Jim Lee</cp:lastModifiedBy>
  <dcterms:modified xsi:type="dcterms:W3CDTF">2004-10-18T18:14:18Z</dcterms:modified>
  <cp:revision>147</cp:revision>
  <dc:subject/>
  <dc:title>National Evaluation of Rewarding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41195497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