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81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3876480" y="0"/>
            <a:ext cx="2981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09224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893880" y="4419360"/>
            <a:ext cx="5070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-36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387648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DE8D-A20A-4928-A332-74EED9DAB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93880" y="4419360"/>
            <a:ext cx="5070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reported in this slide are based on the subgroup of respondents (n=560) who indicated awareness of 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ticular target &amp; incenti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which to base their responses to Section 2 of the questionnai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mensions on which statistically significant differences were observed are circled.  The p values were as follow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dibility: p&lt;.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: p&lt;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: p&lt;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ntended consequences: p&lt;.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act: p&lt;.01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CD30-DD64-4226-BF01-E5B047F8C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B5BB-DDF2-4167-8B93-9EDF2F8E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EEEB-06F9-47D5-825C-906221D6F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F798-7819-4AFD-98B3-24BA08109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D4C2-B800-4BA8-B393-1D2D1EB8C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4615-58B2-4B2A-A33F-D7CC8282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C6EF-8924-4EB7-B1E3-D896B802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6185-D0D4-4492-A6AE-AC248FF4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7F0D-727C-41F0-9780-CA783C1F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4DBF-91CA-4A34-BB1A-8B6AEB07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8767-4E3B-451D-BB65-D2970F51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17A9-4C62-488D-BD71-A1E3387A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3EED8-3FDF-45AC-88A5-B9409882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22FF-A730-4AF2-9F45-477BBDBD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A55A-21C1-4277-B838-9499364A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3E64-0AB6-4AE2-AA29-ED0B78B44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9AF0-51A8-4F34-9B7B-E848B2C0D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5F405-4547-479B-85FF-C78BD0342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7004E-A818-4F28-8D5D-DBD1530B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31D47-6CFA-4A5E-A2FD-86427ABE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9C04E-F5BF-494E-B53C-E1613F7D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6DC03-5443-448F-9FE0-34B04554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ADA8-3A23-4836-8F90-8484F8F1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C5751-6662-4E06-9DEF-179BA435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7DB55-6645-4960-B590-39396E2A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3FCC0-D9F3-4023-AB06-ACCB6F92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9F9A9-45F7-44CD-9F47-8BA93B2B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6E88F-D9B9-4C38-B6EB-3C7C354B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C24FB-E607-43AA-9640-91089365C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182F6-7516-4F55-9BE6-6E8861BB7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FC4F-017F-4E5A-B7EC-ADAE37EE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B9A0-018D-4719-B9DE-F1A1BEB0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7DDF-7878-479E-ABC7-7FF18219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9220-25CD-44FB-8B07-BB8AD7E0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1160-158A-487E-9CDD-603DCDE1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A76D-4871-434D-8828-D43FE5BD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633E-8646-41EA-93C3-45539C78290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B5CF-F3C4-4D3D-93A2-ADE04272B7F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A0D9-F654-43A5-A6FA-7D8DB1391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valuation of the Rewarding Results Program</a:t>
            </a:r>
            <a:br>
              <a:rPr sz="3800"/>
            </a:br>
            <a:br>
              <a:rPr sz="3400"/>
            </a:b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ary Young, J.D., Ph.D.</a:t>
            </a: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oston University School of Public Health and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partment of Veterans Affairs</a:t>
            </a: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oston, M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019920" y="358128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ung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warding Results: Seven Demonstratio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762120"/>
          <a:ext cx="8305920" cy="5829120"/>
        </p:xfrm>
        <a:graphic>
          <a:graphicData uri="http://schemas.openxmlformats.org/drawingml/2006/table">
            <a:tbl>
              <a:tblPr/>
              <a:tblGrid>
                <a:gridCol w="3833640"/>
                <a:gridCol w="2556000"/>
                <a:gridCol w="1916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DEMONSTRATION PROJEC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UNIT OF ACCOUNTABILIT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GEOGRAPHIC REG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e Cross Blue Shield of Michig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pit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e Cross of Califor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l physici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 Francisco Bay a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dges to Excell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l physici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 Group pract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ncinnati, O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uisville, 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ston, 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bany, 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el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l physici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chester, 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 for Performance – Integrated Healthcare Associ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 pract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 Initiative Rewarding Results – Center for Health Care Strateg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l physicians &amp; Group pract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achusetts Health Quality Part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 pract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Young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Quality Targe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056120" y="1952280"/>
            <a:ext cx="447192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08600" indent="-40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89840" indent="-379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75% threshol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89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89840" indent="-379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67%, 75% threshold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89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89840" indent="-379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83% threshol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89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89840" indent="-379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% improv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66280" y="1990800"/>
            <a:ext cx="41576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70800" indent="-370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ed quality targe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17120" indent="-344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bA1c screen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7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7120" indent="-344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abetic eye exa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7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7120" indent="-344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mmograph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7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7120" indent="-344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ll-child visi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7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7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0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ung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915480" y="1752120"/>
            <a:ext cx="7542360" cy="41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hold (5% - 20% of claims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lock bonus potential to group (e.g. $60,000/40 primary care physicians; $1.2 million/280 primary care physician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MPM bonus potential for total panel (e.g. $1.50 per member per month; $3.00 per member per month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ybrid: withhold and bonu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hanced fee schedule in subsequent yea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inancial Incentive Arrangemen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ung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733920" y="2971800"/>
            <a:ext cx="1981080" cy="1556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actice Behav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2971800"/>
            <a:ext cx="1905120" cy="1556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Qua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ar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1828800"/>
            <a:ext cx="205740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ual Framework: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Financial Incentives and Qualit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95480" y="35812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15000" y="35812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724280" y="23619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5714640" y="2057400"/>
            <a:ext cx="16765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676160" y="2057400"/>
            <a:ext cx="19810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3048120"/>
            <a:ext cx="2438280" cy="344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ovider Perce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war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nancial sal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/clinical  cred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e of contro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irnes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ntended consequen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Young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Young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0" y="19080"/>
          <a:ext cx="88963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80"/>
                    <a:ext cx="88963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Young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97040" y="316080"/>
            <a:ext cx="7556400" cy="10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elephone Interviews with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hysician Practice Leader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89120" y="1971720"/>
            <a:ext cx="755640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ance of doll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Complexity of distribution formul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Clinical relevance of quality targe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Validity of da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Role of individual physicians (physician-centered vs. system-oriented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ung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97040" y="316080"/>
            <a:ext cx="7556400" cy="10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clus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89120" y="1971720"/>
            <a:ext cx="755640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hysician attitudes may differ from public commenta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Providers appear confused about administration of progra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Providers are comfortable with clinical relevance of quality targets but are not impressed with the associated doll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ung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2T13:18:56Z</dcterms:created>
  <dc:creator>VHABHSDESCHT</dc:creator>
  <dc:description/>
  <dc:language>en-US</dc:language>
  <cp:lastModifiedBy>Jim Lee</cp:lastModifiedBy>
  <dcterms:modified xsi:type="dcterms:W3CDTF">2004-10-18T18:14:18Z</dcterms:modified>
  <cp:revision>147</cp:revision>
  <dc:subject/>
  <dc:title>National Evaluation of Rewarding Resul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41195497</vt:r8>
  </property>
  <property fmtid="{D5CDD505-2E9C-101B-9397-08002B2CF9AE}" pid="3" name="_AuthorEmail">
    <vt:lpwstr>JRuhl@ahrq.gov</vt:lpwstr>
  </property>
  <property fmtid="{D5CDD505-2E9C-101B-9397-08002B2CF9AE}" pid="4" name="_AuthorEmailDisplayName">
    <vt:lpwstr>Ruhl, Jessica</vt:lpwstr>
  </property>
  <property fmtid="{D5CDD505-2E9C-101B-9397-08002B2CF9AE}" pid="5" name="_EmailSubject">
    <vt:lpwstr>Buyright Web Conference</vt:lpwstr>
  </property>
</Properties>
</file>