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C034-FA8D-4166-B574-6B84CB2E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B1FE-3AA3-4EEB-95A8-AF792A8D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8DF7-4D3F-48DF-8302-ECD3A757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67A3-F9C2-499C-9761-FB34C54D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E5AE-AB4E-42BB-BA80-80B54B58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8F97-E0A9-45AC-9BD2-52924A77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5866-E107-487F-8FE6-D9969741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89BB-6DD1-4FF7-A17A-D7BCDD41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9FDD-5920-4528-B0D3-860466B8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6613-F767-485C-9D7A-712C19A5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836F-4EED-4B9E-A7E5-8588A8AA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D7A8-7D83-46D8-A5F2-E23230D6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9E79-63A7-494F-9F5F-F4B45330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9BD5-2C1D-4D9C-9D9C-FB8E4EF7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98C7-D0CB-4220-B537-683E29FE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EB2D-7E79-45DB-A690-869152D4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EA43-6247-41D2-B5A9-C444694E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2DDA-4F59-4547-B4CC-179F9869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9A7-BFE1-455C-B6ED-C0986E15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127C-3082-46C6-A0A4-9BD81668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5A16-F1FF-4D18-B508-B4089884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5BFE-BD2C-4016-99E2-1B3D0C15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9AB6-6F7C-48C6-8E5A-5F148377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A90B-DC8F-4C6E-A6EA-CB272573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9B06-A7B9-45DE-A676-78C6F667014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9371-9917-4DBF-B9EE-950E7FFA613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aying for Qual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redith Rosenthal,  Ph.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artment of Health Policy and Manage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rvard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ol of Public 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ston  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tober 21, 200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688080" y="3429000"/>
            <a:ext cx="225900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osentha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C284-8B7E-4DC9-B09A-B7371AE548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New Programs to Reward Physicians and Hospital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lity of care in the U.S. is poor and not improving quickly enoug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than 50 new pay-for-performance programs put in place this decade by health plans, purchas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th physicians and hospitals to receive bon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Reference: Health Affair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Vol 23, Issue 2, 127-14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entha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D46D-7770-4251-B4DB-5EAF651CEF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argeted Areas of Performa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ysicians rewarded based on care in 5-10 domains of evidence-based medic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ucture (e.g., development of Information Technology infrastructure) and process measures typi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tient experience/satisfaction often includ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spitals rewarded on broader set of structure, process, and outcome measures (including staffing, complications, readmiss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entha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6C3B-6E57-44B7-AB20-4C44619F35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Quality Improve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lity improvement almost never targeted explicit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grams reward top performers (e.g., top 20% in market) or all providers reaching a fixed goal (e.g., 75% compliance with a benchmar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us rewards pay for past achievements, may widen performance g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entha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19B3-8F04-4B27-AFB9-E1C41201DF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rength of Incentiv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cal payments for best performers set to roughly 5% of revenues from the sponsoring plan or purchas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entive sponsors usually represent minority share of provider reven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 this be enough to spur necessary chang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entha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43EB-1197-4F62-99F1-87EF9B118C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cluding Though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ay-for-performance targeting broad set of domains has been widely adopted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Current programs may not be well positioned to result in dramatic quality improvement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o rewards for improveme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latively small dollar amoun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entha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8C29-11FE-46CF-84A4-C3E949EA74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4:09:08Z</dcterms:created>
  <dc:creator>Meredith Rosenthal</dc:creator>
  <dc:description/>
  <dc:language>en-US</dc:language>
  <cp:lastModifiedBy>AHRQ</cp:lastModifiedBy>
  <dcterms:modified xsi:type="dcterms:W3CDTF">2004-10-18T20:48:22Z</dcterms:modified>
  <cp:revision>38</cp:revision>
  <dc:subject/>
  <dc:title>Paying for Quality: Poison or Panace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00523472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Buyright Web Conference</vt:lpwstr>
  </property>
</Properties>
</file>