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F518-A289-4F4C-AEF8-AF1584AB6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0B58-9643-470F-A21A-FE489DC7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5BA7-87E8-4255-A6B3-7ADA740C0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2718-0DB4-442E-B282-1FC0D0D58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42E1-B17C-43C5-8250-42ECD74DF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DEED-30B6-4D93-98B4-B1C00C82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018D-6BAD-497D-BD7B-021F3D02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89A6-264A-4206-B6C4-1E1107DA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F155-BAA5-495A-8CA6-BE6B4F77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ABD5-0256-4E37-8344-6E16BBE4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1410-B452-49C8-A107-60515F04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11D9-904C-4EEA-91ED-508AF72D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AE45-5F9A-4B81-B598-9DCC37A3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BBE2-752F-497C-A782-7624EF6F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1969-0F05-4C97-A47D-2CBB63FD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F1DD-610B-4AE9-BC44-0367BA4B1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9FEB-9320-4E0B-B70F-EA0937CA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2022-B831-4653-B34A-ADC554E3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EDF9-ECF4-4CFD-B67C-481EE0CC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DF7C-D211-4FAC-B7C2-442C00B9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D373-659F-40CB-BF8B-4BBC6B73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39EE-CAEB-413A-BFF3-D0A0FAED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C8BD-C0BC-439A-A6A7-FC084611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46C9-0622-4CED-8116-1B7610A2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9003-B034-4699-A31A-B2691D435D4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66E2-7FA6-4B7E-905A-89C67E5EEF1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aying for Qualit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2133720"/>
            <a:ext cx="6400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redith Rosenthal,  Ph.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artment of Health Policy and Managem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rvard Univer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ool of Public Heal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ston  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ctober 21, 200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688080" y="3429000"/>
            <a:ext cx="2259000" cy="304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osentha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8B80-A381-445A-AF7C-9802C999BA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New Programs to Reward Physicians and Hospital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ality of care in the U.S. is poor and not improving quickly enoug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than 50 new pay-for-performance programs put in place this decade by health plans, purchas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th physicians and hospitals to receive bonu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Reference: Health Affair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Vol 23, Issue 2, 127-14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entha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8715-ACBC-42B4-9252-AEBDE01F53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argeted Areas of Performan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ysicians rewarded based on care in 5-10 domains of evidence-based medic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ucture (e.g., development of Information Technology infrastructure) and process measures typic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tient experience/satisfaction often includ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spitals rewarded on broader set of structure, process, and outcome measures (including staffing, complications, readmission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entha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0A88-CD5E-47A0-9ECA-9504FBE71B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Quality Improvemen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ality improvement almost never targeted explicit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grams reward top performers (e.g., top 20% in market) or all providers reaching a fixed goal (e.g., 75% compliance with a benchmark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us rewards pay for past achievements, may widen performance g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entha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A3DB-78A3-47C2-ACAD-3A9C831F4C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trength of Incentiv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ical payments for best performers set to roughly 5% of revenues from the sponsoring plan or purchas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entive sponsors usually represent minority share of provider reven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 this be enough to spur necessary chang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entha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D8AE-89D8-4DCD-9FB0-8BF4A86556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ncluding Though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Pay-for-performance targeting broad set of domains has been widely adopted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Current programs may not be well positioned to result in dramatic quality improvement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No rewards for improvemen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elatively small dollar amount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entha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CE69-2EEB-48BF-B6B9-E2511E3327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4:09:08Z</dcterms:created>
  <dc:creator>Meredith Rosenthal</dc:creator>
  <dc:description/>
  <dc:language>en-US</dc:language>
  <cp:lastModifiedBy>AHRQ</cp:lastModifiedBy>
  <dcterms:modified xsi:type="dcterms:W3CDTF">2004-10-18T20:48:22Z</dcterms:modified>
  <cp:revision>38</cp:revision>
  <dc:subject/>
  <dc:title>Paying for Quality: Poison or Panace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00523472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Buyright Web Conference</vt:lpwstr>
  </property>
</Properties>
</file>