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45B-7FC5-4AE5-8325-FF55AF52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330-2F2B-4402-93DD-5716510C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7F6-366F-4181-A40E-56E68F23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D91-D34F-4BE8-8707-62ABBFFC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7DAA-28F6-45D0-A99D-9E0D7A9E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C1DC-EF78-4A77-A684-57EDCA2E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63B4-0275-42D7-BFD2-325C8985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B7EB-E944-43BB-A6DC-9E3B85F1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90ED-2EFB-45CE-9545-4AD6C943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128B-99E5-4514-BF20-3EDB26E1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DB6B-26F7-49E0-9DB7-C7532D56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169-527F-4391-8A14-F8B3500B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0EB9-E4CF-4653-AAE4-61534FE1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EF4D-B86D-4F4F-A050-4AAA443E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C24B-98C0-497C-A319-37F48561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4834-D1D5-41BF-B38F-0D66551C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6D67-3EF5-45D2-AC91-3BEB707A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FFA-5670-41D0-AD76-B8C711F0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062-42E3-45F9-9319-569857FC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9E6-826D-4741-9A40-DFEFC313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A79-1E42-4F4C-BB06-635FF037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BE0-02E0-4480-A820-C913D2F7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B10-FA11-4122-9BE7-9D15C984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B85-5028-499D-8710-DD786274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68D8-0A92-4305-8E2A-EEB83EEACB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0A8A-8BDA-4E10-B12F-2C4F54064F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07840" y="2401920"/>
            <a:ext cx="3173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bra 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24480" y="1523880"/>
            <a:ext cx="4076640" cy="4876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523880" y="228600"/>
            <a:ext cx="6400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asons for Consumer Dema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3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-centered healthcare requi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to make informed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to ask informe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-directed health plans require more consume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ngoing Public Reporting Activiti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agara Coal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pfrog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dges to Excel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achusetts Health Quality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sconsin Health Care Collabor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 Focused Purch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Resource Policy Associ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Initiatives in CA (HealthScope), TX, IL, MD, FL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hallenges Facing Consumers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dimensions of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different ways the information is displa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different ways that similar information is mea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7160" y="5076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elping Consumers Compare Quali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ized, validated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ized, consumer friendly data disp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hensive measurement of all dimensions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5076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sing Public Reporting to Improve Quali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 must be widely dissem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display must be cl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s play a key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6160" y="0"/>
            <a:ext cx="863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ree Drivers of Healthcare System Improve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rs/Payers through contracts they negot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s through information guiding informed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rs wanting to improv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7:55:28Z</dcterms:created>
  <dc:creator>kaschkeh</dc:creator>
  <dc:description/>
  <dc:language>en-US</dc:language>
  <cp:lastModifiedBy>kaschkeh</cp:lastModifiedBy>
  <dcterms:modified xsi:type="dcterms:W3CDTF">2004-10-26T14:20:20Z</dcterms:modified>
  <cp:revision>1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41048152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Buyright Web Conference</vt:lpwstr>
  </property>
</Properties>
</file>