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1FBB-DB41-40BA-87EB-92A963F8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DBF-B78B-48FB-93F1-68FFB450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D11-D124-4DF0-8F5F-ACD6A919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2C0-9E40-4B18-A9B4-F491D150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1093-7AF2-4B8D-8848-94B3C461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7433-F9F7-4B1A-9286-8CA8E58D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41D8-916D-42B7-878A-4ED7B4E5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E0DB-C4DB-495D-9B05-086E7D80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C2DB-7BEC-401F-8BC5-B4978176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BFBD-F309-40FE-93D0-1B3B39D6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3C7A-4D00-4C60-9EE0-31892D01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E2F-0079-4622-8E62-952B7A09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694D-B9D1-4F13-9460-73A64644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D5BF-4D91-494D-A298-D4B50A6A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DC33-7C27-4D1A-B18E-4B150CA8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5F83-7DB8-4792-BB21-C919C4E0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7AE9-21D9-427A-93C4-2E829C0B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1B4-C4F0-4877-8983-5B331B5D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8B4-13CD-44B4-AFD7-6A673348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650-731C-4305-87ED-F5DAB6B6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880-121F-45EC-82F0-A5E3916F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857A-0671-4211-8FBB-3D059201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FF6F-B3E0-4753-BC77-6394745A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F70-8EFE-4133-A328-6FECA83C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57FC-E781-4133-A6DF-CFE8C39FE9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51BD-28E4-454F-AA91-5CF5030310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07840" y="2401920"/>
            <a:ext cx="3173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bra 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i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24480" y="1523880"/>
            <a:ext cx="4076640" cy="4876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523880" y="228600"/>
            <a:ext cx="6400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easons for Consumer Dema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3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-centered healthcare requi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to make informed dec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to ask informed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223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-directed health plans require more consume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ngoing Public Reporting Activiti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agara Coal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pfrog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dges to Excell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achusetts Health Quality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sconsin Health Care Collabor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 Focused Purch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Resource Policy Associ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Initiatives in CA (HealthScope), TX, IL, MD, FL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hallenges Facing Consumers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dimensions of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different ways the information is displa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different ways that similar information is meas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7160" y="5076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elping Consumers Compare Quali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ized, validated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ized, consumer friendly data displ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hensive measurement of all dimensions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7160" y="5076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sing Public Reporting to Improve Quali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 must be widely dissem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display must be cl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s play a key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6160" y="0"/>
            <a:ext cx="863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ree Drivers of Healthcare System Improvem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ers/Payers through contracts they negoti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s through information guiding informed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rs wanting to improve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17:55:28Z</dcterms:created>
  <dc:creator>kaschkeh</dc:creator>
  <dc:description/>
  <dc:language>en-US</dc:language>
  <cp:lastModifiedBy>kaschkeh</cp:lastModifiedBy>
  <dcterms:modified xsi:type="dcterms:W3CDTF">2004-10-26T14:20:20Z</dcterms:modified>
  <cp:revision>13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41048152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Buyright Web Conference</vt:lpwstr>
  </property>
</Properties>
</file>