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4FC-E471-4BDE-8416-40893670B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/Afternoon.  Thank you for the opportunity to talk to you about The Leapfrog Group. The name of the group is important because it signifies our goal:  achieving great leaps in the quality, safety and overall value of health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only remember one thing from today’s presentation, I hope it will be that full implementation of Leapfrog’s action plan provides us with the opportunity to preven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half a million serious medication erro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e almost 60,000 l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year.  Again, rememb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f a million serious medication errors, and almost 60,000 l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1DAC-1B2B-4B07-BD77-82643F17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431-8DCE-454B-8C56-76C3F993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te of health care quality in the United States is accurately summed up in this quote by Mark Chassin, a  preeminent health services researcher (read quo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EBB5-C351-4E93-9ED7-E30D10B0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5100-BD53-4BA0-891A-369DF4F0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7265-0B64-40C2-9B72-EA9FD7F4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157D-AA98-4565-8942-FD2746BD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8604-036A-4E05-A741-7958A19B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A3C9-85FC-4A14-A2F6-19F974CF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293B-33ED-4BFE-BC9F-AD09CEA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0633-C064-47B7-8CD7-EF3039A4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720-AC97-4C80-88AE-C73CBDC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C467-D5B4-4669-A5E1-CD92CE3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C8A1-B71B-4582-823E-712AC15E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35D9-97DB-4BB3-8FD1-41D95A1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E208-5D22-4B3D-B79A-5FF16BAE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5182-ED2B-42A8-93BE-380791A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A91-B5B3-43BB-A47D-0743EF6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2EE3-889A-40D8-BC9B-4658EC53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4768-D364-46A0-AB02-5E855738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9404-D246-43D6-AE48-DA54454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8C72-A4DA-4A83-BCDF-9FD5E528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2682-A738-43B8-BD4A-724B2C77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D674-2DBB-43CA-8F99-7FED31B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7424-CF6A-428C-9043-721802F1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EDCC-852F-4083-AC76-AA267585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8E31-7859-40D8-8DE1-145A931F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158E-846F-43AA-83E6-99F410A43F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A13-CD11-498B-A6A9-8AFDDFB20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apfroggroup.org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1040" y="3094200"/>
            <a:ext cx="56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ality-Based Purchasing and Public Reporting: The Evidence Base and Practica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obert S. Galvin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ctober 21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7720" y="160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ying for Performanc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6200" y="3375000"/>
            <a:ext cx="2739960" cy="33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0772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 Strategic Fit of Pay-For-Performanc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734520" y="2313360"/>
            <a:ext cx="675360" cy="524880"/>
            <a:chOff x="6734520" y="2313360"/>
            <a:chExt cx="675360" cy="524880"/>
          </a:xfrm>
        </p:grpSpPr>
        <p:sp>
          <p:nvSpPr>
            <p:cNvPr id="112" name=""/>
            <p:cNvSpPr/>
            <p:nvPr/>
          </p:nvSpPr>
          <p:spPr>
            <a:xfrm rot="3630600">
              <a:off x="7005600" y="2475360"/>
              <a:ext cx="457200" cy="144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630600">
              <a:off x="6948360" y="2447280"/>
              <a:ext cx="27000" cy="507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915800" y="3292560"/>
            <a:ext cx="676080" cy="524880"/>
            <a:chOff x="4915800" y="3292560"/>
            <a:chExt cx="676080" cy="524880"/>
          </a:xfrm>
        </p:grpSpPr>
        <p:sp>
          <p:nvSpPr>
            <p:cNvPr id="115" name=""/>
            <p:cNvSpPr/>
            <p:nvPr/>
          </p:nvSpPr>
          <p:spPr>
            <a:xfrm rot="3630600">
              <a:off x="5187600" y="3454560"/>
              <a:ext cx="457200" cy="14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3630600">
              <a:off x="5130360" y="3425760"/>
              <a:ext cx="27000" cy="509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98080" y="4115160"/>
            <a:ext cx="676080" cy="524880"/>
            <a:chOff x="2998080" y="4115160"/>
            <a:chExt cx="676080" cy="524880"/>
          </a:xfrm>
        </p:grpSpPr>
        <p:sp>
          <p:nvSpPr>
            <p:cNvPr id="118" name=""/>
            <p:cNvSpPr/>
            <p:nvPr/>
          </p:nvSpPr>
          <p:spPr>
            <a:xfrm rot="3630600">
              <a:off x="3269880" y="4277160"/>
              <a:ext cx="457200" cy="145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630600">
              <a:off x="3212640" y="4248360"/>
              <a:ext cx="27000" cy="509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28920" y="3933720"/>
            <a:ext cx="171432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9760" y="3228840"/>
            <a:ext cx="171468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5120" y="2419200"/>
            <a:ext cx="1714320" cy="152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4200" y="1409760"/>
            <a:ext cx="1714680" cy="152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55920" y="4130640"/>
            <a:ext cx="162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Performance Comparisons for Hospitals, MDs &amp; T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376440"/>
            <a:ext cx="1562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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Market Sensitivity to Hospital/MD Quality &amp;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05320" y="263052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Clinical Re-engineering by MDs, Hospitals </a:t>
            </a:r>
            <a:br>
              <a:rPr sz="1600"/>
            </a:b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&amp; Suppl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34360" y="1790640"/>
            <a:ext cx="137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Quality 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</a:t>
            </a:r>
            <a:r>
              <a:rPr b="1" lang="en-US" sz="16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Costs </a:t>
            </a:r>
            <a:r>
              <a:rPr b="1" i="1" lang="en-US" sz="1600" spc="-1" strike="noStrike">
                <a:solidFill>
                  <a:srgbClr val="000514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Wingdings"/>
                <a:ea typeface="Wingdings"/>
              </a:rPr>
              <a:t>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681840" y="332208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of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ndi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5924520"/>
            <a:ext cx="32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Evolutionary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6120" y="138924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4200" y="559440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589932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36080" y="59119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82120" y="34466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1800" y="2371680"/>
            <a:ext cx="12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w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23840" y="15145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abl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1679400"/>
            <a:ext cx="0" cy="412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95480" y="58039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4960" y="892080"/>
            <a:ext cx="4803840" cy="5965920"/>
          </a:xfrm>
          <a:prstGeom prst="rect">
            <a:avLst/>
          </a:prstGeom>
          <a:solidFill>
            <a:srgbClr val="00cc00"/>
          </a:solidFill>
          <a:ln w="12600">
            <a:solidFill>
              <a:srgbClr val="2d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9360" y="1874880"/>
            <a:ext cx="39290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leapfroggroup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wealth Fund Spons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2680" y="1020600"/>
            <a:ext cx="4579560" cy="5751360"/>
            <a:chOff x="382680" y="1020600"/>
            <a:chExt cx="4579560" cy="57513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rcRect l="4104" t="28121" r="50834" b="8731"/>
            <a:stretch/>
          </p:blipFill>
          <p:spPr>
            <a:xfrm>
              <a:off x="382680" y="2495880"/>
              <a:ext cx="4579560" cy="42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rcRect l="163" t="10813" r="0" b="22435"/>
            <a:stretch/>
          </p:blipFill>
          <p:spPr>
            <a:xfrm>
              <a:off x="384120" y="1020600"/>
              <a:ext cx="4574880" cy="146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1520" y="4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wing Number of Initi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1800" y="1652760"/>
            <a:ext cx="3591000" cy="42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iabetes Care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8080" y="2127240"/>
            <a:ext cx="76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Using Evidence-Based Literature and Actuarial 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9360" y="2724120"/>
            <a:ext cx="685440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Quality Care Saves $350/Diabetic/Ye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3160" indent="-345960">
              <a:lnSpc>
                <a:spcPct val="5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9528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urchaser Keeps $1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2840" indent="-395280">
              <a:lnSpc>
                <a:spcPct val="100000"/>
              </a:lnSpc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hysicians Get $100/Patient Incentives $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26720" y="4521240"/>
            <a:ext cx="6883200" cy="128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All Pay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For Practice with 100 Diabetics - $10,000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</a:rPr>
              <a:t>For Diabetes Clinic with 1,000 Diabetics - $100,000/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6200" y="2066760"/>
            <a:ext cx="8259840" cy="3892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dges to Excel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516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allen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" y="915840"/>
            <a:ext cx="837216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ctors Signing Up . . . . . . . 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Slow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wards Being Paid Out . . . .But Not Enou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yers Expanding. . . . . . . . 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Not Fast Enou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ient Incentives Present . . . But Not Sufficientl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bu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luations in Process . . . . . But Business for Qualit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Unprov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6440" y="-38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5360" y="1425600"/>
            <a:ext cx="8726040" cy="5035320"/>
            <a:chOff x="225360" y="1425600"/>
            <a:chExt cx="8726040" cy="50353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2827" t="0" r="4828" b="0"/>
            <a:stretch/>
          </p:blipFill>
          <p:spPr>
            <a:xfrm>
              <a:off x="225360" y="1425600"/>
              <a:ext cx="872604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090680" y="3054960"/>
              <a:ext cx="130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6880" y="3123360"/>
              <a:ext cx="134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85720" y="2734200"/>
              <a:ext cx="2880" cy="3367800"/>
            </a:xfrm>
            <a:prstGeom prst="line">
              <a:avLst/>
            </a:prstGeom>
            <a:ln w="93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582200" y="4422240"/>
              <a:ext cx="6888240" cy="2160"/>
            </a:xfrm>
            <a:prstGeom prst="line">
              <a:avLst/>
            </a:prstGeom>
            <a:ln w="93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5760" y="5137200"/>
              <a:ext cx="134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27240" y="4455000"/>
              <a:ext cx="13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88800" y="510912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3120" y="5104080"/>
              <a:ext cx="13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14800" y="4366440"/>
              <a:ext cx="134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514"/>
                  </a:solidFill>
                  <a:latin typeface="Arial"/>
                </a:rPr>
                <a:t>Hospital 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Leapfrog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604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g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8560" y="1168560"/>
            <a:ext cx="5283000" cy="55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 Sum Game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icient Rew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Eng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Associ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Sel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ing to the Measure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147680" indent="-344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Net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7680" indent="-517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Galvi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8:26:33Z</dcterms:created>
  <dc:creator>Jim Lee</dc:creator>
  <dc:description/>
  <dc:language>en-US</dc:language>
  <cp:lastModifiedBy>Jim Lee</cp:lastModifiedBy>
  <dcterms:modified xsi:type="dcterms:W3CDTF">2004-10-18T19:09:2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354049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