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C0A9-4E32-4464-80E5-9EBFA5ED8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A9B6-013B-4DC2-9EBC-7CD06670C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9A29-C617-499D-9D51-15F5AC2A2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8CD1-B6C2-4BFC-A0E2-3D13D8F23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C2ACB-0BFD-4C49-9F2F-83E6B567F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55842-13EF-4F3A-9801-CD7A99F70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F12E6-B1BB-4EF5-81B7-B50F67458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727BE-776D-4D49-BBAB-C5D30040B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130E3-14BF-4265-9571-5D2532403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F0F72-5A17-4875-9C36-0C573BFDB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1305E-40D5-447E-AF28-AEED4BD7B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251E-E4AB-454B-BD8C-799F20E41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3CF26-44F7-41E5-B113-F18821F9B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1A11E-0922-4FAD-AE83-F30E83181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95478-94F0-40A5-8A12-6F25C4CF4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AD232-E1CB-4A59-AA97-F71645E3D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8B029-789C-48C2-AFE5-76F1F3664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8420-90EB-4CF6-B09F-816014E3F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46F1-7A39-4477-8FC7-65401E9CA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F501-ABF2-4D19-A764-AE57F8C77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2BCA-D0C7-488A-A8CE-EB707601A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5911-7E64-4E8F-9DE8-120298743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DFFB-F79E-4F15-A3FD-A2BC2560B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83A5-618E-4AB6-8B6E-0B1356261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7C0FD-CDB8-4B94-BD3C-DCAAFAAFFB96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DD5A8-DF35-4CCC-AF49-8508F10B5355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3800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0" name="FoxhallEmail%20pic" descr=""/>
          <p:cNvPicPr/>
          <p:nvPr/>
        </p:nvPicPr>
        <p:blipFill>
          <a:blip r:embed="rId1"/>
          <a:stretch/>
        </p:blipFill>
        <p:spPr>
          <a:xfrm>
            <a:off x="5486400" y="2590920"/>
            <a:ext cx="3378240" cy="4114800"/>
          </a:xfrm>
          <a:prstGeom prst="rect">
            <a:avLst/>
          </a:prstGeom>
          <a:ln w="0">
            <a:noFill/>
          </a:ln>
        </p:spPr>
      </p:pic>
      <p:pic>
        <p:nvPicPr>
          <p:cNvPr id="101" name="mdalogtc" descr=""/>
          <p:cNvPicPr/>
          <p:nvPr/>
        </p:nvPicPr>
        <p:blipFill>
          <a:blip r:embed="rId2"/>
          <a:stretch/>
        </p:blipFill>
        <p:spPr>
          <a:xfrm>
            <a:off x="1143000" y="152280"/>
            <a:ext cx="7162920" cy="22100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609480" y="2971800"/>
            <a:ext cx="4572000" cy="459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Lewis Foxhall, MD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Associate Vice-President Health Policy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Public Reporting In Texa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6197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exas Healthcare Information Council (THCIC) formed in 1995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egislative purpose: Enhance informed healthcare choices by consumers and purchaser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andate: Collect and report data on TX hospitals and HMOs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5" name="texas" descr=""/>
          <p:cNvPicPr/>
          <p:nvPr/>
        </p:nvPicPr>
        <p:blipFill>
          <a:blip r:embed="rId1"/>
          <a:stretch/>
        </p:blipFill>
        <p:spPr>
          <a:xfrm>
            <a:off x="6095880" y="4952880"/>
            <a:ext cx="30481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Selecting Measures: 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Our Option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Option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Evaluation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linical measures 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xpensive, hard to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rom abstracted records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validat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New measures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hallenging to develop,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rom claims data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an’t compare to other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tat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HRQ QI’s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Validated, tools availabl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rom claims data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or risk adjustment an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reporting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Indicators in Hospital Report: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Volume Indicator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Risk Adjusted Mortality for Procedure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Risk Adjusted Mortality for Condition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Utilization Indicator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Display of Text at 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top of CABG repor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11" name="texaschartcrop_1" descr=""/>
          <p:cNvPicPr/>
          <p:nvPr/>
        </p:nvPicPr>
        <p:blipFill>
          <a:blip r:embed="rId1"/>
          <a:stretch/>
        </p:blipFill>
        <p:spPr>
          <a:xfrm>
            <a:off x="228600" y="2590920"/>
            <a:ext cx="8675640" cy="34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Display of top of data table for CABG Repor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13" name="texaschartcut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76960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Information Flow for Hospital Dat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09480" y="1752480"/>
            <a:ext cx="1447920" cy="76212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" y="1905120"/>
            <a:ext cx="1295280" cy="45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ospit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286000" y="1752480"/>
            <a:ext cx="1447920" cy="76212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62320" y="19051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ospit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886200" y="1752480"/>
            <a:ext cx="1447920" cy="76212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962520" y="19051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ospit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562720" y="1752480"/>
            <a:ext cx="1447560" cy="76212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638680" y="19051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ospit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1752480"/>
            <a:ext cx="1447920" cy="76212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391520" y="19051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ospit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048120" y="2971800"/>
            <a:ext cx="3276360" cy="459720"/>
          </a:xfrm>
          <a:prstGeom prst="rect">
            <a:avLst/>
          </a:prstGeom>
          <a:noFill/>
          <a:ln w="414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orm 837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791320" y="2514600"/>
            <a:ext cx="1752480" cy="45720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5410080" y="2514600"/>
            <a:ext cx="457200" cy="45720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0" y="2514600"/>
            <a:ext cx="0" cy="45720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971800" y="2514600"/>
            <a:ext cx="533520" cy="45720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828800" y="2514600"/>
            <a:ext cx="1371600" cy="45720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1080" y="3657600"/>
            <a:ext cx="5410440" cy="581400"/>
          </a:xfrm>
          <a:prstGeom prst="rect">
            <a:avLst/>
          </a:prstGeom>
          <a:solidFill>
            <a:srgbClr val="230f9d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f9"/>
                </a:solidFill>
                <a:latin typeface="Times New Roman"/>
              </a:rPr>
              <a:t>Data Repositor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0" y="3429000"/>
            <a:ext cx="0" cy="22860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1828800" cy="12189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219320" y="457200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0011"/>
                </a:solidFill>
                <a:latin typeface="Times New Roman"/>
              </a:rPr>
              <a:t>Public Use Fi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886200" y="4419720"/>
            <a:ext cx="1828800" cy="12189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4419720"/>
            <a:ext cx="16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0011"/>
                </a:solidFill>
                <a:latin typeface="Times New Roman"/>
              </a:rPr>
              <a:t>Hospital Utilization Report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0" y="4419720"/>
            <a:ext cx="1828800" cy="12189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010280" y="4343400"/>
            <a:ext cx="16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0011"/>
                </a:solidFill>
                <a:latin typeface="Times New Roman"/>
              </a:rPr>
              <a:t>Web Based Quality Repor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143000" y="5943600"/>
            <a:ext cx="6705720" cy="9144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6035760"/>
            <a:ext cx="464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30f9d"/>
                </a:solidFill>
                <a:latin typeface="Times New Roman"/>
              </a:rPr>
              <a:t>Consumers, Hospitals, Purchasers &amp; Other End User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057400" y="5638680"/>
            <a:ext cx="457200" cy="38124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00600" y="5638680"/>
            <a:ext cx="0" cy="30492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933960" y="5638680"/>
            <a:ext cx="609480" cy="45720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209680" y="4267080"/>
            <a:ext cx="0" cy="15264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724280" y="4267080"/>
            <a:ext cx="0" cy="15264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238880" y="4267080"/>
            <a:ext cx="0" cy="15264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Users of TX Hospital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Quality Informatio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eb site use by consumer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ublic use file purchased by hospitals and consumer group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ata shared within hospitals working on quality improvement project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anaged care organizations and purchasers exploring potential us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Statewide Mortality Rate Trends: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Highest Volume Procedures and Condition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28600" y="2046240"/>
          <a:ext cx="8686800" cy="4811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046240"/>
                    <a:ext cx="8686800" cy="481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9T17:50:49Z</dcterms:created>
  <dc:creator>kaschkeh</dc:creator>
  <dc:description/>
  <dc:language>en-US</dc:language>
  <cp:lastModifiedBy>kaschkeh</cp:lastModifiedBy>
  <dcterms:modified xsi:type="dcterms:W3CDTF">2004-10-28T14:06:08Z</dcterms:modified>
  <cp:revision>2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816600090</vt:r8>
  </property>
  <property fmtid="{D5CDD505-2E9C-101B-9397-08002B2CF9AE}" pid="3" name="_AuthorEmail">
    <vt:lpwstr>JRuhl@ahrq.gov</vt:lpwstr>
  </property>
  <property fmtid="{D5CDD505-2E9C-101B-9397-08002B2CF9AE}" pid="4" name="_AuthorEmailDisplayName">
    <vt:lpwstr>Ruhl, Jessica</vt:lpwstr>
  </property>
  <property fmtid="{D5CDD505-2E9C-101B-9397-08002B2CF9AE}" pid="5" name="_EmailSubject">
    <vt:lpwstr>Buyright Web Conference</vt:lpwstr>
  </property>
</Properties>
</file>