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2FA-C048-480D-8A99-35188E1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362-E746-4954-BFBC-F62B1A1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95F-E159-4445-9D93-FF669EB6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AAB-4AB6-4842-A1DF-4ED21E5D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CD54-C2A3-459B-AEC8-33AEABED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F5CF-55D8-4901-9CEF-71CBE60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2F8-B813-46D4-9B00-81CB631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F10-66C2-44F3-B02B-F7CF840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637-2BE2-43C7-8DFE-5EBE2DB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0A9D-7D9B-4FE6-9ADF-EF89D99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DB5A-22C9-4E07-B2F0-DBAED78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1F2-061F-4A85-9BFE-2CA1CE28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6BB0-92F5-4A94-9EFC-743339A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D53E-9FF3-40AC-91C7-40A9A2E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68B7-480A-4D77-BADA-7CE93955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EE0-A376-4C7E-95BC-CED51BA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0777-ED2B-4B82-95B4-37262B89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7D6-689E-44AE-96A1-C505F5F3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858-1C22-4275-9FA5-AEA6882E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8CE-3C5B-4647-8F7D-743CD75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F5E-9BC3-497E-8B5A-F044761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F0C-0C71-480D-AEEF-036B726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D0D-FE67-45C7-AAD9-2EB43FA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BBA-3A32-4F17-AC85-7660829D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3667-EA07-4B74-A75A-3E44EC24CB7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B49-02C8-434E-9F8B-CEBC4AC867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FoxhallEmail%20pic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337824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mdalogtc" descr=""/>
          <p:cNvPicPr/>
          <p:nvPr/>
        </p:nvPicPr>
        <p:blipFill>
          <a:blip r:embed="rId2"/>
          <a:stretch/>
        </p:blipFill>
        <p:spPr>
          <a:xfrm>
            <a:off x="1143000" y="152280"/>
            <a:ext cx="7162920" cy="2210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2971800"/>
            <a:ext cx="457200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ewis Foxhall, M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ssociate Vice-President Health Polic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ublic Reporting In Tex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xas Healthcare Information Council (THCIC) formed in 199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gislative purpose: Enhance informed healthcare choices by consumers and purcha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date: Collect and report data on TX hospitals and HM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texas" descr=""/>
          <p:cNvPicPr/>
          <p:nvPr/>
        </p:nvPicPr>
        <p:blipFill>
          <a:blip r:embed="rId1"/>
          <a:stretch/>
        </p:blipFill>
        <p:spPr>
          <a:xfrm>
            <a:off x="6095880" y="4952880"/>
            <a:ext cx="3048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electing Measures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ur Op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Option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valu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nical measures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nsive, hard 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abstracted record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lid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measur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llenging to develop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claims dat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compare to othe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HRQ QI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lidated, tools avai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om claims da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risk adjustment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por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dicators in Hospital Report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Volume Indic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isk Adjusted Mortality for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isk Adjusted Mortality for Condi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Utilization Indic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lay of Text at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p of CABG repo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texaschartcrop_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75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splay of top of data table for CABG Repor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3" name="texaschartcut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formation Flow for Hospital Da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05120"/>
            <a:ext cx="12952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1752480"/>
            <a:ext cx="144756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1752480"/>
            <a:ext cx="14479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971800"/>
            <a:ext cx="3276360" cy="459720"/>
          </a:xfrm>
          <a:prstGeom prst="rect">
            <a:avLst/>
          </a:prstGeom>
          <a:noFill/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m 8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791320" y="2514600"/>
            <a:ext cx="175248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514600"/>
            <a:ext cx="533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514600"/>
            <a:ext cx="13716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657600"/>
            <a:ext cx="5410440" cy="581400"/>
          </a:xfrm>
          <a:prstGeom prst="rect">
            <a:avLst/>
          </a:prstGeom>
          <a:solidFill>
            <a:srgbClr val="230f9d"/>
          </a:solidFill>
          <a:ln w="93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f9"/>
                </a:solidFill>
                <a:latin typeface="Times New Roman"/>
              </a:rPr>
              <a:t>Data Reposi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Public Use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197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Hospital Utilization Re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18288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3434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Web Based Quality Re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943600"/>
            <a:ext cx="6705720" cy="914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60357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f9d"/>
                </a:solidFill>
                <a:latin typeface="Times New Roman"/>
              </a:rPr>
              <a:t>Consumers, Hospitals, Purchasers &amp; Other End Us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5638680"/>
            <a:ext cx="457200" cy="381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638680"/>
            <a:ext cx="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3960" y="5638680"/>
            <a:ext cx="60948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Users of TX Hospital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Quality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b site use by consu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blic use file purchased by hospitals and consumer grou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shared within hospitals working on quality improvement pro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d care organizations and purchasers exploring potential u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atewide Mortality Rate Trend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ghest Volume Procedures and Condi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8600" y="2046240"/>
          <a:ext cx="86868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46240"/>
                    <a:ext cx="86868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7:50:49Z</dcterms:created>
  <dc:creator>kaschkeh</dc:creator>
  <dc:description/>
  <dc:language>en-US</dc:language>
  <cp:lastModifiedBy>kaschkeh</cp:lastModifiedBy>
  <dcterms:modified xsi:type="dcterms:W3CDTF">2004-10-28T14:06:0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660009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