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5C39-94F5-4E0F-B57B-D249AF6E5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7B7-B385-44DF-AC83-F912E45E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F8E-219B-49E5-B687-5D52A37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781-BB96-463A-B8CD-A31DBF4D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8DF-E129-4D90-9FEF-07B8B712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7F9-99B0-4F2D-BD89-E6845A5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586-F92A-4064-B762-01AA8E52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4A8-1986-4721-9F7C-C5E3F430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7DC-89F3-4797-ACF1-6F1301A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801-CD13-4CC0-A780-F778417E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44C-CF4A-431A-8EE5-A576FE2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372-9CB3-4B34-98C2-9E5B394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DDB-3B83-4A35-B358-8292502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416-7692-4ACC-BE6E-DC5D0E78F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Using Incentives to Improve Quality in Health Care: Key Concepts and Review of the Literatur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. Adams Dudley, MD, MBA, Jason Talavera, Harold S. Luft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ity of California, San Francis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ne Frolich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spebjerg Hospital, University of 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ter Broadh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stralian Dept of Health and Ag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p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gency for Healthcare Research and Quality, Commonwealth F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12040" y="3657600"/>
            <a:ext cx="233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onceptual Considerations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haracteristics of the Incenti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Magnitude of a financial incen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Reputational effects from public repor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Costs of comp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9C2-20A1-4FB9-BF68-FEC70DDBD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onceptual Considerations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Factors External to the Incenti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Business environment (e.g., FFS vs. capitation, alternative incentive progra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pecific characteristics of the provider (e.g., years since training, work load before the incent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Organizational characteristics of the provider’s group (e.g., information technology avail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Patient factors (e.g., education level, willingness to take on self-c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D5C-EE5B-4A14-93FB-23EE9F305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84280"/>
            <a:ext cx="1800000" cy="19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Incentiv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Revenue Potent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Direct and Opportunity Costs of Comply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Non-financial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419112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atient fac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581280"/>
            <a:ext cx="2736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Organization’s capabilities and 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24280"/>
            <a:ext cx="18000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’s “Need” to respond to the incen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484280"/>
            <a:ext cx="1800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Group (if applicabl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220500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1484280"/>
            <a:ext cx="2736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General Financial Environment; Other Incen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495680"/>
            <a:ext cx="3744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response: change in care structure or 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5" idx="3"/>
            <a:endCxn id="59" idx="1"/>
          </p:cNvCxnSpPr>
          <p:nvPr/>
        </p:nvCxnSpPr>
        <p:spPr>
          <a:xfrm flipV="1">
            <a:off x="2268360" y="1747080"/>
            <a:ext cx="648360" cy="69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4" name=""/>
          <p:cNvCxnSpPr>
            <a:stCxn id="55" idx="3"/>
            <a:endCxn id="58" idx="1"/>
          </p:cNvCxnSpPr>
          <p:nvPr/>
        </p:nvCxnSpPr>
        <p:spPr>
          <a:xfrm>
            <a:off x="2268360" y="2440080"/>
            <a:ext cx="648360" cy="854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5" name=""/>
          <p:cNvCxnSpPr>
            <a:stCxn id="59" idx="2"/>
            <a:endCxn id="58" idx="0"/>
          </p:cNvCxnSpPr>
          <p:nvPr/>
        </p:nvCxnSpPr>
        <p:spPr>
          <a:xfrm>
            <a:off x="3816000" y="2011320"/>
            <a:ext cx="1080" cy="913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6" name=""/>
          <p:cNvCxnSpPr>
            <a:stCxn id="61" idx="1"/>
            <a:endCxn id="59" idx="3"/>
          </p:cNvCxnSpPr>
          <p:nvPr/>
        </p:nvCxnSpPr>
        <p:spPr>
          <a:xfrm flipH="1">
            <a:off x="4715640" y="1747440"/>
            <a:ext cx="1296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7" name=""/>
          <p:cNvCxnSpPr>
            <a:stCxn id="61" idx="1"/>
            <a:endCxn id="58" idx="3"/>
          </p:cNvCxnSpPr>
          <p:nvPr/>
        </p:nvCxnSpPr>
        <p:spPr>
          <a:xfrm flipH="1">
            <a:off x="4715640" y="1747440"/>
            <a:ext cx="1296360" cy="1546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8" name=""/>
          <p:cNvCxnSpPr>
            <a:stCxn id="60" idx="1"/>
            <a:endCxn id="59" idx="3"/>
          </p:cNvCxnSpPr>
          <p:nvPr/>
        </p:nvCxnSpPr>
        <p:spPr>
          <a:xfrm flipH="1" flipV="1">
            <a:off x="4715640" y="1747080"/>
            <a:ext cx="1296360" cy="61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9" name=""/>
          <p:cNvCxnSpPr>
            <a:stCxn id="57" idx="1"/>
            <a:endCxn id="70" idx="0"/>
          </p:cNvCxnSpPr>
          <p:nvPr/>
        </p:nvCxnSpPr>
        <p:spPr>
          <a:xfrm flipH="1">
            <a:off x="4114440" y="3844440"/>
            <a:ext cx="1897920" cy="289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71" name=""/>
          <p:cNvCxnSpPr>
            <a:endCxn id="70" idx="1"/>
          </p:cNvCxnSpPr>
          <p:nvPr/>
        </p:nvCxnSpPr>
        <p:spPr>
          <a:xfrm flipH="1" flipV="1">
            <a:off x="4114440" y="4133880"/>
            <a:ext cx="1891440" cy="13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72" name=""/>
          <p:cNvSpPr/>
          <p:nvPr/>
        </p:nvSpPr>
        <p:spPr>
          <a:xfrm>
            <a:off x="179280" y="836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Intervention 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836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Recipient of Incen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836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Predisposing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3176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Enabling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733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1120" y="228600"/>
            <a:ext cx="530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Model of An Individual Provider’s Response to Incen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74320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Market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"/>
          <p:cNvCxnSpPr>
            <a:endCxn id="58" idx="3"/>
          </p:cNvCxnSpPr>
          <p:nvPr/>
        </p:nvCxnSpPr>
        <p:spPr>
          <a:xfrm flipH="1">
            <a:off x="4715640" y="2362320"/>
            <a:ext cx="1304280" cy="9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 flipH="1">
            <a:off x="4799880" y="2895120"/>
            <a:ext cx="122796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80" name=""/>
          <p:cNvCxnSpPr>
            <a:endCxn id="59" idx="3"/>
          </p:cNvCxnSpPr>
          <p:nvPr/>
        </p:nvCxnSpPr>
        <p:spPr>
          <a:xfrm flipH="1" flipV="1">
            <a:off x="4715640" y="1747800"/>
            <a:ext cx="1312200" cy="1148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81" name=""/>
          <p:cNvCxnSpPr/>
          <p:nvPr/>
        </p:nvCxnSpPr>
        <p:spPr>
          <a:xfrm flipH="1" flipV="1">
            <a:off x="4038120" y="2285280"/>
            <a:ext cx="1990080" cy="160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2133720" y="5526000"/>
            <a:ext cx="3744720" cy="10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Outcomes--change i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Clinical performance measur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Non-financial outcomes for the provider (e.g., provider satisfac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Financial results for the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2560" y="486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114880"/>
            <a:ext cx="380880" cy="3430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alue-Based Purchasing (VBP)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What is Know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Only 9 randomized trials of incentives to improv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Two general find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-  Providers respond appropriately to financial incen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-  Providers respond appropriately to public release of performanc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23E-8088-4912-ABAF-DBFB13C21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Incentives Can Work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In some circumstances, providers respond to financial incentiv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Paid residents their salary plus $2/visit scheduled vs. $20/month for attending cli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FFS-incentivized residents did better complying with well-child care recommendations and continuity…for $2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Times New Roman"/>
              </a:rPr>
              <a:t>Reference: Hickson et al. Pediatrics 1987;80(3):3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1C8-A5EC-4263-851F-90F635601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ublic Reporting of Quality Measurements: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Impact on hospitals with poor scores*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76520"/>
          <a:ext cx="780876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457200" y="1676520"/>
                    <a:ext cx="7808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5715000"/>
            <a:ext cx="84582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(p &lt; .001, N=3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Reference: Hibbard et al. Health Affairs 2003;22(4):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94F-39AD-4D15-8B0A-665E43E9DC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 Results by Topic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Uncertainty about the chance of success may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FFS: 4 positive studies, one ne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Bonus for hitting a compliance rate targ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two positive, three neg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two negative were for a ~10-20% chance of getting a bonus if performance better than other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262-DB8A-4BEE-BE4B-0D3139E00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 What is still unknow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How big do incentives need to b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Does it matter if you’re adding incentives to a fee-for-service or a capitated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hould they focus on individual providers or grou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hould there be incentives to adopt enabling technologies (e.g., information systems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Does using incentives save purchasers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B8-848B-4E30-9438-50C991107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6:29:03Z</dcterms:created>
  <dc:creator>Trial User</dc:creator>
  <dc:description/>
  <dc:language>en-US</dc:language>
  <cp:lastModifiedBy>AHRQ</cp:lastModifiedBy>
  <dcterms:modified xsi:type="dcterms:W3CDTF">2004-11-09T15:40:07Z</dcterms:modified>
  <cp:revision>209</cp:revision>
  <dc:subject/>
  <dc:title>Clinician Responses to Specific Financial Incentives to Improve 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776231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