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94640" y="6219720"/>
            <a:ext cx="1144440" cy="369720"/>
            <a:chOff x="7694640" y="6219720"/>
            <a:chExt cx="1144440" cy="369720"/>
          </a:xfrm>
        </p:grpSpPr>
        <p:sp>
          <p:nvSpPr>
            <p:cNvPr id="6" name=""/>
            <p:cNvSpPr/>
            <p:nvPr/>
          </p:nvSpPr>
          <p:spPr>
            <a:xfrm>
              <a:off x="8021520" y="6294240"/>
              <a:ext cx="27036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29200" y="6219720"/>
              <a:ext cx="31500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12360" y="6312600"/>
              <a:ext cx="11304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86080" y="6355800"/>
              <a:ext cx="11664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94640" y="6514920"/>
              <a:ext cx="12528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85040" y="6294240"/>
              <a:ext cx="2527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1520" y="6449760"/>
              <a:ext cx="18756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28400" y="6275880"/>
              <a:ext cx="2876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7808760" y="5986440"/>
            <a:ext cx="90828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69920" y="152280"/>
            <a:ext cx="879480" cy="94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26000" y="5703840"/>
            <a:ext cx="1590120" cy="848880"/>
            <a:chOff x="3726000" y="5703840"/>
            <a:chExt cx="1590120" cy="848880"/>
          </a:xfrm>
        </p:grpSpPr>
        <p:grpSp>
          <p:nvGrpSpPr>
            <p:cNvPr id="54" name=""/>
            <p:cNvGrpSpPr/>
            <p:nvPr/>
          </p:nvGrpSpPr>
          <p:grpSpPr>
            <a:xfrm>
              <a:off x="3735000" y="5717160"/>
              <a:ext cx="1581120" cy="835560"/>
              <a:chOff x="3735000" y="5717160"/>
              <a:chExt cx="1581120" cy="835560"/>
            </a:xfrm>
          </p:grpSpPr>
          <p:sp>
            <p:nvSpPr>
              <p:cNvPr id="55" name=""/>
              <p:cNvSpPr/>
              <p:nvPr/>
            </p:nvSpPr>
            <p:spPr>
              <a:xfrm>
                <a:off x="3886560" y="5717160"/>
                <a:ext cx="125352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186080" y="6143760"/>
                <a:ext cx="37368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3600" y="6040800"/>
                <a:ext cx="43524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98080" y="616968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61000" y="6229440"/>
                <a:ext cx="16164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35000" y="644976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51120" y="6143760"/>
                <a:ext cx="34956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56920" y="635976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886640" y="6117840"/>
                <a:ext cx="39816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877920" y="5703840"/>
              <a:ext cx="1252800" cy="61668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726000" y="6027480"/>
              <a:ext cx="1581480" cy="511200"/>
              <a:chOff x="3726000" y="6027480"/>
              <a:chExt cx="1581480" cy="511200"/>
            </a:xfrm>
          </p:grpSpPr>
          <p:sp>
            <p:nvSpPr>
              <p:cNvPr id="66" name=""/>
              <p:cNvSpPr/>
              <p:nvPr/>
            </p:nvSpPr>
            <p:spPr>
              <a:xfrm>
                <a:off x="4177800" y="6130800"/>
                <a:ext cx="373320" cy="37260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73880" y="6027480"/>
                <a:ext cx="435240" cy="47592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88720" y="615600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52360" y="6215760"/>
                <a:ext cx="16092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6000" y="6435720"/>
                <a:ext cx="172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42120" y="6130800"/>
                <a:ext cx="34920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48280" y="634572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78000" y="6105240"/>
                <a:ext cx="39744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0" y="3289320"/>
            <a:ext cx="7986240" cy="19080"/>
            <a:chOff x="0" y="3289320"/>
            <a:chExt cx="7986240" cy="19080"/>
          </a:xfrm>
        </p:grpSpPr>
        <p:sp>
          <p:nvSpPr>
            <p:cNvPr id="75" name=""/>
            <p:cNvSpPr/>
            <p:nvPr/>
          </p:nvSpPr>
          <p:spPr>
            <a:xfrm>
              <a:off x="5400" y="33084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2893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26000" y="380880"/>
            <a:ext cx="1523880" cy="1633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ying for Performance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roductory Com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39560" y="3428640"/>
            <a:ext cx="6436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olyn Clancy,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tober 21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729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01 IOM Report: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rossing the Quality Chas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rious problems in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tween the health care we have and the care we could have lies not just a gap but a ch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blems come from poor systems…Not ba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sm stems from two overarch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w we pay for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w we organize and structure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need improved info.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 Role in Measurement and Data  for Incentives 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tracking and 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9736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care Quality and Disparities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local experience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9736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HPS for plans, hospitals, nursing home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hospital quality and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9736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atient Quality Indicators, Patient Safety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potentially avoidable ad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9736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ion Quality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owing Private Sector Interes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enthal et al (Health Affairs 2004) identified 37 separate incentive plans representing 31 different p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arding Results Demonst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 Cross Blue Shield of Michi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 Cross of Califo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dges to Excel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Health Care Strategies/Medi-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lus/Rochester I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d Healthcare Assoc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achusetts Health Plan Quality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7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aming Observ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incentives are inherent i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y and 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yment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question of incentives vs. no incentives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tended incentives can be as strong as intended 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incentives are just one force shaping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4:20:03Z</dcterms:created>
  <dc:creator>DStryer</dc:creator>
  <dc:description/>
  <dc:language>en-US</dc:language>
  <cp:lastModifiedBy>AHRQ</cp:lastModifiedBy>
  <dcterms:modified xsi:type="dcterms:W3CDTF">2004-11-09T15:36:41Z</dcterms:modified>
  <cp:revision>1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4758195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