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453-1BF6-4A63-B0EE-30387300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011-64B6-439E-8513-9C5EA55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1A1-728C-4D2D-B94B-72A01716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934-AE85-4C3A-979D-EF20388E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19C-D281-434B-822B-65F29531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19F7-2CC1-418B-8A5E-8B0A053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7BBC-999C-4D46-B69C-EDD16654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24D3-0FAD-46CB-94D2-A6FD89D1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FA53-7AC2-4107-A17F-934A68EB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88F3-0765-4360-8E0A-E19E110F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9F4D-0650-4493-9A3B-F9AFE02B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83D-CFF4-4856-8CFE-C0A58C7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3B8C-CEA2-4B6B-805B-978042C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2DA6-B0DC-4580-804E-27CD039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133-F02A-47E5-9D48-4E53C52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0C10-E11F-46FB-A5FC-AFBECBF7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B816-48DF-44B9-BB04-D6FC028D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919-2445-440D-9521-297B4209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E90-88CA-4831-8527-99641A0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2C4-6AF2-408B-B142-6FA1257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2B4-A028-4EE3-9278-16D1EC7A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63D-8010-47F8-A802-076EDA1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ABE-3728-426F-A839-8C78B21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A05-9F1B-4541-B23D-101EE81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D26-C81A-44AC-855C-463E403A5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E03A-1413-43F3-9961-748088D05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y Web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ident and C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webber" descr=""/>
          <p:cNvPicPr/>
          <p:nvPr/>
        </p:nvPicPr>
        <p:blipFill>
          <a:blip r:embed="rId1"/>
          <a:stretch/>
        </p:blipFill>
        <p:spPr>
          <a:xfrm>
            <a:off x="4875120" y="2057400"/>
            <a:ext cx="335448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logonbch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2392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ercent of hospitals with significant Improvements or Declines in OB Performance in the Post-Report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eriod: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77720" y="2027160"/>
          <a:ext cx="8188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27160"/>
                    <a:ext cx="8188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centage of hospitals who had poor scores at baseline and who improved their scores in the post-report perio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77720" y="2027160"/>
          <a:ext cx="8188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27160"/>
                    <a:ext cx="8188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eded Features for Quality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eature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HRQ QI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t Validation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y on available dat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sk adjust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dely used,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ative data availab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all Emph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t perfect be enemy of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chasers should be lead drivers of value-based purcha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reporting of standardized healthcare measures essential to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RQ to be congratulated for its 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 now to move from consensus on the value of the AHRQ Quality Indicators to rapid implementation and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ational Business Coalition on Heal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, non-profit, membership organiz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0 employer-based health coal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,000 employer members, 25 million cov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is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tablish value-based health care markets in every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ission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superior membership service and build the capacity of members to advance value based purchasin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osts of Poor Qua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5029200"/>
          <a:ext cx="609588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029200"/>
                    <a:ext cx="6095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38080" y="1360440"/>
          <a:ext cx="7467840" cy="435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360440"/>
                    <a:ext cx="746784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00200" y="4876920"/>
          <a:ext cx="609588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876920"/>
                    <a:ext cx="6095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5867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s of poor care: Misuse, underuse, overuse, waste-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uran Institute and MBGH 20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alue Based Purchasing: A Path Forwar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measur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reporting and recogni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 share mig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l reimburs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ccelerating the Pace to the Ultimate Goa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Quality and Health Status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3520" y="1371600"/>
            <a:ext cx="6401160" cy="4800240"/>
            <a:chOff x="1523520" y="1371600"/>
            <a:chExt cx="6401160" cy="4800240"/>
          </a:xfrm>
        </p:grpSpPr>
        <p:sp>
          <p:nvSpPr>
            <p:cNvPr id="107" name=""/>
            <p:cNvSpPr/>
            <p:nvPr/>
          </p:nvSpPr>
          <p:spPr>
            <a:xfrm>
              <a:off x="2895480" y="1371600"/>
              <a:ext cx="331452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1713960"/>
              <a:ext cx="72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4200" y="1713960"/>
              <a:ext cx="720" cy="343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520" y="2057040"/>
              <a:ext cx="125712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ive payment and regulatory environ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81000" y="2514240"/>
              <a:ext cx="45720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38200" y="2057040"/>
              <a:ext cx="125712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zations that facilitate the work of patient-centered tea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2057040"/>
              <a:ext cx="114300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 performing patient-centered tea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3080" y="2057040"/>
              <a:ext cx="137160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comes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ecti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ic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onaliz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l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qui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95680" y="2514240"/>
              <a:ext cx="457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1000" y="4571640"/>
              <a:ext cx="388620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DESIGN IMPERATIVES:  SIX CHALLE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engineered  care process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ective use of information technolog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nowledge and skills 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velopment of effective tea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 of care across patient-conditions,     services, sites of care overtim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king change possi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2514240"/>
              <a:ext cx="456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3543120"/>
              <a:ext cx="0" cy="570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4200" y="3543120"/>
              <a:ext cx="720" cy="570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610160" y="4114080"/>
              <a:ext cx="360" cy="456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4114440"/>
              <a:ext cx="1714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OM Strategy for Reinventing the Health Care Syste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formance Measuremen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Action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BCH Member Pro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8153280" cy="4114800"/>
        </p:xfrm>
        <a:graphic>
          <a:graphicData uri="http://schemas.openxmlformats.org/drawingml/2006/table">
            <a:tbl>
              <a:tblPr/>
              <a:tblGrid>
                <a:gridCol w="2344320"/>
                <a:gridCol w="1936440"/>
                <a:gridCol w="1936080"/>
                <a:gridCol w="19364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sure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lity Improvement Activ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 Repo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nancial Incen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Pl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vidual Praction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QualityCounts Hospital Report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n Alliance Initiati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d and disseminated report on 24 hospitals in S. Central 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d hospitals on complications and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risk adjusted administrativ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d public awareness of Repo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3886200"/>
          <a:ext cx="8533800" cy="2130480"/>
        </p:xfrm>
        <a:graphic>
          <a:graphicData uri="http://schemas.openxmlformats.org/drawingml/2006/table">
            <a:tbl>
              <a:tblPr/>
              <a:tblGrid>
                <a:gridCol w="2612520"/>
                <a:gridCol w="1132200"/>
                <a:gridCol w="1218960"/>
                <a:gridCol w="1218960"/>
                <a:gridCol w="1219320"/>
                <a:gridCol w="11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gional Hospit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rg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Surg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p/Kn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di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3505320" y="4648320"/>
            <a:ext cx="4875840" cy="1294560"/>
            <a:chOff x="3505320" y="4648320"/>
            <a:chExt cx="4875840" cy="129456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663080"/>
              <a:ext cx="176040" cy="1260720"/>
              <a:chOff x="3505320" y="4663080"/>
              <a:chExt cx="176040" cy="1260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505320" y="4663080"/>
                <a:ext cx="176040" cy="192600"/>
                <a:chOff x="3505320" y="4663080"/>
                <a:chExt cx="176040" cy="1926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505320" y="466308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540600" y="475920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93160" y="470304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505320" y="5015880"/>
                <a:ext cx="176040" cy="191880"/>
                <a:chOff x="3505320" y="5015880"/>
                <a:chExt cx="176040" cy="191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05320" y="5015880"/>
                  <a:ext cx="176040" cy="191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540240" y="5111640"/>
                  <a:ext cx="1058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93160" y="5055840"/>
                  <a:ext cx="0" cy="111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505320" y="5374440"/>
                <a:ext cx="176040" cy="192600"/>
                <a:chOff x="3505320" y="5374440"/>
                <a:chExt cx="176040" cy="1926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05320" y="537444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40600" y="54709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593160" y="541440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505320" y="5731200"/>
                <a:ext cx="176040" cy="192600"/>
                <a:chOff x="3505320" y="5731200"/>
                <a:chExt cx="176040" cy="192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505320" y="573120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540600" y="58273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93160" y="577116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4692240" y="4648320"/>
              <a:ext cx="179640" cy="1279800"/>
              <a:chOff x="4692240" y="4648320"/>
              <a:chExt cx="179640" cy="12798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692240" y="5735520"/>
                <a:ext cx="179640" cy="192600"/>
                <a:chOff x="4692240" y="5735520"/>
                <a:chExt cx="179640" cy="1926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92240" y="5735520"/>
                  <a:ext cx="179640" cy="192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32200" y="5830200"/>
                  <a:ext cx="100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92240" y="4648320"/>
                <a:ext cx="175680" cy="901800"/>
                <a:chOff x="4692240" y="4648320"/>
                <a:chExt cx="175680" cy="90180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4692240" y="4648320"/>
                  <a:ext cx="175680" cy="191880"/>
                  <a:chOff x="4692240" y="4648320"/>
                  <a:chExt cx="175680" cy="191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4692240" y="4648320"/>
                    <a:ext cx="175680" cy="1918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727160" y="474408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780080" y="4688280"/>
                    <a:ext cx="0" cy="11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4692240" y="4999320"/>
                  <a:ext cx="175680" cy="191880"/>
                  <a:chOff x="4692240" y="4999320"/>
                  <a:chExt cx="175680" cy="1918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4692240" y="4999320"/>
                    <a:ext cx="175680" cy="1918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727160" y="5095080"/>
                    <a:ext cx="10548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780080" y="5039280"/>
                    <a:ext cx="0" cy="11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692240" y="5357880"/>
                  <a:ext cx="175680" cy="192240"/>
                  <a:chOff x="4692240" y="5357880"/>
                  <a:chExt cx="175680" cy="1922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4692240" y="5357880"/>
                    <a:ext cx="175680" cy="19224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727160" y="545400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780080" y="5397840"/>
                    <a:ext cx="0" cy="11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4" name=""/>
            <p:cNvGrpSpPr/>
            <p:nvPr/>
          </p:nvGrpSpPr>
          <p:grpSpPr>
            <a:xfrm>
              <a:off x="5879520" y="4663080"/>
              <a:ext cx="176040" cy="1260720"/>
              <a:chOff x="5879520" y="4663080"/>
              <a:chExt cx="176040" cy="12607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879520" y="4663080"/>
                <a:ext cx="176040" cy="192600"/>
                <a:chOff x="5879520" y="4663080"/>
                <a:chExt cx="176040" cy="1926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79520" y="466308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914800" y="475920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967360" y="470304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879520" y="5015880"/>
                <a:ext cx="176040" cy="191880"/>
                <a:chOff x="5879520" y="5015880"/>
                <a:chExt cx="176040" cy="191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9520" y="5015880"/>
                  <a:ext cx="176040" cy="191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914440" y="5111640"/>
                  <a:ext cx="1058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67360" y="5055840"/>
                  <a:ext cx="0" cy="111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879520" y="5374440"/>
                <a:ext cx="176040" cy="192600"/>
                <a:chOff x="5879520" y="5374440"/>
                <a:chExt cx="176040" cy="192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879520" y="537444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14800" y="54709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967360" y="541440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879520" y="5731200"/>
                <a:ext cx="176040" cy="192600"/>
                <a:chOff x="5879520" y="5731200"/>
                <a:chExt cx="176040" cy="192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879520" y="573120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914800" y="58273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967360" y="577116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031520" y="4663080"/>
              <a:ext cx="179640" cy="1279800"/>
              <a:chOff x="7031520" y="4663080"/>
              <a:chExt cx="179640" cy="1279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7031520" y="4663080"/>
                <a:ext cx="176040" cy="192600"/>
                <a:chOff x="7031520" y="4663080"/>
                <a:chExt cx="176040" cy="1926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031520" y="466308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066800" y="475920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19360" y="470304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031520" y="5750280"/>
                <a:ext cx="179640" cy="192600"/>
                <a:chOff x="7031520" y="5750280"/>
                <a:chExt cx="179640" cy="192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31520" y="5750280"/>
                  <a:ext cx="179640" cy="192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071480" y="5844960"/>
                  <a:ext cx="100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031520" y="5025600"/>
                <a:ext cx="17604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31520" y="5387760"/>
                <a:ext cx="176040" cy="19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201520" y="4663080"/>
              <a:ext cx="179640" cy="916920"/>
              <a:chOff x="8201520" y="4663080"/>
              <a:chExt cx="179640" cy="9169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8201520" y="5387400"/>
                <a:ext cx="179640" cy="192600"/>
                <a:chOff x="8201520" y="5387400"/>
                <a:chExt cx="179640" cy="192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201520" y="5387400"/>
                  <a:ext cx="179640" cy="192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41480" y="5482080"/>
                  <a:ext cx="100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8201520" y="5025240"/>
                <a:ext cx="17604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01520" y="4663080"/>
                <a:ext cx="176040" cy="19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762120" y="22096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he symbols mea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er mistakes, complications and deaths than exp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number of mistakes, complications and dea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mistakes, complications and deaths than exp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2590920"/>
            <a:ext cx="158760" cy="161640"/>
            <a:chOff x="838080" y="2590920"/>
            <a:chExt cx="158760" cy="161640"/>
          </a:xfrm>
        </p:grpSpPr>
        <p:sp>
          <p:nvSpPr>
            <p:cNvPr id="199" name=""/>
            <p:cNvSpPr/>
            <p:nvPr/>
          </p:nvSpPr>
          <p:spPr>
            <a:xfrm>
              <a:off x="838080" y="2590920"/>
              <a:ext cx="158760" cy="16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760" y="2671560"/>
              <a:ext cx="95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7280" y="2624400"/>
              <a:ext cx="0" cy="94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838080" y="2971800"/>
            <a:ext cx="15876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3276720"/>
            <a:ext cx="162000" cy="161640"/>
            <a:chOff x="838080" y="3276720"/>
            <a:chExt cx="162000" cy="161640"/>
          </a:xfrm>
        </p:grpSpPr>
        <p:sp>
          <p:nvSpPr>
            <p:cNvPr id="204" name=""/>
            <p:cNvSpPr/>
            <p:nvPr/>
          </p:nvSpPr>
          <p:spPr>
            <a:xfrm>
              <a:off x="838080" y="3276720"/>
              <a:ext cx="16200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4080" y="3356280"/>
              <a:ext cx="9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68580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ata Display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QualityCounts Hospital Report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act of Report on Hospitals: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perimental Desig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905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5 Eligible Hospitals in Wiscon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600200" y="2286000"/>
            <a:ext cx="6324480" cy="2776320"/>
            <a:chOff x="1600200" y="2286000"/>
            <a:chExt cx="6324480" cy="2776320"/>
          </a:xfrm>
        </p:grpSpPr>
        <p:sp>
          <p:nvSpPr>
            <p:cNvPr id="210" name=""/>
            <p:cNvSpPr/>
            <p:nvPr/>
          </p:nvSpPr>
          <p:spPr>
            <a:xfrm>
              <a:off x="1600200" y="3505320"/>
              <a:ext cx="266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4 Alliance service area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(Hospitals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In Public Repor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8600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91 Non-Alliance Hospi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781000" y="2316240"/>
            <a:ext cx="2477160" cy="1189080"/>
            <a:chOff x="2781000" y="2316240"/>
            <a:chExt cx="2477160" cy="1189080"/>
          </a:xfrm>
        </p:grpSpPr>
        <p:cxnSp>
          <p:nvCxnSpPr>
            <p:cNvPr id="213" name=""/>
            <p:cNvCxnSpPr>
              <a:stCxn id="208" idx="2"/>
              <a:endCxn id="210" idx="0"/>
            </p:cNvCxnSpPr>
            <p:nvPr/>
          </p:nvCxnSpPr>
          <p:spPr>
            <a:xfrm>
              <a:off x="2781000" y="2727000"/>
              <a:ext cx="153000" cy="7786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8" idx="3"/>
              <a:endCxn id="211" idx="1"/>
            </p:cNvCxnSpPr>
            <p:nvPr/>
          </p:nvCxnSpPr>
          <p:spPr>
            <a:xfrm>
              <a:off x="4419720" y="2316240"/>
              <a:ext cx="838800" cy="38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15" name=""/>
          <p:cNvGrpSpPr/>
          <p:nvPr/>
        </p:nvGrpSpPr>
        <p:grpSpPr>
          <a:xfrm>
            <a:off x="5105520" y="3107880"/>
            <a:ext cx="2971800" cy="1527480"/>
            <a:chOff x="5105520" y="3107880"/>
            <a:chExt cx="2971800" cy="1527480"/>
          </a:xfrm>
        </p:grpSpPr>
        <p:sp>
          <p:nvSpPr>
            <p:cNvPr id="216" name=""/>
            <p:cNvSpPr/>
            <p:nvPr/>
          </p:nvSpPr>
          <p:spPr>
            <a:xfrm>
              <a:off x="5105520" y="3809880"/>
              <a:ext cx="297180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andom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211" idx="2"/>
              <a:endCxn id="216" idx="0"/>
            </p:cNvCxnSpPr>
            <p:nvPr/>
          </p:nvCxnSpPr>
          <p:spPr>
            <a:xfrm>
              <a:off x="6590880" y="3107880"/>
              <a:ext cx="1080" cy="702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18" name=""/>
          <p:cNvGrpSpPr/>
          <p:nvPr/>
        </p:nvGrpSpPr>
        <p:grpSpPr>
          <a:xfrm>
            <a:off x="4267080" y="5029200"/>
            <a:ext cx="4114800" cy="1191240"/>
            <a:chOff x="4267080" y="5029200"/>
            <a:chExt cx="4114800" cy="1191240"/>
          </a:xfrm>
        </p:grpSpPr>
        <p:sp>
          <p:nvSpPr>
            <p:cNvPr id="219" name=""/>
            <p:cNvSpPr/>
            <p:nvPr/>
          </p:nvSpPr>
          <p:spPr>
            <a:xfrm>
              <a:off x="4267080" y="50292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46 No Report Hospi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9400" y="50292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45 Private Report Hospitals*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066640" y="4266720"/>
            <a:ext cx="2363040" cy="762480"/>
            <a:chOff x="5066640" y="4266720"/>
            <a:chExt cx="2363040" cy="762480"/>
          </a:xfrm>
        </p:grpSpPr>
        <p:cxnSp>
          <p:nvCxnSpPr>
            <p:cNvPr id="222" name=""/>
            <p:cNvCxnSpPr>
              <a:stCxn id="216" idx="2"/>
              <a:endCxn id="219" idx="0"/>
            </p:cNvCxnSpPr>
            <p:nvPr/>
          </p:nvCxnSpPr>
          <p:spPr>
            <a:xfrm flipH="1">
              <a:off x="5066640" y="4266720"/>
              <a:ext cx="1524600" cy="7628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6" idx="2"/>
              <a:endCxn id="220" idx="0"/>
            </p:cNvCxnSpPr>
            <p:nvPr/>
          </p:nvCxnSpPr>
          <p:spPr>
            <a:xfrm>
              <a:off x="6590880" y="4266720"/>
              <a:ext cx="839160" cy="7628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24" name=""/>
          <p:cNvSpPr/>
          <p:nvPr/>
        </p:nvSpPr>
        <p:spPr>
          <a:xfrm>
            <a:off x="609480" y="643104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 Three hospitals were lost to closure and two hospitals were ineligible due to overlapping administrative struc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6:46:41Z</dcterms:created>
  <dc:creator>kaschkeh</dc:creator>
  <dc:description/>
  <dc:language>en-US</dc:language>
  <cp:lastModifiedBy>kaschkeh</cp:lastModifiedBy>
  <dcterms:modified xsi:type="dcterms:W3CDTF">2004-10-26T14:20:18Z</dcterms:modified>
  <cp:revision>15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589885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