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77A-1C1C-47EE-9CC8-334486F6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CCE-5904-4C81-AD0B-05A16F9F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577-F69D-464B-AC6F-4A888CE4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D5F-2C47-4F2E-898F-EF709956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1187-1E90-4426-835C-E3CF0585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2732-0150-4AC1-B6FA-F8E158DB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C831-93E2-4AF3-9EC9-2E618EB1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7184-C816-430F-842A-96287F49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D16C-5C5F-415D-9AEE-D0862444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2B1B-D3EA-4549-85DA-DFFD81B8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96CD-6E0B-4C59-9EAB-580E696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DD1-7CE3-4709-BC6E-B9650585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CA5E-9CCC-437B-A19D-84AA81D5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6EDF-3C4F-4F40-AA6A-09CE2A90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8120-F60E-479C-9CF9-6669AA8C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A250-B044-40C2-A565-D961DA34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164A-32B7-437E-9A8C-9886B3D6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ABC-DBD7-4CF7-87C0-00DCE2B5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988-A4A1-458E-BEE6-34748FE8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E28-AA72-45E4-B8D3-D954A833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2F7-2CC6-42FC-B633-8FD0299B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58C-3B90-4571-8E32-6FC72439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2BC-F840-4859-88B3-EEBF23A7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789-6469-4053-90D8-42EA5D1F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CFB9-A916-44E3-B365-CDA6B768D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B6FB-C01F-4EC9-AE0D-29905461D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y Web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ident and C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webber" descr=""/>
          <p:cNvPicPr/>
          <p:nvPr/>
        </p:nvPicPr>
        <p:blipFill>
          <a:blip r:embed="rId1"/>
          <a:stretch/>
        </p:blipFill>
        <p:spPr>
          <a:xfrm>
            <a:off x="4875120" y="2057400"/>
            <a:ext cx="335448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logonbch" descr=""/>
          <p:cNvPicPr/>
          <p:nvPr/>
        </p:nvPicPr>
        <p:blipFill>
          <a:blip r:embed="rId2"/>
          <a:stretch/>
        </p:blipFill>
        <p:spPr>
          <a:xfrm>
            <a:off x="1066680" y="609480"/>
            <a:ext cx="72392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ercent of hospitals with significant Improvements or Declines in OB Performance in the Post-Report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eriod: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77720" y="2027160"/>
          <a:ext cx="81885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27160"/>
                    <a:ext cx="81885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ercentage of hospitals who had poor scores at baseline and who improved their scores in the post-report perio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77720" y="2027160"/>
          <a:ext cx="81885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27160"/>
                    <a:ext cx="81885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eded Features for Quality Meas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eature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HRQ QI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rt Validation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y on available dat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sk adjuste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dely used,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arative data availabl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all Empha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t perfect be enemy of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chasers should be lead drivers of value-based purcha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reporting of standardized healthcare measures essential to pro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HRQ to be congratulated for its lead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e now to move from consensus on the value of the AHRQ Quality Indicators to rapid implementation and 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ational Business Coalition on Healt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, non-profit, membership organiz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0 employer-based health coal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,000 employer members, 25 million cov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is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stablish value-based health care markets in every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ission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superior membership service and build the capacity of members to advance value based purchasing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osts of Poor Qua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43000" y="5029200"/>
          <a:ext cx="609588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029200"/>
                    <a:ext cx="6095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522440" y="1393920"/>
          <a:ext cx="6095880" cy="40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4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38080" y="1360440"/>
          <a:ext cx="7467840" cy="4354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360440"/>
                    <a:ext cx="746784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600200" y="4876920"/>
          <a:ext cx="609588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876920"/>
                    <a:ext cx="6095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09480" y="5867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s of poor care: Misuse, underuse, overuse, waste--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uran Institute and MBGH 20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Value Based Purchasing: A Path Forward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measur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reporting and recognitio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t share mig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ial reimburs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ccelerating the Pace to the Ultimate Goa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Quality and Health Status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3520" y="1371600"/>
            <a:ext cx="6401160" cy="4800240"/>
            <a:chOff x="1523520" y="1371600"/>
            <a:chExt cx="6401160" cy="4800240"/>
          </a:xfrm>
        </p:grpSpPr>
        <p:sp>
          <p:nvSpPr>
            <p:cNvPr id="107" name=""/>
            <p:cNvSpPr/>
            <p:nvPr/>
          </p:nvSpPr>
          <p:spPr>
            <a:xfrm>
              <a:off x="2895480" y="1371600"/>
              <a:ext cx="331452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1713960"/>
              <a:ext cx="72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4200" y="1713960"/>
              <a:ext cx="720" cy="343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3520" y="2057040"/>
              <a:ext cx="125712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ortive payment and regulatory environ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81000" y="2514240"/>
              <a:ext cx="457200" cy="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38200" y="2057040"/>
              <a:ext cx="125712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ganizations that facilitate the work of patient-centered team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2880" y="2057040"/>
              <a:ext cx="114300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 performing patient-centered team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3080" y="2057040"/>
              <a:ext cx="1371600" cy="148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comes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f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ffecti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ffic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rsonaliz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l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quit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95680" y="2514240"/>
              <a:ext cx="457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1000" y="4571640"/>
              <a:ext cx="388620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DESIGN IMPERATIVES:  SIX CHALLE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engineered  care process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ffective use of information technolog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nowledge and skills manag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velopment of effective team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ordination of care across patient-conditions,     services, sites of care overtim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king change possi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2514240"/>
              <a:ext cx="4568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3543120"/>
              <a:ext cx="0" cy="570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24200" y="3543120"/>
              <a:ext cx="720" cy="570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610160" y="4114080"/>
              <a:ext cx="360" cy="456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4114440"/>
              <a:ext cx="1714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OM Strategy for Reinventing the Health Care Syste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rformance Measurement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Action: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BCH Member Profi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2438280"/>
          <a:ext cx="8153280" cy="4114800"/>
        </p:xfrm>
        <a:graphic>
          <a:graphicData uri="http://schemas.openxmlformats.org/drawingml/2006/table">
            <a:tbl>
              <a:tblPr/>
              <a:tblGrid>
                <a:gridCol w="2344320"/>
                <a:gridCol w="1936440"/>
                <a:gridCol w="1936080"/>
                <a:gridCol w="193644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sure 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lity Improvement Activ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 Repor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nancial Incen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 Pl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dividual Praction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QualityCounts Hospital Report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n Alliance Initiativ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d and disseminated report on 24 hospitals in S. Central 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d hospitals on complications and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risk adjusted administrativ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d public awareness of Repor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04920" y="3886200"/>
          <a:ext cx="8533800" cy="2130480"/>
        </p:xfrm>
        <a:graphic>
          <a:graphicData uri="http://schemas.openxmlformats.org/drawingml/2006/table">
            <a:tbl>
              <a:tblPr/>
              <a:tblGrid>
                <a:gridCol w="2612520"/>
                <a:gridCol w="1132200"/>
                <a:gridCol w="1218960"/>
                <a:gridCol w="1218960"/>
                <a:gridCol w="1219320"/>
                <a:gridCol w="113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gional Hospit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rg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Surg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p/Kn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di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er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spital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3505320" y="4648320"/>
            <a:ext cx="4875840" cy="1294560"/>
            <a:chOff x="3505320" y="4648320"/>
            <a:chExt cx="4875840" cy="1294560"/>
          </a:xfrm>
        </p:grpSpPr>
        <p:grpSp>
          <p:nvGrpSpPr>
            <p:cNvPr id="130" name=""/>
            <p:cNvGrpSpPr/>
            <p:nvPr/>
          </p:nvGrpSpPr>
          <p:grpSpPr>
            <a:xfrm>
              <a:off x="3505320" y="4663080"/>
              <a:ext cx="176040" cy="1260720"/>
              <a:chOff x="3505320" y="4663080"/>
              <a:chExt cx="176040" cy="12607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3505320" y="4663080"/>
                <a:ext cx="176040" cy="192600"/>
                <a:chOff x="3505320" y="4663080"/>
                <a:chExt cx="176040" cy="1926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505320" y="466308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540600" y="475920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593160" y="470304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505320" y="5015880"/>
                <a:ext cx="176040" cy="191880"/>
                <a:chOff x="3505320" y="5015880"/>
                <a:chExt cx="176040" cy="191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505320" y="5015880"/>
                  <a:ext cx="176040" cy="1918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540240" y="5111640"/>
                  <a:ext cx="1058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593160" y="5055840"/>
                  <a:ext cx="0" cy="111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505320" y="5374440"/>
                <a:ext cx="176040" cy="192600"/>
                <a:chOff x="3505320" y="5374440"/>
                <a:chExt cx="176040" cy="1926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05320" y="537444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540600" y="547092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593160" y="541440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505320" y="5731200"/>
                <a:ext cx="176040" cy="192600"/>
                <a:chOff x="3505320" y="5731200"/>
                <a:chExt cx="176040" cy="1926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505320" y="573120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540600" y="582732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593160" y="577116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4692240" y="4648320"/>
              <a:ext cx="179640" cy="1279800"/>
              <a:chOff x="4692240" y="4648320"/>
              <a:chExt cx="179640" cy="127980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4692240" y="5735520"/>
                <a:ext cx="179640" cy="192600"/>
                <a:chOff x="4692240" y="5735520"/>
                <a:chExt cx="179640" cy="1926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692240" y="5735520"/>
                  <a:ext cx="179640" cy="192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732200" y="5830200"/>
                  <a:ext cx="100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692240" y="4648320"/>
                <a:ext cx="175680" cy="901800"/>
                <a:chOff x="4692240" y="4648320"/>
                <a:chExt cx="175680" cy="90180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4692240" y="4648320"/>
                  <a:ext cx="175680" cy="191880"/>
                  <a:chOff x="4692240" y="4648320"/>
                  <a:chExt cx="175680" cy="1918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4692240" y="4648320"/>
                    <a:ext cx="175680" cy="1918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727160" y="4744080"/>
                    <a:ext cx="10512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780080" y="4688280"/>
                    <a:ext cx="0" cy="1119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4692240" y="4999320"/>
                  <a:ext cx="175680" cy="191880"/>
                  <a:chOff x="4692240" y="4999320"/>
                  <a:chExt cx="175680" cy="1918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4692240" y="4999320"/>
                    <a:ext cx="175680" cy="1918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727160" y="5095080"/>
                    <a:ext cx="10548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4780080" y="5039280"/>
                    <a:ext cx="0" cy="1119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4692240" y="5357880"/>
                  <a:ext cx="175680" cy="192240"/>
                  <a:chOff x="4692240" y="5357880"/>
                  <a:chExt cx="175680" cy="1922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4692240" y="5357880"/>
                    <a:ext cx="175680" cy="19224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727160" y="5454000"/>
                    <a:ext cx="10512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780080" y="5397840"/>
                    <a:ext cx="0" cy="1119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4" name=""/>
            <p:cNvGrpSpPr/>
            <p:nvPr/>
          </p:nvGrpSpPr>
          <p:grpSpPr>
            <a:xfrm>
              <a:off x="5879520" y="4663080"/>
              <a:ext cx="176040" cy="1260720"/>
              <a:chOff x="5879520" y="4663080"/>
              <a:chExt cx="176040" cy="12607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879520" y="4663080"/>
                <a:ext cx="176040" cy="192600"/>
                <a:chOff x="5879520" y="4663080"/>
                <a:chExt cx="176040" cy="1926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879520" y="466308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914800" y="475920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967360" y="470304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879520" y="5015880"/>
                <a:ext cx="176040" cy="191880"/>
                <a:chOff x="5879520" y="5015880"/>
                <a:chExt cx="176040" cy="191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879520" y="5015880"/>
                  <a:ext cx="176040" cy="1918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914440" y="5111640"/>
                  <a:ext cx="1058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67360" y="5055840"/>
                  <a:ext cx="0" cy="111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879520" y="5374440"/>
                <a:ext cx="176040" cy="192600"/>
                <a:chOff x="5879520" y="5374440"/>
                <a:chExt cx="176040" cy="1926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879520" y="537444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14800" y="547092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967360" y="541440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879520" y="5731200"/>
                <a:ext cx="176040" cy="192600"/>
                <a:chOff x="5879520" y="5731200"/>
                <a:chExt cx="176040" cy="1926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879520" y="573120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914800" y="582732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967360" y="577116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7031520" y="4663080"/>
              <a:ext cx="179640" cy="1279800"/>
              <a:chOff x="7031520" y="4663080"/>
              <a:chExt cx="179640" cy="12798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7031520" y="4663080"/>
                <a:ext cx="176040" cy="192600"/>
                <a:chOff x="7031520" y="4663080"/>
                <a:chExt cx="176040" cy="1926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031520" y="4663080"/>
                  <a:ext cx="176040" cy="1926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066800" y="4759200"/>
                  <a:ext cx="105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119360" y="4703040"/>
                  <a:ext cx="0" cy="11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031520" y="5750280"/>
                <a:ext cx="179640" cy="192600"/>
                <a:chOff x="7031520" y="5750280"/>
                <a:chExt cx="179640" cy="192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31520" y="5750280"/>
                  <a:ext cx="179640" cy="192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071480" y="5844960"/>
                  <a:ext cx="100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7031520" y="5025600"/>
                <a:ext cx="176040" cy="19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31520" y="5387760"/>
                <a:ext cx="176040" cy="19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8201520" y="4663080"/>
              <a:ext cx="179640" cy="916920"/>
              <a:chOff x="8201520" y="4663080"/>
              <a:chExt cx="179640" cy="9169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8201520" y="5387400"/>
                <a:ext cx="179640" cy="192600"/>
                <a:chOff x="8201520" y="5387400"/>
                <a:chExt cx="179640" cy="192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8201520" y="5387400"/>
                  <a:ext cx="179640" cy="192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41480" y="5482080"/>
                  <a:ext cx="100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8201520" y="5025240"/>
                <a:ext cx="176040" cy="191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01520" y="4663080"/>
                <a:ext cx="176040" cy="192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762120" y="22096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the symbols mean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er mistakes, complications and deaths than exp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number of mistakes, complications and death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mistakes, complications and deaths than expe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38080" y="2590920"/>
            <a:ext cx="158760" cy="161640"/>
            <a:chOff x="838080" y="2590920"/>
            <a:chExt cx="158760" cy="161640"/>
          </a:xfrm>
        </p:grpSpPr>
        <p:sp>
          <p:nvSpPr>
            <p:cNvPr id="199" name=""/>
            <p:cNvSpPr/>
            <p:nvPr/>
          </p:nvSpPr>
          <p:spPr>
            <a:xfrm>
              <a:off x="838080" y="2590920"/>
              <a:ext cx="158760" cy="161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9760" y="2671560"/>
              <a:ext cx="95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17280" y="2624400"/>
              <a:ext cx="0" cy="94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838080" y="2971800"/>
            <a:ext cx="15876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3276720"/>
            <a:ext cx="162000" cy="161640"/>
            <a:chOff x="838080" y="3276720"/>
            <a:chExt cx="162000" cy="161640"/>
          </a:xfrm>
        </p:grpSpPr>
        <p:sp>
          <p:nvSpPr>
            <p:cNvPr id="204" name=""/>
            <p:cNvSpPr/>
            <p:nvPr/>
          </p:nvSpPr>
          <p:spPr>
            <a:xfrm>
              <a:off x="838080" y="3276720"/>
              <a:ext cx="162000" cy="16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4080" y="3356280"/>
              <a:ext cx="9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5800" y="68580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ata Display 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QualityCounts Hospital Report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act of Report on Hospitals: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perimental Desig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9051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15 Eligible Hospitals in Wiscon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600200" y="2286000"/>
            <a:ext cx="6324480" cy="2776320"/>
            <a:chOff x="1600200" y="2286000"/>
            <a:chExt cx="6324480" cy="2776320"/>
          </a:xfrm>
        </p:grpSpPr>
        <p:sp>
          <p:nvSpPr>
            <p:cNvPr id="210" name=""/>
            <p:cNvSpPr/>
            <p:nvPr/>
          </p:nvSpPr>
          <p:spPr>
            <a:xfrm>
              <a:off x="1600200" y="3505320"/>
              <a:ext cx="2666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4 Alliance service area </a:t>
              </a:r>
              <a:r>
                <a:rPr b="0" lang="en-US" sz="2400" spc="-1" strike="noStrike">
                  <a:solidFill>
                    <a:srgbClr val="ffcc66"/>
                  </a:solidFill>
                  <a:latin typeface="Tahoma"/>
                </a:rPr>
                <a:t>(Hospitals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cc66"/>
                  </a:solidFill>
                  <a:latin typeface="Tahoma"/>
                </a:rPr>
                <a:t>In Public Repor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228600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91 Non-Alliance Hospit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781000" y="2316240"/>
            <a:ext cx="2477160" cy="1189080"/>
            <a:chOff x="2781000" y="2316240"/>
            <a:chExt cx="2477160" cy="1189080"/>
          </a:xfrm>
        </p:grpSpPr>
        <p:cxnSp>
          <p:nvCxnSpPr>
            <p:cNvPr id="213" name=""/>
            <p:cNvCxnSpPr>
              <a:stCxn id="208" idx="2"/>
              <a:endCxn id="210" idx="0"/>
            </p:cNvCxnSpPr>
            <p:nvPr/>
          </p:nvCxnSpPr>
          <p:spPr>
            <a:xfrm>
              <a:off x="2781000" y="2727000"/>
              <a:ext cx="153000" cy="7786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stCxn id="208" idx="3"/>
              <a:endCxn id="211" idx="1"/>
            </p:cNvCxnSpPr>
            <p:nvPr/>
          </p:nvCxnSpPr>
          <p:spPr>
            <a:xfrm>
              <a:off x="4419720" y="2316240"/>
              <a:ext cx="838800" cy="38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215" name=""/>
          <p:cNvGrpSpPr/>
          <p:nvPr/>
        </p:nvGrpSpPr>
        <p:grpSpPr>
          <a:xfrm>
            <a:off x="5105520" y="3107880"/>
            <a:ext cx="2971800" cy="1527480"/>
            <a:chOff x="5105520" y="3107880"/>
            <a:chExt cx="2971800" cy="1527480"/>
          </a:xfrm>
        </p:grpSpPr>
        <p:sp>
          <p:nvSpPr>
            <p:cNvPr id="216" name=""/>
            <p:cNvSpPr/>
            <p:nvPr/>
          </p:nvSpPr>
          <p:spPr>
            <a:xfrm>
              <a:off x="5105520" y="3809880"/>
              <a:ext cx="297180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Random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>
              <a:stCxn id="211" idx="2"/>
              <a:endCxn id="216" idx="0"/>
            </p:cNvCxnSpPr>
            <p:nvPr/>
          </p:nvCxnSpPr>
          <p:spPr>
            <a:xfrm>
              <a:off x="6590880" y="3107880"/>
              <a:ext cx="1080" cy="702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218" name=""/>
          <p:cNvGrpSpPr/>
          <p:nvPr/>
        </p:nvGrpSpPr>
        <p:grpSpPr>
          <a:xfrm>
            <a:off x="4267080" y="5029200"/>
            <a:ext cx="4114800" cy="1191240"/>
            <a:chOff x="4267080" y="5029200"/>
            <a:chExt cx="4114800" cy="1191240"/>
          </a:xfrm>
        </p:grpSpPr>
        <p:sp>
          <p:nvSpPr>
            <p:cNvPr id="219" name=""/>
            <p:cNvSpPr/>
            <p:nvPr/>
          </p:nvSpPr>
          <p:spPr>
            <a:xfrm>
              <a:off x="4267080" y="502920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cc66"/>
                  </a:solidFill>
                  <a:latin typeface="Tahoma"/>
                </a:rPr>
                <a:t>46 No Report Hospit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29400" y="50292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cc66"/>
                  </a:solidFill>
                  <a:latin typeface="Tahoma"/>
                </a:rPr>
                <a:t>45 Private Report Hospitals*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066640" y="4266720"/>
            <a:ext cx="2363040" cy="762480"/>
            <a:chOff x="5066640" y="4266720"/>
            <a:chExt cx="2363040" cy="762480"/>
          </a:xfrm>
        </p:grpSpPr>
        <p:cxnSp>
          <p:nvCxnSpPr>
            <p:cNvPr id="222" name=""/>
            <p:cNvCxnSpPr>
              <a:stCxn id="216" idx="2"/>
              <a:endCxn id="219" idx="0"/>
            </p:cNvCxnSpPr>
            <p:nvPr/>
          </p:nvCxnSpPr>
          <p:spPr>
            <a:xfrm flipH="1">
              <a:off x="5066640" y="4266720"/>
              <a:ext cx="1524600" cy="7628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6" idx="2"/>
              <a:endCxn id="220" idx="0"/>
            </p:cNvCxnSpPr>
            <p:nvPr/>
          </p:nvCxnSpPr>
          <p:spPr>
            <a:xfrm>
              <a:off x="6590880" y="4266720"/>
              <a:ext cx="839160" cy="7628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24" name=""/>
          <p:cNvSpPr/>
          <p:nvPr/>
        </p:nvSpPr>
        <p:spPr>
          <a:xfrm>
            <a:off x="609480" y="6431040"/>
            <a:ext cx="80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* Three hospitals were lost to closure and two hospitals were ineligible due to overlapping administrative struc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6:46:41Z</dcterms:created>
  <dc:creator>kaschkeh</dc:creator>
  <dc:description/>
  <dc:language>en-US</dc:language>
  <cp:lastModifiedBy>kaschkeh</cp:lastModifiedBy>
  <dcterms:modified xsi:type="dcterms:W3CDTF">2004-10-26T14:20:18Z</dcterms:modified>
  <cp:revision>15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3589885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Buyright Web Conference</vt:lpwstr>
  </property>
</Properties>
</file>