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E13-FEE4-42F2-B544-70CECBF8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ADF-24E3-45A9-92A4-F0188D91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BBD5-840E-4CAD-B54E-E0CDA33D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54D-1A99-4EE4-B13E-CA25F987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523-47CE-4EF8-A300-ED99C96D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E3E-8923-434B-B075-91CCC9B0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1D3-9275-4583-A383-35F1A9E0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F8D-19DE-4099-A559-84F1A20D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140-DF88-4491-8B34-BF9EEC5B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595-DF02-4982-87AF-0DA421B5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B8D-EB4E-466B-8CF3-C19F4CB4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75C-4A81-48ED-9162-B7D72C42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5CF4-81BA-4920-ABDF-5744C4711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Times New Roman"/>
              </a:rPr>
              <a:t>Addressing Pediatric and School-based Surge Capacity in a Mass Casualty Event</a:t>
            </a:r>
            <a:endParaRPr b="1" lang="en-US" sz="4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4191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chael Shannon, M.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nter for Bioprepared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sion of Emergency Medic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’s Hospital Bos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vard Medical Sch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ston, 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1163" t="0" r="11375" b="0"/>
          <a:stretch/>
        </p:blipFill>
        <p:spPr>
          <a:xfrm>
            <a:off x="5638680" y="3276720"/>
            <a:ext cx="22860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Additional Emergency Department Challenges in Disasters </a:t>
            </a:r>
            <a:br>
              <a:rPr sz="3800"/>
            </a:b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Involving Children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ing children while wearing personal protective 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systems for identification, tracking, and reun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alternate sites (e.g., schools, neighborhood health cent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HRQ-Sponsored Pediatric Protocols Under Developmen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 video: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The Decontamination of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Near-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diatric Aspects of Surge Capacity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ole of DMAT in Pediatric Mass Casualty Inci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In 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 School-based Response to Disasters and Other Public Health Emergencies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rge Capacity and Children: 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ey Issues 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type of disaster can occ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scenarios to consid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ol is a tar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ty disaster while school is in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Key Challenges in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sequence Managemen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S, fire and other public health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ntamination t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pediatric hospitals emergency depar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spit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spital campus 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tal health response and reco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s distribution of antidotes, antibiotics, and vacc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ement we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allenges of Mass Casualty Incidents Involving Children vs. Adult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Biologic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immature immune system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reater morbidity/mort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hemic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difficult to assess, manage and keep warm during decontam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adiologic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significantly increased risk of cancer (e.g., thyroi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191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Blas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– difficult to stabilize during the “golden hou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Bur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greater likelihood of life-threatening fluid loss and susceptibility to 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The Challenges of Mass Casualty Incidents Involving Children vs. Adults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chool Crisis Response Manual: 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uiding Principl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idelines are desperately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 templates can be created but no one size fits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in steps in creating a school plan 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iews with princip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views with school nu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alk through with the custod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after-school pr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chool Crisis Response Manual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Guiding Principl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s in creating a school plan – cont’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 into the existing plans, e.g., evacuation (fire dril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plans take weather into acc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lans needed for sheltering-in and lockdow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lls, including table-top exercises, are an important part of school read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ole of DMAT in Disaster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volving Childre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ly limited because there are only 2 in the U.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lling need to develop m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DMAT teams need ongoing training in pediatric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Emergency Department Challenges in Disasters Involving Children 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2362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equate number of pediatric supp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diatric decontamination equipment and protoc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response to large numbers of burn vict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sing non-verbal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1:02:27Z</dcterms:created>
  <dc:creator> </dc:creator>
  <dc:description/>
  <dc:language>en-US</dc:language>
  <cp:lastModifiedBy>Elizabeth Lowe</cp:lastModifiedBy>
  <cp:lastPrinted>2004-10-18T18:33:24Z</cp:lastPrinted>
  <dcterms:modified xsi:type="dcterms:W3CDTF">2004-10-21T19:34:49Z</dcterms:modified>
  <cp:revision>22</cp:revision>
  <dc:subject/>
  <dc:title>AHRQ Web Con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5582582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Web conf: Surge Capacity 3</vt:lpwstr>
  </property>
  <property fmtid="{D5CDD505-2E9C-101B-9397-08002B2CF9AE}" pid="6" name="_PreviousAdHocReviewCycleID">
    <vt:r8>-722313988</vt:r8>
  </property>
</Properties>
</file>