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3B3-F963-46DF-A985-1030810A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9BE-2F60-4CC8-8F06-EC505131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7EB-0AB3-45A1-81A8-289293FD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BB3-4D64-418E-B855-B85A674B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BEB-1245-43CA-B425-38D5AA9A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A18-4A2D-43BC-AFFB-565B7358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47A-6B9E-459D-BC92-E41E5FE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451-0CA4-4052-907E-9FEE509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FEC-2609-4E98-B36C-1DCE858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0F7-95A6-4B91-AFBE-521E0FF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26C-2C54-43A4-8DFD-4142360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57E-4507-4412-845C-F650E93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6AA-38D0-419D-925A-D164D8404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Addressing Pediatric and School-based Surge Capacity in a Mass Casualty Event</a:t>
            </a:r>
            <a:endParaRPr b="1" lang="en-US" sz="4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4191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hael Shannon, M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for Bioprepared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 of Emergency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’s Hospital Bos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1163" t="0" r="11375" b="0"/>
          <a:stretch/>
        </p:blipFill>
        <p:spPr>
          <a:xfrm>
            <a:off x="5638680" y="3276720"/>
            <a:ext cx="2286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Additional Emergency Department Challenges in Disasters 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nvolving Children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ing children while wearing personal protective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systems for identification, tracking, and reu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alternate sites (e.g., schools, neighborhood health cent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HRQ-Sponsored Pediatric Protocols Under Developmen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video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he Decontamination of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ear-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diatric Aspects of Surge Capacity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of DMAT in Pediatric Mass Casualty Inc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In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School-based Response to Disasters and Other Public Health Emergencies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ge Capacity and Children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ey Issues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type of disaster can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cenarios to cons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is a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disaster while school is in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Challenges i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sequence Managemen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S, fire and other public health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ntamination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pediatric hospitals emergency depar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campus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response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distribution of antidotes, antibiotics, and vacc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ement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allenges of Mass Casualty Incidents Involving Children vs. Adul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iolog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immature immune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eater morbidity/mort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hem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difficult to assess, manage and keep warm during de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diolog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ignificantly increased risk of cancer (e.g., thyr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la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difficult to stabilize during the “golden hou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ur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greater likelihood of life-threatening fluid loss and susceptibility to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The Challenges of Mass Casualty Incidents Involving Children vs. Adult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chool Crisis Response Manual: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ing Princip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are desperately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templates can be created but no one size fits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in steps in creating a school plan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 with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 with school n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lk through with the custod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after-school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chool Crisis Response Manual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Guiding Princip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in creating a school plan – cont’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into the existing plans, e.g., evacuation (fire dri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lans take weather into ac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s needed for sheltering-in and lock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, including table-top exercises, are an important part of school read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le of DMAT in Disaste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olving Childre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limited because there are only 2 in the U.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lling need to develop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DMAT teams need ongoing training in pediatric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Emergency Department Challenges in Disasters Involving Children 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number of pediatric su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econtamination equipment and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response to large numbers of burn 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ing non-verbal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02:27Z</dcterms:created>
  <dc:creator> </dc:creator>
  <dc:description/>
  <dc:language>en-US</dc:language>
  <cp:lastModifiedBy>Elizabeth Lowe</cp:lastModifiedBy>
  <cp:lastPrinted>2004-10-18T18:33:24Z</cp:lastPrinted>
  <dcterms:modified xsi:type="dcterms:W3CDTF">2004-10-21T19:34:49Z</dcterms:modified>
  <cp:revision>22</cp:revision>
  <dc:subject/>
  <dc:title>AHRQ Web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58258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: Surge Capacity 3</vt:lpwstr>
  </property>
  <property fmtid="{D5CDD505-2E9C-101B-9397-08002B2CF9AE}" pid="6" name="_PreviousAdHocReviewCycleID">
    <vt:r8>-722313988</vt:r8>
  </property>
</Properties>
</file>