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D842-C969-4058-92F6-92B056AA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: Dr. Hupert, I understand that the U.S. health care system has very little surge capacity.  In response, ARK has sponsored the development of a variety of models and guides that address hospital preparedness, one of which is your “Community-Based Mass Prophylaxis Planning Guide for Public Health Preparedness.”  Can you tell us, what are the value and benefits of modeling surge capa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develop a model for a mass casualty event, what are the things you need to think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: Using anthrax as an example, what can a model us about how soon patients will seek treat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: How could we use this model to figure out how many people could be treated outside the hospit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5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also use models to predict when and what resources will be needed in the hospit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 Cont.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we also use models to predict when and what resources will be needed in the hospit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: What are the advantages of being able to model both pre-hospital and hospital-based surge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8. Where can our audience find out more about your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716292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ddressing Surge Capacity in a Mass Casualty Even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14240" y="3123720"/>
            <a:ext cx="4724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iel Hupert, M.D., M.P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tant Professor of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ll Medical Colle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1193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1520" y="3200400"/>
            <a:ext cx="1533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Why Model Surge?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ready know the U.S. health care system has very little surge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benefit of creating computer models of i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4267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ossible answ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sess common assumptions about the determinants of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casualty estimates for varied planning efforts (e.g, ranging from different service lines in a single hospital to emergency planning functions in a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Determinants of Surge Capacity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559320"/>
            <a:ext cx="10670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ar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419640"/>
            <a:ext cx="228600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or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6880" y="2286000"/>
            <a:ext cx="2057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743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5170320"/>
            <a:ext cx="15238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region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41720"/>
            <a:ext cx="1295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4941720"/>
            <a:ext cx="1295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1905120"/>
            <a:ext cx="2057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76760" y="38685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00200"/>
            <a:ext cx="12952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46360" y="4370760"/>
            <a:ext cx="252360" cy="55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1160" y="4373280"/>
            <a:ext cx="263520" cy="549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0480" y="2819520"/>
            <a:ext cx="1854000" cy="622080"/>
          </a:xfrm>
          <a:custGeom>
            <a:avLst/>
            <a:gdLst/>
            <a:ahLst/>
            <a:rect l="l" t="t" r="r" b="b"/>
            <a:pathLst>
              <a:path w="1168" h="392">
                <a:moveTo>
                  <a:pt x="288" y="392"/>
                </a:moveTo>
                <a:cubicBezTo>
                  <a:pt x="144" y="328"/>
                  <a:pt x="0" y="264"/>
                  <a:pt x="48" y="200"/>
                </a:cubicBezTo>
                <a:cubicBezTo>
                  <a:pt x="96" y="136"/>
                  <a:pt x="400" y="16"/>
                  <a:pt x="576" y="8"/>
                </a:cubicBezTo>
                <a:cubicBezTo>
                  <a:pt x="752" y="0"/>
                  <a:pt x="1040" y="88"/>
                  <a:pt x="1104" y="152"/>
                </a:cubicBezTo>
                <a:cubicBezTo>
                  <a:pt x="1168" y="216"/>
                  <a:pt x="1064" y="304"/>
                  <a:pt x="96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057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57360"/>
            <a:ext cx="1828800" cy="9144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hos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1360" y="24382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256" y="0"/>
                </a:moveTo>
                <a:cubicBezTo>
                  <a:pt x="180" y="28"/>
                  <a:pt x="104" y="56"/>
                  <a:pt x="64" y="96"/>
                </a:cubicBezTo>
                <a:cubicBezTo>
                  <a:pt x="24" y="136"/>
                  <a:pt x="0" y="192"/>
                  <a:pt x="16" y="240"/>
                </a:cubicBezTo>
                <a:cubicBezTo>
                  <a:pt x="32" y="288"/>
                  <a:pt x="96" y="336"/>
                  <a:pt x="16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2960" y="2082960"/>
            <a:ext cx="460440" cy="95868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256" y="0"/>
                </a:moveTo>
                <a:cubicBezTo>
                  <a:pt x="180" y="28"/>
                  <a:pt x="104" y="56"/>
                  <a:pt x="64" y="96"/>
                </a:cubicBezTo>
                <a:cubicBezTo>
                  <a:pt x="24" y="136"/>
                  <a:pt x="0" y="192"/>
                  <a:pt x="16" y="240"/>
                </a:cubicBezTo>
                <a:cubicBezTo>
                  <a:pt x="32" y="288"/>
                  <a:pt x="96" y="336"/>
                  <a:pt x="16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3429000"/>
            <a:ext cx="1294920" cy="457200"/>
            <a:chOff x="1371600" y="3429000"/>
            <a:chExt cx="1294920" cy="457200"/>
          </a:xfrm>
        </p:grpSpPr>
        <p:sp>
          <p:nvSpPr>
            <p:cNvPr id="113" name=""/>
            <p:cNvSpPr/>
            <p:nvPr/>
          </p:nvSpPr>
          <p:spPr>
            <a:xfrm>
              <a:off x="1371600" y="3429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3886200"/>
              <a:ext cx="129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57200" y="1371600"/>
            <a:ext cx="533520" cy="457200"/>
          </a:xfrm>
          <a:prstGeom prst="irregularSeal1">
            <a:avLst/>
          </a:prstGeom>
          <a:solidFill>
            <a:srgbClr val="fe02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4495680"/>
            <a:ext cx="1542960" cy="381240"/>
          </a:xfrm>
          <a:custGeom>
            <a:avLst/>
            <a:gdLst>
              <a:gd name="textAreaLeft" fmla="*/ 0 w 1542960"/>
              <a:gd name="textAreaRight" fmla="*/ 1543320 w 1542960"/>
              <a:gd name="textAreaTop" fmla="*/ 50040 h 381240"/>
              <a:gd name="textAreaBottom" fmla="*/ 331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425"/>
                </a:moveTo>
                <a:cubicBezTo>
                  <a:pt x="7200" y="-3623"/>
                  <a:pt x="14400" y="6473"/>
                  <a:pt x="21600" y="1425"/>
                </a:cubicBezTo>
                <a:lnTo>
                  <a:pt x="21600" y="20175"/>
                </a:lnTo>
                <a:cubicBezTo>
                  <a:pt x="14400" y="25223"/>
                  <a:pt x="7200" y="15127"/>
                  <a:pt x="0" y="2017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ge Dischar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352680"/>
            <a:ext cx="106704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0320" y="3656160"/>
            <a:ext cx="42984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4043520"/>
            <a:ext cx="10670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19400" y="4035600"/>
            <a:ext cx="42984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143000"/>
            <a:ext cx="381240" cy="3048120"/>
          </a:xfrm>
          <a:custGeom>
            <a:avLst/>
            <a:gdLst>
              <a:gd name="textAreaLeft" fmla="*/ 111960 w 381240"/>
              <a:gd name="textAreaRight" fmla="*/ 381600 w 381240"/>
              <a:gd name="textAreaTop" fmla="*/ 126720 h 3048120"/>
              <a:gd name="textAreaBottom" fmla="*/ 2921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80360" y="1143000"/>
            <a:ext cx="381240" cy="3048120"/>
          </a:xfrm>
          <a:custGeom>
            <a:avLst/>
            <a:gdLst>
              <a:gd name="textAreaLeft" fmla="*/ 111960 w 381240"/>
              <a:gd name="textAreaRight" fmla="*/ 381600 w 381240"/>
              <a:gd name="textAreaTop" fmla="*/ 126720 h 3048120"/>
              <a:gd name="textAreaBottom" fmla="*/ 2921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17220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indebted to Sam Benson, EMT-P, New York City Office of Emergency Management for the notion of “surge discharg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1447920"/>
            <a:ext cx="5562360" cy="3657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16a41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133720" y="1599840"/>
            <a:ext cx="541008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16002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4100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760" y="25891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50277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ne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560" y="12175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 (D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2080" y="548496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rter (1-2 D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6640" y="548496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er 4+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8840" y="578952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needed to protect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53880" y="1907280"/>
            <a:ext cx="3522960" cy="2464200"/>
            <a:chOff x="3053880" y="1907280"/>
            <a:chExt cx="3522960" cy="2464200"/>
          </a:xfrm>
        </p:grpSpPr>
        <p:sp>
          <p:nvSpPr>
            <p:cNvPr id="135" name=""/>
            <p:cNvSpPr/>
            <p:nvPr/>
          </p:nvSpPr>
          <p:spPr>
            <a:xfrm rot="19662600">
              <a:off x="4010760" y="271404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t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644600">
              <a:off x="5924880" y="20394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597200">
              <a:off x="3099240" y="38473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133720" y="1447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5105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89320" y="493560"/>
            <a:ext cx="62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ling Pre-hospit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133720" y="3505320"/>
            <a:ext cx="1752480" cy="1600200"/>
            <a:chOff x="2133720" y="3505320"/>
            <a:chExt cx="1752480" cy="1600200"/>
          </a:xfrm>
        </p:grpSpPr>
        <p:sp>
          <p:nvSpPr>
            <p:cNvPr id="142" name=""/>
            <p:cNvSpPr/>
            <p:nvPr/>
          </p:nvSpPr>
          <p:spPr>
            <a:xfrm>
              <a:off x="2133720" y="3505320"/>
              <a:ext cx="1752480" cy="16002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525920"/>
              <a:ext cx="914400" cy="426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AF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876400"/>
            <a:ext cx="7924680" cy="3295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Modeled Outcomes of Pre-hospital Anthrax Prophylaxis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1863720"/>
            <a:ext cx="518184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exposed individuals don’t get sick because they receive antibiotics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5353200"/>
            <a:ext cx="55260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23840" y="3020760"/>
            <a:ext cx="4029840" cy="1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724120"/>
            <a:ext cx="175248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Hospital Su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458200" y="350496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If 100,000 people were exposed to anthrax and your prophylaxis campaign…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8120" y="17521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cover all in 2 days afte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,000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914" t="0" r="0" b="0"/>
          <a:stretch/>
        </p:blipFill>
        <p:spPr>
          <a:xfrm>
            <a:off x="609480" y="2705040"/>
            <a:ext cx="7496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cover all in 2 days afte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,000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4933" t="0" r="0" b="0"/>
          <a:stretch/>
        </p:blipFill>
        <p:spPr>
          <a:xfrm>
            <a:off x="762120" y="2666880"/>
            <a:ext cx="7480080" cy="395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If 100,000 people were exposed to anthrax and your prophylaxis campaign…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274320"/>
            <a:ext cx="87249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ling Improves Community-wide Surge Capacity Planning by Linking Pre-hospital and Hospital-based Care Plann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736720"/>
            <a:ext cx="1371600" cy="106704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05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posure scenari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8840" y="2950560"/>
            <a:ext cx="1350360" cy="1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75000" y="3118680"/>
            <a:ext cx="920520" cy="23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95520" y="3276000"/>
            <a:ext cx="1022760" cy="35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65720" y="3599280"/>
            <a:ext cx="113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2800" y="3432960"/>
            <a:ext cx="508320" cy="20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2640" y="398448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lead to different total and daily casualty loads depending on pre-hospital preparedness and respo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33920" y="2990880"/>
            <a:ext cx="1981080" cy="1828800"/>
            <a:chOff x="3733920" y="2990880"/>
            <a:chExt cx="1981080" cy="1828800"/>
          </a:xfrm>
        </p:grpSpPr>
        <p:grpSp>
          <p:nvGrpSpPr>
            <p:cNvPr id="167" name=""/>
            <p:cNvGrpSpPr/>
            <p:nvPr/>
          </p:nvGrpSpPr>
          <p:grpSpPr>
            <a:xfrm>
              <a:off x="4219560" y="3390840"/>
              <a:ext cx="990360" cy="990360"/>
              <a:chOff x="4219560" y="3390840"/>
              <a:chExt cx="990360" cy="99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219560" y="3390840"/>
                <a:ext cx="990360" cy="9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19560" y="3390840"/>
                <a:ext cx="990360" cy="990360"/>
              </a:xfrm>
              <a:prstGeom prst="plus">
                <a:avLst>
                  <a:gd name="adj" fmla="val 33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3920" y="2990880"/>
              <a:ext cx="1981080" cy="18288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5" y="9600"/>
                  </a:moveTo>
                  <a:arcTo wR="-8223" hR="-8223" stAng="-10296527" swAng="-19542263"/>
                  <a:lnTo>
                    <a:pt x="18739" y="18122"/>
                  </a:lnTo>
                  <a:arcTo wR="10800" hR="10800" stAng="2561211" swAng="19542263"/>
                  <a:lnTo>
                    <a:pt x="24155" y="12770"/>
                  </a:lnTo>
                  <a:lnTo>
                    <a:pt x="19628" y="16134"/>
                  </a:lnTo>
                  <a:lnTo>
                    <a:pt x="16264" y="1160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86200" y="48672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ith different implications for hospital surge arrival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6095880" y="3390840"/>
            <a:ext cx="914400" cy="381240"/>
          </a:xfrm>
          <a:custGeom>
            <a:avLst/>
            <a:gdLst>
              <a:gd name="textAreaLeft" fmla="*/ 142920 w 914400"/>
              <a:gd name="textAreaRight" fmla="*/ 800280 w 9144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822920"/>
            <a:ext cx="152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ing different patient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2917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3772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724800">
            <a:off x="6095520" y="3999600"/>
            <a:ext cx="914400" cy="380880"/>
          </a:xfrm>
          <a:custGeom>
            <a:avLst/>
            <a:gdLst>
              <a:gd name="textAreaLeft" fmla="*/ 1429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munity-Based Mass Prophylaxis: A Planning Guide for Public Health Preparedness”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5760" y="35053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ahcpr.gov/research/cbmprophyl/cbmpro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6:05:09Z</dcterms:created>
  <dc:creator>Nathaniel Hupert, MD, MPH</dc:creator>
  <dc:description/>
  <dc:language>en-US</dc:language>
  <cp:lastModifiedBy>Rilla Murray</cp:lastModifiedBy>
  <cp:lastPrinted>2004-10-07T21:57:53Z</cp:lastPrinted>
  <dcterms:modified xsi:type="dcterms:W3CDTF">2004-10-25T17:28:20Z</dcterms:modified>
  <cp:revision>90</cp:revision>
  <dc:subject/>
  <dc:title>Guiding Ques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453460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: Surge Capacity 3</vt:lpwstr>
  </property>
  <property fmtid="{D5CDD505-2E9C-101B-9397-08002B2CF9AE}" pid="6" name="_PreviousAdHocReviewCycleID">
    <vt:r8>-2146109640</vt:r8>
  </property>
</Properties>
</file>