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C4F0-B7AE-4674-AEB5-898850BD8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: Dr. Hupert, I understand that the U.S. health care system has very little surge capacity.  In response, ARK has sponsored the development of a variety of models and guides that address hospital preparedness, one of which is your “Community-Based Mass Prophylaxis Planning Guide for Public Health Preparedness.”  Can you tell us, what are the value and benefits of modeling surge capa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2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develop a model for a mass casualty event, what are the things you need to think abou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: Using anthrax as an example, what can a model us about how soon patients will seek treat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4: How could we use this model to figure out how many people could be treated outside the hospita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5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also use models to predict when and what resources will be needed in the hospit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5 Cont.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we also use models to predict when and what resources will be needed in the hospita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6: What are the advantages of being able to model both pre-hospital and hospital-based surge capa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8. Where can our audience find out more about your mod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0564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0564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0564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0564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64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564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564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564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564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0564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564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7162920" cy="17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Addressing Surge Capacity in a Mass Casualty Event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14240" y="3123720"/>
            <a:ext cx="4724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haniel Hupert, M.D., M.P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stant Professor of Pub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and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ll Medical Colle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11932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391520" y="3200400"/>
            <a:ext cx="1533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Why Model Surge?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lready know the U.S. health care system has very little surge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benefit of creating computer models of i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95680" y="1752120"/>
            <a:ext cx="42674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ossible answ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sess common assumptions about the determinants of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 casualty estimates for varied planning efforts (e.g, ranging from different service lines in a single hospital to emergency planning functions in a reg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05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Determinants of Surge Capacity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559320"/>
            <a:ext cx="106704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ge ar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3419640"/>
            <a:ext cx="2286000" cy="99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pital or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76880" y="2286000"/>
            <a:ext cx="20574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l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4419720"/>
            <a:ext cx="0" cy="761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7432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5170320"/>
            <a:ext cx="152388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-of-region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4941720"/>
            <a:ext cx="1295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4941720"/>
            <a:ext cx="1295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76880" y="1905120"/>
            <a:ext cx="20574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76760" y="38685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00200"/>
            <a:ext cx="12952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46360" y="4370760"/>
            <a:ext cx="252360" cy="55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41160" y="4373280"/>
            <a:ext cx="263520" cy="549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70480" y="2819520"/>
            <a:ext cx="1854000" cy="622080"/>
          </a:xfrm>
          <a:custGeom>
            <a:avLst/>
            <a:gdLst/>
            <a:ahLst/>
            <a:rect l="l" t="t" r="r" b="b"/>
            <a:pathLst>
              <a:path w="1168" h="392">
                <a:moveTo>
                  <a:pt x="288" y="392"/>
                </a:moveTo>
                <a:cubicBezTo>
                  <a:pt x="144" y="328"/>
                  <a:pt x="0" y="264"/>
                  <a:pt x="48" y="200"/>
                </a:cubicBezTo>
                <a:cubicBezTo>
                  <a:pt x="96" y="136"/>
                  <a:pt x="400" y="16"/>
                  <a:pt x="576" y="8"/>
                </a:cubicBezTo>
                <a:cubicBezTo>
                  <a:pt x="752" y="0"/>
                  <a:pt x="1040" y="88"/>
                  <a:pt x="1104" y="152"/>
                </a:cubicBezTo>
                <a:cubicBezTo>
                  <a:pt x="1168" y="216"/>
                  <a:pt x="1064" y="304"/>
                  <a:pt x="960" y="3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2895480"/>
            <a:ext cx="83808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2057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457360"/>
            <a:ext cx="1828800" cy="91440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hos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1360" y="2438280"/>
            <a:ext cx="406440" cy="60984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256" y="0"/>
                </a:moveTo>
                <a:cubicBezTo>
                  <a:pt x="180" y="28"/>
                  <a:pt x="104" y="56"/>
                  <a:pt x="64" y="96"/>
                </a:cubicBezTo>
                <a:cubicBezTo>
                  <a:pt x="24" y="136"/>
                  <a:pt x="0" y="192"/>
                  <a:pt x="16" y="240"/>
                </a:cubicBezTo>
                <a:cubicBezTo>
                  <a:pt x="32" y="288"/>
                  <a:pt x="96" y="336"/>
                  <a:pt x="160" y="38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2960" y="2082960"/>
            <a:ext cx="460440" cy="958680"/>
          </a:xfrm>
          <a:custGeom>
            <a:avLst/>
            <a:gdLst/>
            <a:ahLst/>
            <a:rect l="l" t="t" r="r" b="b"/>
            <a:pathLst>
              <a:path w="256" h="384">
                <a:moveTo>
                  <a:pt x="256" y="0"/>
                </a:moveTo>
                <a:cubicBezTo>
                  <a:pt x="180" y="28"/>
                  <a:pt x="104" y="56"/>
                  <a:pt x="64" y="96"/>
                </a:cubicBezTo>
                <a:cubicBezTo>
                  <a:pt x="24" y="136"/>
                  <a:pt x="0" y="192"/>
                  <a:pt x="16" y="240"/>
                </a:cubicBezTo>
                <a:cubicBezTo>
                  <a:pt x="32" y="288"/>
                  <a:pt x="96" y="336"/>
                  <a:pt x="160" y="3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71600" y="3429000"/>
            <a:ext cx="1294920" cy="457200"/>
            <a:chOff x="1371600" y="3429000"/>
            <a:chExt cx="1294920" cy="457200"/>
          </a:xfrm>
        </p:grpSpPr>
        <p:sp>
          <p:nvSpPr>
            <p:cNvPr id="113" name=""/>
            <p:cNvSpPr/>
            <p:nvPr/>
          </p:nvSpPr>
          <p:spPr>
            <a:xfrm>
              <a:off x="1371600" y="34290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1600" y="3886200"/>
              <a:ext cx="129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57200" y="1371600"/>
            <a:ext cx="533520" cy="457200"/>
          </a:xfrm>
          <a:prstGeom prst="irregularSeal1">
            <a:avLst/>
          </a:prstGeom>
          <a:solidFill>
            <a:srgbClr val="fe02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29240" y="4495680"/>
            <a:ext cx="1542960" cy="381240"/>
          </a:xfrm>
          <a:custGeom>
            <a:avLst/>
            <a:gdLst>
              <a:gd name="textAreaLeft" fmla="*/ 0 w 1542960"/>
              <a:gd name="textAreaRight" fmla="*/ 1543320 w 1542960"/>
              <a:gd name="textAreaTop" fmla="*/ 50040 h 381240"/>
              <a:gd name="textAreaBottom" fmla="*/ 331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425"/>
                </a:moveTo>
                <a:cubicBezTo>
                  <a:pt x="7200" y="-3623"/>
                  <a:pt x="14400" y="6473"/>
                  <a:pt x="21600" y="1425"/>
                </a:cubicBezTo>
                <a:lnTo>
                  <a:pt x="21600" y="20175"/>
                </a:lnTo>
                <a:cubicBezTo>
                  <a:pt x="14400" y="25223"/>
                  <a:pt x="7200" y="15127"/>
                  <a:pt x="0" y="20175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ge Discharge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3352680"/>
            <a:ext cx="106704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0320" y="3656160"/>
            <a:ext cx="429840" cy="15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4043520"/>
            <a:ext cx="106704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19400" y="4035600"/>
            <a:ext cx="429840" cy="156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143000"/>
            <a:ext cx="381240" cy="3048120"/>
          </a:xfrm>
          <a:custGeom>
            <a:avLst/>
            <a:gdLst>
              <a:gd name="textAreaLeft" fmla="*/ 111960 w 381240"/>
              <a:gd name="textAreaRight" fmla="*/ 381600 w 381240"/>
              <a:gd name="textAreaTop" fmla="*/ 126720 h 3048120"/>
              <a:gd name="textAreaBottom" fmla="*/ 292140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80360" y="1143000"/>
            <a:ext cx="381240" cy="3048120"/>
          </a:xfrm>
          <a:custGeom>
            <a:avLst/>
            <a:gdLst>
              <a:gd name="textAreaLeft" fmla="*/ 111960 w 381240"/>
              <a:gd name="textAreaRight" fmla="*/ 381600 w 381240"/>
              <a:gd name="textAreaTop" fmla="*/ 126720 h 3048120"/>
              <a:gd name="textAreaBottom" fmla="*/ 292140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6172200"/>
            <a:ext cx="807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51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ot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indebted to Sam Benson, EMT-P, New York City Office of Emergency Management for the notion of “surge discharge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33720" y="1447920"/>
            <a:ext cx="5562360" cy="365760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16a41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133720" y="1599840"/>
            <a:ext cx="541008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828800" y="1600200"/>
            <a:ext cx="0" cy="327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541008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760" y="258912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502776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ne (H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3560" y="12175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ng (Day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62080" y="5484960"/>
            <a:ext cx="18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horter (1-2 Day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6640" y="548496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nger 4+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8840" y="5789520"/>
            <a:ext cx="52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needed to protect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53880" y="1907280"/>
            <a:ext cx="3522960" cy="2464200"/>
            <a:chOff x="3053880" y="1907280"/>
            <a:chExt cx="3522960" cy="2464200"/>
          </a:xfrm>
        </p:grpSpPr>
        <p:sp>
          <p:nvSpPr>
            <p:cNvPr id="135" name=""/>
            <p:cNvSpPr/>
            <p:nvPr/>
          </p:nvSpPr>
          <p:spPr>
            <a:xfrm rot="19662600">
              <a:off x="4010760" y="2714040"/>
              <a:ext cx="164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ote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9644600">
              <a:off x="5924880" y="203940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9597200">
              <a:off x="3099240" y="38473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133720" y="14479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5105520"/>
            <a:ext cx="556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89320" y="493560"/>
            <a:ext cx="62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odeling Pre-hospita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133720" y="3505320"/>
            <a:ext cx="1752480" cy="1600200"/>
            <a:chOff x="2133720" y="3505320"/>
            <a:chExt cx="1752480" cy="1600200"/>
          </a:xfrm>
        </p:grpSpPr>
        <p:sp>
          <p:nvSpPr>
            <p:cNvPr id="142" name=""/>
            <p:cNvSpPr/>
            <p:nvPr/>
          </p:nvSpPr>
          <p:spPr>
            <a:xfrm>
              <a:off x="2133720" y="3505320"/>
              <a:ext cx="1752480" cy="160020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09680" y="4525920"/>
              <a:ext cx="914400" cy="426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AF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2876400"/>
            <a:ext cx="7924680" cy="3295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Modeled Outcomes of Pre-hospital Anthrax Prophylaxis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1863720"/>
            <a:ext cx="5181840" cy="642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exposed individuals don’t get sick because they receive antibiotics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5353200"/>
            <a:ext cx="55260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823840" y="3020760"/>
            <a:ext cx="4029840" cy="15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2724120"/>
            <a:ext cx="1752480" cy="642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Hospital Su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8458200" y="350496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If 100,000 people were exposed to anthrax and your prophylaxis campaign…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28120" y="17521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cover all in 2 days after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,000 s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4914" t="0" r="0" b="0"/>
          <a:stretch/>
        </p:blipFill>
        <p:spPr>
          <a:xfrm>
            <a:off x="609480" y="2705040"/>
            <a:ext cx="7496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619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cover all in 2 days after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d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4,000 s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4933" t="0" r="0" b="0"/>
          <a:stretch/>
        </p:blipFill>
        <p:spPr>
          <a:xfrm>
            <a:off x="762120" y="2666880"/>
            <a:ext cx="7480080" cy="3953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0066"/>
                </a:solidFill>
                <a:latin typeface="Arial"/>
              </a:rPr>
              <a:t>If 100,000 people were exposed to anthrax and your prophylaxis campaign…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274320"/>
            <a:ext cx="872496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odeling Improves Community-wide Surge Capacity Planning by Linking Pre-hospital and Hospital-based Care Planning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736720"/>
            <a:ext cx="1371600" cy="106704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0509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exposure scenari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8840" y="2950560"/>
            <a:ext cx="1350360" cy="17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75000" y="3118680"/>
            <a:ext cx="920520" cy="231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95520" y="3276000"/>
            <a:ext cx="1022760" cy="356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65720" y="3599280"/>
            <a:ext cx="11358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12800" y="3432960"/>
            <a:ext cx="508320" cy="20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52640" y="3984480"/>
            <a:ext cx="228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lead to different total and daily casualty loads depending on pre-hospital preparedness and respon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733920" y="2990880"/>
            <a:ext cx="1981080" cy="1828800"/>
            <a:chOff x="3733920" y="2990880"/>
            <a:chExt cx="1981080" cy="1828800"/>
          </a:xfrm>
        </p:grpSpPr>
        <p:grpSp>
          <p:nvGrpSpPr>
            <p:cNvPr id="167" name=""/>
            <p:cNvGrpSpPr/>
            <p:nvPr/>
          </p:nvGrpSpPr>
          <p:grpSpPr>
            <a:xfrm>
              <a:off x="4219560" y="3390840"/>
              <a:ext cx="990360" cy="990360"/>
              <a:chOff x="4219560" y="3390840"/>
              <a:chExt cx="990360" cy="990360"/>
            </a:xfrm>
          </p:grpSpPr>
          <p:sp>
            <p:nvSpPr>
              <p:cNvPr id="168" name=""/>
              <p:cNvSpPr/>
              <p:nvPr/>
            </p:nvSpPr>
            <p:spPr>
              <a:xfrm>
                <a:off x="4219560" y="3390840"/>
                <a:ext cx="990360" cy="99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19560" y="3390840"/>
                <a:ext cx="990360" cy="990360"/>
              </a:xfrm>
              <a:prstGeom prst="plus">
                <a:avLst>
                  <a:gd name="adj" fmla="val 3381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733920" y="2990880"/>
              <a:ext cx="1981080" cy="182880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65" y="9600"/>
                  </a:moveTo>
                  <a:arcTo wR="-8223" hR="-8223" stAng="-10296527" swAng="-19542263"/>
                  <a:lnTo>
                    <a:pt x="18739" y="18122"/>
                  </a:lnTo>
                  <a:arcTo wR="10800" hR="10800" stAng="2561211" swAng="19542263"/>
                  <a:lnTo>
                    <a:pt x="24155" y="12770"/>
                  </a:lnTo>
                  <a:lnTo>
                    <a:pt x="19628" y="16134"/>
                  </a:lnTo>
                  <a:lnTo>
                    <a:pt x="16264" y="11606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886200" y="48672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with different implications for hospital surge arrival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948400">
            <a:off x="6095880" y="3390840"/>
            <a:ext cx="914400" cy="381240"/>
          </a:xfrm>
          <a:custGeom>
            <a:avLst/>
            <a:gdLst>
              <a:gd name="textAreaLeft" fmla="*/ 142920 w 914400"/>
              <a:gd name="textAreaRight" fmla="*/ 800280 w 9144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822920"/>
            <a:ext cx="1524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ielding different patient outc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2920" y="291780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3772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P IconicSymbolsA"/>
                <a:ea typeface="WP IconicSymbolsA"/>
              </a:rPr>
              <a:t>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 rot="724800">
            <a:off x="6095520" y="3999600"/>
            <a:ext cx="914400" cy="380880"/>
          </a:xfrm>
          <a:custGeom>
            <a:avLst/>
            <a:gdLst>
              <a:gd name="textAreaLeft" fmla="*/ 1429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e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Community-Based Mass Prophylaxis: A Planning Guide for Public Health Preparedness”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5760" y="35053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ahcpr.gov/research/cbmprophyl/cbmpro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6:05:09Z</dcterms:created>
  <dc:creator>Nathaniel Hupert, MD, MPH</dc:creator>
  <dc:description/>
  <dc:language>en-US</dc:language>
  <cp:lastModifiedBy>Rilla Murray</cp:lastModifiedBy>
  <cp:lastPrinted>2004-10-07T21:57:53Z</cp:lastPrinted>
  <dcterms:modified xsi:type="dcterms:W3CDTF">2004-10-25T17:28:20Z</dcterms:modified>
  <cp:revision>90</cp:revision>
  <dc:subject/>
  <dc:title>Guiding Ques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24534601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eb conf: Surge Capacity 3</vt:lpwstr>
  </property>
  <property fmtid="{D5CDD505-2E9C-101B-9397-08002B2CF9AE}" pid="6" name="_PreviousAdHocReviewCycleID">
    <vt:r8>-2146109640</vt:r8>
  </property>
</Properties>
</file>