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5640" indent="-39564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92000" indent="-282960">
              <a:spcBef>
                <a:spcPts val="799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40458c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40458c"/>
              </a:buClr>
              <a:buSzPct val="8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9520" y="9140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lorado’s Health Emergency Line for the Public (COHELP)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dressing Surge Capacity through Information Exchan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62120" y="3123720"/>
            <a:ext cx="3962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gory M. Bogdan, Ph.D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Dir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ky Mountain Poison and Drug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ver Heal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ver,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160" y="5842080"/>
            <a:ext cx="2122560" cy="977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48440" y="5884920"/>
            <a:ext cx="2057400" cy="93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rcRect l="11113" t="0" r="5554" b="0"/>
          <a:stretch/>
        </p:blipFill>
        <p:spPr>
          <a:xfrm>
            <a:off x="5334120" y="3048120"/>
            <a:ext cx="274320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vides 1-on-1 Inform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523880"/>
            <a:ext cx="853452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oronto – SARS outbreak, Mar to Jun 200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alls = &gt;300,000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k Daily Calls = 47,567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s: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s: 438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HELP – Two Outbreaks, Jul to Dec 200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alls = 36,170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st Nile Virus (WNV) Calls = 12,555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s: 4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s: 2,54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za/Pneumonia   Calls = 23,615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s: 80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s: 11,427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educes Hospital Surg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63960" indent="-3639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ed States Poison Control Ce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5992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2.4 million contacts about potential toxic exposures, 1.8 million (75%) were managed outside of health care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3960" indent="-3639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ver Health Nurse 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5992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s 40% of callers at h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5992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0% callers changed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5992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% planned home care but 47% chose it after call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Other Benef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55680" indent="-35568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ized, accurate information 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center infrastructure/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ed Web sites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ww.cohelp.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information provi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referral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5680" indent="-35568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data collection and repor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Lessons Learn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47760" indent="-3477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health events will continue to occur and will require a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structured, coordinated systems to respond to these events that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6240" indent="-24840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-ef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6240" indent="-24840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6240" indent="-24840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6240" indent="-24840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6240" indent="-24840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ore Lessons Learn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47760" indent="-3477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volume driven by event specifics and media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y to adapt messages to meet evolving public health and public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rveill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6240" indent="-24840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going surveillance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3680" indent="-298440">
              <a:spcBef>
                <a:spcPts val="601"/>
              </a:spcBef>
              <a:buClr>
                <a:srgbClr val="40458c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volumes, topics requested, collecte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6240" indent="-24840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tinel event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3680" indent="-298440">
              <a:spcBef>
                <a:spcPts val="601"/>
              </a:spcBef>
              <a:buClr>
                <a:srgbClr val="40458c"/>
              </a:buClr>
              <a:buSzPct val="5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dentify new health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or More Informa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 Emergency Assistance Line and Triage Hub (HEALTH) Model” report on AHRQ Web site by end of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285840">
              <a:spcBef>
                <a:spcPts val="601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ww.ahrq.g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99960" indent="-399960">
              <a:spcBef>
                <a:spcPts val="700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 Contact Center Assessment Tool on HSRNET or AHRQ Web si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285840">
              <a:spcBef>
                <a:spcPts val="601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ww.hsrnet.net/ahrq/surgecapacity/event3/resource.ht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 (available no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285840">
              <a:spcBef>
                <a:spcPts val="601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ww.ahrq.go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vailable by end of year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28600" y="1601640"/>
          <a:ext cx="89154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1640"/>
                    <a:ext cx="89154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 rot="16203000">
            <a:off x="-1073160" y="276984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tline Conta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% populatio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ublic Risk Percep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5627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ent specifics (bioterrorism, child-targeted, new emerging disease) will effect the amount of public concern and numbers of people having information or others need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llenge for Prepare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4 Redefining Readiness Projec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% of public would not heed official instructions to get vaccinated during smallpox outbreak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0% of public would not heed official instructions to shelter in place during a dirty bomb inci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. Lasker, Center for the Advancement of Collaborative Strategies in Health (www. cacsh.or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blic Needs Information on….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 topic/even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99960" indent="-3999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health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28584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and family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28584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/local health dept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285840">
              <a:spcBef>
                <a:spcPts val="700"/>
              </a:spcBef>
              <a:buClr>
                <a:srgbClr val="40458c"/>
              </a:buClr>
              <a:buSzPct val="60000"/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s of contact for referral ag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99960" indent="-3999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lth decision-support and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atural Fits”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son control ce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99960" indent="-3999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se advice 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99960" indent="-3999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ug information cen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99960" indent="-399960">
              <a:spcBef>
                <a:spcPts val="799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health ag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>
            <a:off x="847440" y="1981080"/>
            <a:ext cx="252396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401000">
            <a:off x="1471680" y="2035080"/>
            <a:ext cx="890640" cy="173160"/>
          </a:xfrm>
          <a:prstGeom prst="rightArrow">
            <a:avLst>
              <a:gd name="adj1" fmla="val 50000"/>
              <a:gd name="adj2" fmla="val 12858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16240" y="1352520"/>
            <a:ext cx="280044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spitals &amp; Healthcare Faciliti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16240" y="2000160"/>
            <a:ext cx="914400" cy="39632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781600">
            <a:off x="404280" y="3189960"/>
            <a:ext cx="888840" cy="334800"/>
          </a:xfrm>
          <a:prstGeom prst="rightArrow">
            <a:avLst>
              <a:gd name="adj1" fmla="val 50000"/>
              <a:gd name="adj2" fmla="val 66371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6360" y="23432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General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66720" y="5943600"/>
            <a:ext cx="2525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6720" y="492120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Healt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Professional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025400">
            <a:off x="393840" y="4311360"/>
            <a:ext cx="906480" cy="336600"/>
          </a:xfrm>
          <a:prstGeom prst="rightArrow">
            <a:avLst>
              <a:gd name="adj1" fmla="val 50000"/>
              <a:gd name="adj2" fmla="val 6732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33880" y="1981080"/>
            <a:ext cx="1143000" cy="533520"/>
          </a:xfrm>
          <a:custGeom>
            <a:avLst/>
            <a:gdLst>
              <a:gd name="textAreaLeft" fmla="*/ 380880 w 1143000"/>
              <a:gd name="textAreaRight" fmla="*/ 979200 w 114300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133880" y="5391000"/>
            <a:ext cx="1219320" cy="533520"/>
          </a:xfrm>
          <a:custGeom>
            <a:avLst/>
            <a:gdLst>
              <a:gd name="textAreaLeft" fmla="*/ 406440 w 1219320"/>
              <a:gd name="textAreaRight" fmla="*/ 1044360 w 1219320"/>
              <a:gd name="textAreaTop" fmla="*/ 307440 h 533520"/>
              <a:gd name="textAreaBottom" fmla="*/ 4572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16240" y="5943600"/>
            <a:ext cx="308304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cal &amp; State Public Health Agenci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525760"/>
            <a:ext cx="1752480" cy="291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71560" y="3249720"/>
            <a:ext cx="99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3206880"/>
            <a:ext cx="3200400" cy="15570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atient surges reduced by providing information and triage through multiple path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6200" y="152280"/>
            <a:ext cx="8399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a Medical Call Center Work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33880" y="2525760"/>
            <a:ext cx="1752480" cy="291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00640" y="3249720"/>
            <a:ext cx="106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x E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ce 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HELP Objectiv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63960" indent="-363960">
              <a:spcBef>
                <a:spcPts val="751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evelop a standardized and prepared response to public health even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63960" indent="-363960">
              <a:spcBef>
                <a:spcPts val="751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rovide consistent, accurate inform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63960" indent="-363960">
              <a:spcBef>
                <a:spcPts val="751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llect and maintain structured data to better characterize events and respons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63960" indent="-363960">
              <a:spcBef>
                <a:spcPts val="751"/>
              </a:spcBef>
              <a:buClr>
                <a:srgbClr val="40458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evelop capability and capacity to adapt to emerging public health emergenc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HELP Service Use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3200400"/>
            <a:ext cx="2590920" cy="1219320"/>
          </a:xfrm>
          <a:prstGeom prst="flowChartAlternateProcess">
            <a:avLst/>
          </a:prstGeom>
          <a:solidFill>
            <a:srgbClr val="6f89f7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COHEL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877-462-291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8448800">
            <a:off x="3009960" y="468648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00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5029200"/>
            <a:ext cx="1828800" cy="83808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Heal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Agenc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 rot="3151200">
            <a:off x="3012840" y="27810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1752480"/>
            <a:ext cx="1828800" cy="83844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Publ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rot="3151200">
            <a:off x="5295240" y="4686480"/>
            <a:ext cx="761760" cy="228240"/>
          </a:xfrm>
          <a:prstGeom prst="rightArrow">
            <a:avLst>
              <a:gd name="adj1" fmla="val 50000"/>
              <a:gd name="adj2" fmla="val 83438"/>
            </a:avLst>
          </a:prstGeom>
          <a:solidFill>
            <a:srgbClr val="00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029200"/>
            <a:ext cx="1828800" cy="83808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Hospit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&amp; E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 rot="18448800">
            <a:off x="5067360" y="27810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1752480"/>
            <a:ext cx="1828800" cy="83844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Healthca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Provid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429000"/>
            <a:ext cx="1828800" cy="83808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Clinic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7339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3429000"/>
            <a:ext cx="1828800" cy="83808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Schoo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791320" y="373392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0000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flipH="1" rot="16200000">
            <a:off x="3999240" y="278136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171933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ral Proced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3276720"/>
            <a:ext cx="2590920" cy="1218960"/>
          </a:xfrm>
          <a:prstGeom prst="flowChartAlternateProcess">
            <a:avLst/>
          </a:prstGeom>
          <a:solidFill>
            <a:srgbClr val="6f89f7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COHEL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5181480"/>
            <a:ext cx="2057400" cy="83844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Local Heal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Agenc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13240" y="1752480"/>
            <a:ext cx="1965240" cy="83844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Call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429000"/>
            <a:ext cx="1965240" cy="838080"/>
          </a:xfrm>
          <a:prstGeom prst="flowChartProcess">
            <a:avLst/>
          </a:prstGeom>
          <a:solidFill>
            <a:srgbClr val="6f89f7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Pois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Cen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4520" y="5181480"/>
            <a:ext cx="1965600" cy="83844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Healthca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Provid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5181480"/>
            <a:ext cx="1965240" cy="838440"/>
          </a:xfrm>
          <a:prstGeom prst="flowChartProcess">
            <a:avLst/>
          </a:prstGeom>
          <a:solidFill>
            <a:srgbClr val="ffcc00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CDPH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68920" y="3429000"/>
            <a:ext cx="1965600" cy="838080"/>
          </a:xfrm>
          <a:prstGeom prst="flowChartProcess">
            <a:avLst/>
          </a:prstGeom>
          <a:solidFill>
            <a:srgbClr val="6f89f7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Nur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933"/>
                </a:solidFill>
                <a:latin typeface="Tahoma"/>
              </a:rPr>
              <a:t>L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7560" y="37339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171933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73392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171933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rot="18765600">
            <a:off x="3085560" y="4686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171933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6200000">
            <a:off x="3999240" y="476244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171933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834400">
            <a:off x="4914360" y="468612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171933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9:22:13Z</dcterms:created>
  <dc:creator>RMPDC</dc:creator>
  <dc:description/>
  <dc:language>en-US</dc:language>
  <cp:lastModifiedBy>Cheryl Bell</cp:lastModifiedBy>
  <cp:lastPrinted>2004-10-08T00:22:15Z</cp:lastPrinted>
  <dcterms:modified xsi:type="dcterms:W3CDTF">2004-10-19T19:40:45Z</dcterms:modified>
  <cp:revision>101</cp:revision>
  <dc:subject/>
  <dc:title>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067146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eb conf: Surge Capacity 3</vt:lpwstr>
  </property>
  <property fmtid="{D5CDD505-2E9C-101B-9397-08002B2CF9AE}" pid="6" name="_PreviousAdHocReviewCycleID">
    <vt:r8>-1177866861</vt:r8>
  </property>
</Properties>
</file>