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74C5-91AB-4EE5-A8C2-848B446D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CD0-760A-4085-841D-E308516F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738D-4D0A-45D3-9A15-7241D8C2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5C55-9CBF-4AD2-9D30-B2ABF3C6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6686-736F-4414-9376-B4A29C58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032F-5EFF-4664-940B-29E6C291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4C2-E5DD-498A-A01C-0C809F5D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CA7B-362D-4D24-9F3A-9C6B3F09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0D90-2796-42E8-9C95-6127E62D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BEE8-B46E-4B5A-A43A-21823CBA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1B65-AD46-463A-A1E8-AE803A39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D15E-A82F-4DF6-89D9-FA37E56D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7F15-C788-4B7C-B7F4-C916464933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934320" y="6095880"/>
            <a:ext cx="2057400" cy="552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124080" y="6172200"/>
            <a:ext cx="373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 Program for Pediatric Prepared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ational Center for Disaster Prepared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Times New Roman"/>
              </a:rPr>
              <a:t>Pediatric Disaster and</a:t>
            </a:r>
            <a:br>
              <a:rPr sz="4800"/>
            </a:br>
            <a:r>
              <a:rPr b="1" lang="en-US" sz="4800" spc="-1" strike="noStrike">
                <a:solidFill>
                  <a:srgbClr val="00ffff"/>
                </a:solidFill>
                <a:latin typeface="Times New Roman"/>
              </a:rPr>
              <a:t>Terrorism Preparedness</a:t>
            </a:r>
            <a:endParaRPr b="1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3810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vid Markenson, M.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rector, The Program for Pediatric Preparednes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puty Director, National Center for Disaster Prepared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ilman School of Public Health, Columbia Univers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w York, 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What Are Some Of The Solutions?</a:t>
            </a: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 Advisory Committee on Children and Terror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diatric Disaster and Terrorism Preparedness: National Consensus Guide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diatric Expert Advisory Pa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ediatric Disaster and Terrorism</a:t>
            </a:r>
            <a:br>
              <a:rPr sz="3600"/>
            </a:b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reparedness: National Guidelines</a:t>
            </a:r>
            <a:endParaRPr b="1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7339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edness and Trea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olog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m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olog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nta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Disa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52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spital Prepare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tal Health Sch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mary Car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placed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Disaster Medical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lls and Simu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Pediatric Expert Advisory Panel</a:t>
            </a: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urpose of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ediatric Expert Advisory Panel (PEAP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to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uss and analyze current iss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-disciplin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al and non-governmental bri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-going progra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ility for rapid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semination of find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erence or Sympo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Pediatric Expert Advisory Panel</a:t>
            </a: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diatric Dosage AtroPe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ved by FDA in past few mon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 regar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diatric AtroPen or Mark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c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ckp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Unique Anatomy and Physiology</a:t>
            </a: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Surface Area/Vol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bsorptive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susceptible to volume lo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Minute Ventilation/Lower Breathing Z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nner Epidermis/ Under-keratinized Epiderm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mature Blood-brain Barr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dural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sychological Immat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mportance of Pediatric Considerations</a:t>
            </a:r>
            <a:endParaRPr b="1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are part of the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6% of the U.S. population are children and you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than 20 million are under the age of 6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gnoring children may compromise entire preparedness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2003 Surv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0% nationally and 92% in New York City, reported that they would not comply with an official evacuation or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6% of the national sample; 62% of New Yorkers listed concern for their children as the main reas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ediatric Terrorism Exposure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dvertently 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assic Think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ary victims in terrorist at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astrophic event at chemical/ nuclear pl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ntionally targeted 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w Think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  <p:animClr clrSpc="rgb"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" dur="1" fill="hold"/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What is Pediatric Surge?</a:t>
            </a: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ary Victi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rtion of normal cens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quely Pediatric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 of proportion to normal cens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ool, day care, school bus, ca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mily Un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ility to care for family without separating children and ad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Pediatric Surge Planning</a:t>
            </a: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ress Pediatrics out of Proportion to Normal Nu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ergency operations pl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ipment and pharmaceuti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lls and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s for Care of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ult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ult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ult 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s for Care of Adults in Pediatric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Federal and State Resources</a:t>
            </a: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tegic National Stockpile (S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d but limited pediatric 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tricted to FDA indicated us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aster Medical Assistance Team/ National Disaster Medical System (DMAT/ND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Pediatric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rmaceuti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Self-certified pediatric te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324480" y="3733920"/>
            <a:ext cx="24386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Federal and State Resources</a:t>
            </a: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Stockp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on S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cal Reserve Corps (MR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defined pediatric cap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estionable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De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der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―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8 h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diatric Alternativ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kn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Decontamination</a:t>
            </a: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pres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it injure ch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temper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ther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ambulatory ch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ants and todd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with special healthc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tal health conce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children follow instru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term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952880" y="1219320"/>
            <a:ext cx="2971800" cy="2173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010280" y="3505320"/>
            <a:ext cx="18957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6T15:14:11Z</dcterms:created>
  <dc:creator>David Markenson</dc:creator>
  <dc:description/>
  <dc:language>en-US</dc:language>
  <cp:lastModifiedBy>Samantha Vargas</cp:lastModifiedBy>
  <dcterms:modified xsi:type="dcterms:W3CDTF">2004-07-08T20:17:19Z</dcterms:modified>
  <cp:revision>23</cp:revision>
  <dc:subject/>
  <dc:title>Pediatric Disaster and Terrorism Preparedness</dc:title>
</cp:coreProperties>
</file>