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7452-FEC9-4034-835F-584D3CDB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6F3D-9956-440F-9C15-6504D2F4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CC3-54E9-417A-AA99-3A1AFE5A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A016-743E-48AA-844C-C3990809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A4E-3448-48BD-BAE4-ABB8369B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364D-BE1A-4CC6-95B1-7AE21A4F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07B-F476-4A57-87E5-F98E109F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FCE-1667-45C0-8155-98A82B05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54CA-0507-4760-A44A-84D2744E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9BD2-0515-4A7C-8A4D-20E7A760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4EA-CD6B-4E11-B2FF-3B478996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B85-729D-47FC-A66C-1F08EB8D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00E9-6981-4FE7-B97D-5E3B2E429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934320" y="6095880"/>
            <a:ext cx="2057400" cy="552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124080" y="6172200"/>
            <a:ext cx="3733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he Program for Pediatric Prepared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ational Center for Disaster Prepared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Times New Roman"/>
              </a:rPr>
              <a:t>Pediatric Disaster and</a:t>
            </a:r>
            <a:br>
              <a:rPr sz="4800"/>
            </a:br>
            <a:r>
              <a:rPr b="1" lang="en-US" sz="4800" spc="-1" strike="noStrike">
                <a:solidFill>
                  <a:srgbClr val="00ffff"/>
                </a:solidFill>
                <a:latin typeface="Times New Roman"/>
              </a:rPr>
              <a:t>Terrorism Preparedness</a:t>
            </a:r>
            <a:endParaRPr b="1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3810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vid Markenson, M.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tor, The Program for Pediatric Preparednes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puty Director, National Center for Disaster Prepared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ailman School of Public Health, Columbia Univers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ew York, 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What Are Some Of The Solutions?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Advisory Committee on Children and Terror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diatric Disaster and Terrorism Preparedness: National Consensus Guide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diatric Expert Advisory Pa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ediatric Disaster and Terrorism</a:t>
            </a:r>
            <a:br>
              <a:rPr sz="3600"/>
            </a:b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reparedness: National Guidelines</a:t>
            </a:r>
            <a:endParaRPr b="1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7339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edness and 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olog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mi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olog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nta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Disa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52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spital Prepare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tal Health Sch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ary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placed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Disaster Medical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lls and Simu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Pediatric Expert Advisory Panel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rpose of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ediatric Expert Advisory Panel (PEAP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o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 and analyze current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-disciplin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al and non-governmental bri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-going progra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for rapid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semination of find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erence or Sympo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Pediatric Expert Advisory Panel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diatric Dosage AtroPe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ved by FDA in past few mon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 regar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diatric AtroPen or Mark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oc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ockp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Unique Anatomy and Physiology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Surface Area/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bsorptive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susceptible to volume lo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d Minute Ventilation/Lower Breathing Z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ner Epidermis/ Under-keratinized Epiderm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mature Blood-brain Barr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al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sychological Immat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mportance of Pediatric Considerations</a:t>
            </a:r>
            <a:endParaRPr b="1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are part of the po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6% of the U.S. population are children and you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than 20 million are under the age of 6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gnoring children may compromise entire preparedness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2003 Surv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% nationally and 92% in New York City, reported that they would not comply with an official evacuation ord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6% of the national sample; 62% of New Yorkers listed concern for their children as the main reas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ediatric Terrorism Exposure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advertently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assic Think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ary victims in terrorist att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tastrophic event at chemical/ nuclear pl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ally targeted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w Think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" dur="1" fill="hold"/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What is Pediatric Surge?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ary Victi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rtion of normal cens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ly Pediatric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 of proportion to normal cens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, day care, school bus, ca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ily 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ility to care for family without separating children and ad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Pediatric Surge Planning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ress Pediatrics out of Proportion to Normal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ergency operations pl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pment and pharmaceut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lls and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s for Care of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ult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ult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ult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s for Care of Adults in Pediatric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Federal and State Resources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c National Stockpile (S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d but limited pediatric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tricted to FDA indicated u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aster Medical Assistance Team/ National Disaster Medical System (DMAT/ND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Pediatric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rmaceut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Self-certified pediatric t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24480" y="3733920"/>
            <a:ext cx="24386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Federal and State Resources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Stockp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on S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l Reserve Corps (MR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defined pediatric cap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stionable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me De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der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―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8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diatric Alternativ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kn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Decontamination</a:t>
            </a:r>
            <a:endParaRPr b="1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press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t injure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temper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ther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-ambulatory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ants and todd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with special healthc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tal health conce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children follow instru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term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2971800" cy="21733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010280" y="3505320"/>
            <a:ext cx="18957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15:14:11Z</dcterms:created>
  <dc:creator>David Markenson</dc:creator>
  <dc:description/>
  <dc:language>en-US</dc:language>
  <cp:lastModifiedBy>Samantha Vargas</cp:lastModifiedBy>
  <dcterms:modified xsi:type="dcterms:W3CDTF">2004-07-08T20:17:19Z</dcterms:modified>
  <cp:revision>23</cp:revision>
  <dc:subject/>
  <dc:title>Pediatric Disaster and Terrorism Preparedness</dc:title>
</cp:coreProperties>
</file>