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wmf" ContentType="image/x-wmf"/>
  <Override PartName="/ppt/media/image8.jpeg" ContentType="image/jpeg"/>
  <Override PartName="/ppt/media/image4.wmf" ContentType="image/x-wmf"/>
  <Override PartName="/ppt/media/image5.png" ContentType="image/png"/>
  <Override PartName="/ppt/media/image6.jpeg" ContentType="image/jpeg"/>
  <Override PartName="/ppt/media/image7.jpeg" ContentType="image/jpeg"/>
  <Override PartName="/ppt/media/image9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79273-144E-49B1-8DD3-740B9AD25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81053-4CC9-4C71-BFA7-F853A2510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CC28B-184C-4AC1-9234-AEED8D7BA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9440D-6846-4B5F-A147-EFD9F00C1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9F335-B25E-46A2-BC9B-953AA5385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7235D-A882-4FB4-8519-25C6843C4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9841D-CE66-44BA-8BE1-F55F582CA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B068A-E22A-40F7-A267-B66BC676A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1A837-FD07-4764-A85E-CB685E4FF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D74B8-F875-461D-A8A9-B9E8CCBDC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E207C-0D09-4CEE-A48D-33FC7FFD6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02380-8676-451B-B015-66EB53B74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2"/>
            </a:gs>
            <a:gs pos="50000">
              <a:srgbClr val="000066"/>
            </a:gs>
            <a:gs pos="100000">
              <a:srgbClr val="00002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1" name="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000022"/>
                </a:gs>
                <a:gs pos="50000">
                  <a:srgbClr val="9999ff"/>
                </a:gs>
                <a:gs pos="100000">
                  <a:srgbClr val="00002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22"/>
                </a:gs>
                <a:gs pos="50000">
                  <a:srgbClr val="000066"/>
                </a:gs>
                <a:gs pos="100000">
                  <a:srgbClr val="00002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22"/>
                </a:gs>
                <a:gs pos="50000">
                  <a:srgbClr val="000066"/>
                </a:gs>
                <a:gs pos="100000">
                  <a:srgbClr val="00002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22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8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000048"/>
                </a:gs>
                <a:gs pos="50000">
                  <a:srgbClr val="000066"/>
                </a:gs>
                <a:gs pos="100000">
                  <a:srgbClr val="0000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8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48"/>
                </a:gs>
                <a:gs pos="50000">
                  <a:srgbClr val="000066"/>
                </a:gs>
                <a:gs pos="100000">
                  <a:srgbClr val="0000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E1A5F-5F37-48FB-A7E9-C17E328BACF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2"/>
            </a:gs>
            <a:gs pos="50000">
              <a:srgbClr val="000066"/>
            </a:gs>
            <a:gs pos="100000">
              <a:srgbClr val="00002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51" name="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000022"/>
                </a:gs>
                <a:gs pos="50000">
                  <a:srgbClr val="9999ff"/>
                </a:gs>
                <a:gs pos="100000">
                  <a:srgbClr val="00002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22"/>
                </a:gs>
                <a:gs pos="50000">
                  <a:srgbClr val="000066"/>
                </a:gs>
                <a:gs pos="100000">
                  <a:srgbClr val="00002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22"/>
                </a:gs>
                <a:gs pos="50000">
                  <a:srgbClr val="000066"/>
                </a:gs>
                <a:gs pos="100000">
                  <a:srgbClr val="00002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22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8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000048"/>
                </a:gs>
                <a:gs pos="50000">
                  <a:srgbClr val="000066"/>
                </a:gs>
                <a:gs pos="100000">
                  <a:srgbClr val="0000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8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48"/>
                </a:gs>
                <a:gs pos="50000">
                  <a:srgbClr val="000066"/>
                </a:gs>
                <a:gs pos="100000">
                  <a:srgbClr val="0000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rcRect l="0" t="0" r="0" b="9049"/>
          <a:stretch/>
        </p:blipFill>
        <p:spPr>
          <a:xfrm>
            <a:off x="762120" y="5867280"/>
            <a:ext cx="8001000" cy="6858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png"/><Relationship Id="rId6" Type="http://schemas.openxmlformats.org/officeDocument/2006/relationships/hyperlink" Target="mailto:DavidGruber@doh.state.nj.us" TargetMode="External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2"/>
            </a:gs>
            <a:gs pos="50000">
              <a:srgbClr val="000066"/>
            </a:gs>
            <a:gs pos="100000">
              <a:srgbClr val="00002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Times New Roman"/>
              </a:rPr>
              <a:t>New Jersey: Health Emergency Preparedness and Response Program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37339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avid Gruber, M.M.A.S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ssistant Commission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 Jersey Department of Health and Senior Servic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renton, NJ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rcRect l="7184" t="0" r="6584" b="25000"/>
          <a:stretch/>
        </p:blipFill>
        <p:spPr>
          <a:xfrm>
            <a:off x="5867280" y="3200400"/>
            <a:ext cx="207324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2"/>
            </a:gs>
            <a:gs pos="50000">
              <a:srgbClr val="000066"/>
            </a:gs>
            <a:gs pos="100000">
              <a:srgbClr val="00002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127080" y="3310560"/>
            <a:ext cx="8915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imes New Roman"/>
              </a:rPr>
              <a:t>Medical Coordination Center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Five </a:t>
            </a:r>
            <a:r>
              <a:rPr b="0" i="1" lang="en-US" sz="2200" spc="-1" strike="noStrike">
                <a:solidFill>
                  <a:srgbClr val="ffcc00"/>
                </a:solidFill>
                <a:latin typeface="Times New Roman"/>
              </a:rPr>
              <a:t>regional</a:t>
            </a:r>
            <a:r>
              <a:rPr b="0" lang="en-US" sz="22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Medical Coordination Centers (MCCs) housed in host hospital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Health Auxiliary Coordination Center (HACC)  in the New Jersey Hospital Association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Responsible for </a:t>
            </a:r>
            <a:r>
              <a:rPr b="0" i="1" lang="en-US" sz="2200" spc="-1" strike="noStrike">
                <a:solidFill>
                  <a:srgbClr val="ffcc00"/>
                </a:solidFill>
                <a:latin typeface="Times New Roman"/>
              </a:rPr>
              <a:t>development of regional planning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 for hospitals and other medical facilities with an emphasis on enhanced </a:t>
            </a:r>
            <a:r>
              <a:rPr b="0" i="1" lang="en-US" sz="2200" spc="-1" strike="noStrike">
                <a:solidFill>
                  <a:srgbClr val="ffcc00"/>
                </a:solidFill>
                <a:latin typeface="Times New Roman"/>
              </a:rPr>
              <a:t>surge capacity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c00"/>
                </a:solidFill>
                <a:latin typeface="Times New Roman"/>
              </a:rPr>
              <a:t>Coordination and management of medical and medically related activities and resources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Integrated and synchronized with public health and emergency management systems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MCCs will have the </a:t>
            </a:r>
            <a:r>
              <a:rPr b="0" i="1" lang="en-US" sz="2200" spc="-1" strike="noStrike">
                <a:solidFill>
                  <a:srgbClr val="ffcc00"/>
                </a:solidFill>
                <a:latin typeface="Times New Roman"/>
              </a:rPr>
              <a:t>same information available as the Department’s HCC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 to include: hospital diversion status, health facility bed status, pharmaceutical availability, medical information, and EMS system status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2"/>
            </a:gs>
            <a:gs pos="50000">
              <a:srgbClr val="000066"/>
            </a:gs>
            <a:gs pos="100000">
              <a:srgbClr val="00002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2514600" y="1523880"/>
            <a:ext cx="184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imes New Roman"/>
              </a:rPr>
              <a:t>The Strategic State Stockpil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Commissioner of Health and Senior Services has directed the development and implementation of a plan that ensures New Jersey’s healthcare system is adequately supplied with pharmaceuticals and medical supplies during any emergency.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s plan will rely on federally supplied materials (the Strategic National Stockpile) and on a New Jersey owned stockpile of medical/pharmaceutical supplies tailored to the State’s needs (Strategic State Stockpile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2"/>
            </a:gs>
            <a:gs pos="50000">
              <a:srgbClr val="000066"/>
            </a:gs>
            <a:gs pos="100000">
              <a:srgbClr val="00002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4459320" y="1295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Times New Roman"/>
              </a:rPr>
              <a:t>Health System Integration Software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ver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RMIS/Hospital Capac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MS/Decon Track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Track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SS Invento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fessional Regist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redential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2"/>
            </a:gs>
            <a:gs pos="50000">
              <a:srgbClr val="000066"/>
            </a:gs>
            <a:gs pos="100000">
              <a:srgbClr val="00002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2514600" y="1298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059200" y="205740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imes New Roman"/>
              </a:rPr>
              <a:t>The New Jersey Factor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999ff"/>
                </a:solidFill>
                <a:latin typeface="Times New Roman"/>
              </a:rPr>
              <a:t>National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Transportation corridor for rail and road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Ports and Airport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Philadelphia and New York City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Critical National Industrie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Agriculture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Atlantic City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Nuclear Power Plant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999ff"/>
                </a:solidFill>
                <a:latin typeface="Times New Roman"/>
              </a:rPr>
              <a:t>New Jersey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Petro-Chemical Plant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Pharmaceutical Industry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Agriculture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Tourism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2"/>
            </a:gs>
            <a:gs pos="50000">
              <a:srgbClr val="000066"/>
            </a:gs>
            <a:gs pos="100000">
              <a:srgbClr val="00002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6" name=""/>
          <p:cNvGrpSpPr/>
          <p:nvPr/>
        </p:nvGrpSpPr>
        <p:grpSpPr>
          <a:xfrm>
            <a:off x="2895480" y="1752480"/>
            <a:ext cx="3276720" cy="2895840"/>
            <a:chOff x="2895480" y="1752480"/>
            <a:chExt cx="3276720" cy="2895840"/>
          </a:xfrm>
        </p:grpSpPr>
        <p:sp>
          <p:nvSpPr>
            <p:cNvPr id="167" name=""/>
            <p:cNvSpPr/>
            <p:nvPr/>
          </p:nvSpPr>
          <p:spPr>
            <a:xfrm>
              <a:off x="2895480" y="1752480"/>
              <a:ext cx="3276720" cy="289584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55e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733920" y="2362320"/>
              <a:ext cx="1600200" cy="1307880"/>
            </a:xfrm>
            <a:prstGeom prst="triangle">
              <a:avLst>
                <a:gd name="adj" fmla="val 50000"/>
              </a:avLst>
            </a:prstGeom>
            <a:solidFill>
              <a:srgbClr val="000022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Region Team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962520" y="1981080"/>
              <a:ext cx="1154160" cy="276480"/>
            </a:xfrm>
            <a:prstGeom prst="rect">
              <a:avLst/>
            </a:prstGeom>
            <a:solidFill>
              <a:srgbClr val="00002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Public Health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078000" y="3738600"/>
              <a:ext cx="1036800" cy="459000"/>
            </a:xfrm>
            <a:prstGeom prst="rect">
              <a:avLst/>
            </a:prstGeom>
            <a:solidFill>
              <a:srgbClr val="00002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Emergency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anagement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487760" y="3719520"/>
              <a:ext cx="1528920" cy="459000"/>
            </a:xfrm>
            <a:prstGeom prst="rect">
              <a:avLst/>
            </a:prstGeom>
            <a:solidFill>
              <a:srgbClr val="00002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Healthcare Delivery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System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3886200" y="304920"/>
            <a:ext cx="1344600" cy="137160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6324480" y="1752480"/>
            <a:ext cx="2565360" cy="163044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3"/>
          <a:stretch/>
        </p:blipFill>
        <p:spPr>
          <a:xfrm>
            <a:off x="228600" y="1825560"/>
            <a:ext cx="2590920" cy="182268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4"/>
          <a:stretch/>
        </p:blipFill>
        <p:spPr>
          <a:xfrm>
            <a:off x="7467480" y="4025880"/>
            <a:ext cx="1425600" cy="161280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5"/>
          <a:stretch/>
        </p:blipFill>
        <p:spPr>
          <a:xfrm>
            <a:off x="304920" y="4038480"/>
            <a:ext cx="1442880" cy="167652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1909800" y="4648320"/>
            <a:ext cx="54828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avid Grub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ssistant Commission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ew Jersey Department of Health &amp; Senior Servi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 Box 36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renton, NJ   0862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99ff"/>
                </a:solidFill>
                <a:uFillTx/>
                <a:latin typeface="Arial"/>
                <a:hlinkClick r:id="rId6"/>
              </a:rPr>
              <a:t>DavidGruber@doh.state.nj.u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609) 633-835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2"/>
            </a:gs>
            <a:gs pos="50000">
              <a:srgbClr val="000066"/>
            </a:gs>
            <a:gs pos="100000">
              <a:srgbClr val="00002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048120" y="1676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122480" y="2286000"/>
            <a:ext cx="702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e ability to exceed standard response in reaction to an event that would overwhelm the normal capacity of healthcare facilities”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990720" y="3581280"/>
            <a:ext cx="289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dividual faci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umb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957600" y="5640480"/>
            <a:ext cx="735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Regionalization/Situational Awareness/Education/Training/Exercise/Logistic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10080" y="3733920"/>
            <a:ext cx="2438640" cy="1143000"/>
          </a:xfrm>
          <a:custGeom>
            <a:avLst/>
            <a:gdLst>
              <a:gd name="textAreaLeft" fmla="*/ 609480 w 2438640"/>
              <a:gd name="textAreaRight" fmla="*/ 1829160 w 2438640"/>
              <a:gd name="textAreaTop" fmla="*/ 0 h 1143000"/>
              <a:gd name="textAreaBottom" fmla="*/ 1000440 h 114300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019920" y="3809880"/>
            <a:ext cx="122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Healt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3429000"/>
            <a:ext cx="1676160" cy="1523880"/>
          </a:xfrm>
          <a:prstGeom prst="noSmoking">
            <a:avLst>
              <a:gd name="adj" fmla="val 12500"/>
            </a:avLst>
          </a:prstGeom>
          <a:solidFill>
            <a:srgbClr val="ff0000">
              <a:alpha val="72000"/>
            </a:srgbClr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imes New Roman"/>
              </a:rPr>
              <a:t>Surge Capacity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2"/>
            </a:gs>
            <a:gs pos="50000">
              <a:srgbClr val="000066"/>
            </a:gs>
            <a:gs pos="100000">
              <a:srgbClr val="00002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80760" y="1752480"/>
            <a:ext cx="49237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6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Acute Even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6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ard hitt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6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mmediate impa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6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hock and aw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6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jority of casualties/minimal ti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6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auma to health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6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sponse/reaction based on plann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78240" y="4267080"/>
            <a:ext cx="66780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6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Chronic Even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6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low mov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6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radual increasing impa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6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creasing effe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6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ponential increasing casualt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6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rprise health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6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sponse/reaction based on planning and adapt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790240" y="2286000"/>
            <a:ext cx="2335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hemical attac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xplosive ev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ornad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790960" y="4749840"/>
            <a:ext cx="2818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iological attac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Radiological rele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Flood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33520" y="1778040"/>
            <a:ext cx="8229600" cy="218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33520" y="4191120"/>
            <a:ext cx="8229600" cy="2260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imes New Roman"/>
              </a:rPr>
              <a:t>What Might Happen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2"/>
            </a:gs>
            <a:gs pos="50000">
              <a:srgbClr val="000066"/>
            </a:gs>
            <a:gs pos="100000">
              <a:srgbClr val="00002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2209680" y="2133720"/>
            <a:ext cx="4172040" cy="35208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060345"/>
              </a:gs>
              <a:gs pos="100000">
                <a:srgbClr val="040231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507120" y="1752480"/>
            <a:ext cx="1709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Public Healt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71760" y="5578560"/>
            <a:ext cx="163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Emergenc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Managemen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035760" y="5578560"/>
            <a:ext cx="2434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Healthcare Deliver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System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rot="18223800">
            <a:off x="2464920" y="3400920"/>
            <a:ext cx="141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Times New Roman"/>
              </a:rPr>
              <a:t>competenc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3451800">
            <a:off x="4904640" y="3592800"/>
            <a:ext cx="118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Times New Roman"/>
              </a:rPr>
              <a:t>capabil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780000" y="5627520"/>
            <a:ext cx="102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Times New Roman"/>
              </a:rPr>
              <a:t>capac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429000" y="3505320"/>
            <a:ext cx="1771560" cy="17478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666367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324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Mitigate    Prepare    Respond   Recover</a:t>
            </a:r>
            <a:endParaRPr b="0" lang="en-US" sz="1200" spc="1" strike="noStrike">
              <a:ln w="324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24" name=""/>
          <p:cNvSpPr/>
          <p:nvPr/>
        </p:nvSpPr>
        <p:spPr>
          <a:xfrm>
            <a:off x="927000" y="1359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Times New Roman"/>
              </a:rPr>
              <a:t>The Health Emergency Preparedness and Response Triad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2"/>
            </a:gs>
            <a:gs pos="50000">
              <a:srgbClr val="000066"/>
            </a:gs>
            <a:gs pos="100000">
              <a:srgbClr val="00002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3733920" y="1527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imes New Roman"/>
              </a:rPr>
              <a:t>Focu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tuational awaren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empo Contro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ssive and Active Architecture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sh and Pul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yste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dundanc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argeted capabilit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SS, Education/Training, Equipment, Peop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2"/>
            </a:gs>
            <a:gs pos="50000">
              <a:srgbClr val="000066"/>
            </a:gs>
            <a:gs pos="100000">
              <a:srgbClr val="00002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533520" y="2280600"/>
            <a:ext cx="8001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o provide the State of New Jersey with an </a:t>
            </a:r>
            <a:r>
              <a:rPr b="0" i="1" lang="en-US" sz="2400" spc="-1" strike="noStrike">
                <a:solidFill>
                  <a:srgbClr val="ffcc00"/>
                </a:solidFill>
                <a:latin typeface="Times New Roman"/>
              </a:rPr>
              <a:t>integrated, synchronized, responsive, and focused health preparedness and response capability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using highly trained and educated health professionals, new technologies, coordinated planning, training and exercise, and, cooperative efforts with local, State, and Federal agencies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57200" y="1752480"/>
            <a:ext cx="184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Times New Roman"/>
              </a:rPr>
              <a:t>An Emergency Preparedness and Response Health System Network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2"/>
            </a:gs>
            <a:gs pos="50000">
              <a:srgbClr val="000066"/>
            </a:gs>
            <a:gs pos="100000">
              <a:srgbClr val="00002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1812960" y="20937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3520" y="14479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Times New Roman"/>
              </a:rPr>
              <a:t>Role of Division of Health Emergency Preparedness and Response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evelopment of Health EP&amp;R Plans/Polic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evelopment of Health EP&amp;R Infrastructure (ECC/MCC, C3I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evelopment of Health EP&amp;R Education/Training/Exercise Program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ordination of all emergency/bioterrorism/MCI gra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ordination of Education (consortium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ordination of EP&amp;R Training and Exercis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upervision of State EMS programs (OEM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upervision of State Health System MCI Emergency Respons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ntrol of Strategic State Stockpile (SS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ntrol of Strategic National Stockpile (SN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ntegration of Federal, Regional, State and Local Health EP&amp;R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2"/>
            </a:gs>
            <a:gs pos="50000">
              <a:srgbClr val="000066"/>
            </a:gs>
            <a:gs pos="100000">
              <a:srgbClr val="00002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6" name=""/>
          <p:cNvGraphicFramePr/>
          <p:nvPr/>
        </p:nvGraphicFramePr>
        <p:xfrm>
          <a:off x="0" y="1752480"/>
          <a:ext cx="495288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52480"/>
                    <a:ext cx="495288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8" name=""/>
          <p:cNvGraphicFramePr/>
          <p:nvPr/>
        </p:nvGraphicFramePr>
        <p:xfrm>
          <a:off x="4262400" y="1752480"/>
          <a:ext cx="4952880" cy="3886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62400" y="1752480"/>
                    <a:ext cx="495288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" name=""/>
          <p:cNvSpPr/>
          <p:nvPr/>
        </p:nvSpPr>
        <p:spPr>
          <a:xfrm>
            <a:off x="1830600" y="5391000"/>
            <a:ext cx="94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Y 200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250320" y="5419800"/>
            <a:ext cx="94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Y 200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" y="12952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272760" y="5591160"/>
            <a:ext cx="273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DC Focus:  Public Health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067560" y="5896080"/>
            <a:ext cx="309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RSA Focus:  Health System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95520" y="6324480"/>
            <a:ext cx="8114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00"/>
                </a:solidFill>
                <a:latin typeface="Times New Roman"/>
              </a:rPr>
              <a:t>MEDPREP Focus:  Critical and unfunded emergency preparedness and response program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NJDHSS Major Emergency Preparedness And Response Funding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2"/>
            </a:gs>
            <a:gs pos="50000">
              <a:srgbClr val="000066"/>
            </a:gs>
            <a:gs pos="100000">
              <a:srgbClr val="00002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3809880" y="1219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33520" y="3048120"/>
            <a:ext cx="2361960" cy="31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0" lang="en-US" sz="2000" spc="-1" strike="noStrike" u="sng">
                <a:solidFill>
                  <a:srgbClr val="ffcc00"/>
                </a:solidFill>
                <a:uFillTx/>
                <a:latin typeface="Times New Roman"/>
              </a:rPr>
              <a:t>Phase 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Strategic Developm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DHEPR Infrastructure (manpower/space/IT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Needs Assessm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400800" y="4191120"/>
            <a:ext cx="2362320" cy="22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000" spc="-1" strike="noStrike" u="sng">
                <a:solidFill>
                  <a:srgbClr val="ffcc00"/>
                </a:solidFill>
                <a:uFillTx/>
                <a:latin typeface="Times New Roman"/>
              </a:rPr>
              <a:t>Phase III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74600" indent="-174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74600" indent="-1746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State Infrastructure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74600" indent="-174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74600" indent="-1746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Training/Education/ Exercis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74600" indent="-174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74600" indent="-174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505320" y="3581280"/>
            <a:ext cx="2361960" cy="28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000" spc="-1" strike="noStrike" u="sng">
                <a:solidFill>
                  <a:srgbClr val="ffcc00"/>
                </a:solidFill>
                <a:uFillTx/>
                <a:latin typeface="Times New Roman"/>
              </a:rPr>
              <a:t>Phase II</a:t>
            </a:r>
            <a:r>
              <a:rPr b="0" lang="en-US" sz="2000" spc="-1" strike="noStrike">
                <a:solidFill>
                  <a:srgbClr val="ffcc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74600" indent="-174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74600" indent="-1746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Strategic Development (cont.)/Review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74600" indent="-174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74600" indent="-1746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Needs Assessment (cont.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74600" indent="-174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74600" indent="-1746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Program Developm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74600" indent="-1746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74600" indent="-174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437120" y="1676520"/>
            <a:ext cx="7136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Year 1:  Infrastructure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―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Regionalization/surge capac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Year 2:  C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Year 3:  Exerci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cc00"/>
                </a:solidFill>
                <a:uFillTx/>
                <a:latin typeface="Times New Roman"/>
              </a:rPr>
              <a:t>Roadmap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19T21:25:38Z</dcterms:created>
  <dc:creator>DHSS</dc:creator>
  <dc:description/>
  <dc:language>en-US</dc:language>
  <cp:lastModifiedBy>Samantha Vargas</cp:lastModifiedBy>
  <dcterms:modified xsi:type="dcterms:W3CDTF">2004-07-08T20:17:00Z</dcterms:modified>
  <cp:revision>381</cp:revision>
  <dc:subject/>
  <dc:title>Slide 1</dc:title>
</cp:coreProperties>
</file>