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jpeg" ContentType="image/jpeg"/>
  <Override PartName="/ppt/media/image7.jpeg" ContentType="image/jpe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030B-3F1F-4572-94F5-7928097C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1A86-6081-4EAD-A7B7-AE00850D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F2E6-A353-4115-B961-17B096A8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8BFB-2E00-48BA-A0A2-12796A22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0468-2FD1-408B-9061-5910F722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23BF-E034-4ADB-8BBF-574440D5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168C-8400-4EBA-8C75-5488D4FB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407C-EC0C-4207-A1C0-D2BC7A77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4613-D5FB-4B6D-9EB8-7BAE1F67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4107-CF71-44AE-B5E4-55172B72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B6D5-3EC0-4C30-A6A2-7EF9FDC9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CA09-2DA8-4A13-9B5C-19E5D528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022"/>
                </a:gs>
                <a:gs pos="50000">
                  <a:srgbClr val="9999ff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877E-B00D-4893-B959-E8E161A6B4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022"/>
                </a:gs>
                <a:gs pos="50000">
                  <a:srgbClr val="9999ff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22"/>
                </a:gs>
                <a:gs pos="50000">
                  <a:srgbClr val="000066"/>
                </a:gs>
                <a:gs pos="100000">
                  <a:srgbClr val="00002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2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8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48"/>
                </a:gs>
                <a:gs pos="50000">
                  <a:srgbClr val="000066"/>
                </a:gs>
                <a:gs pos="100000">
                  <a:srgbClr val="0000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0" t="0" r="0" b="9049"/>
          <a:stretch/>
        </p:blipFill>
        <p:spPr>
          <a:xfrm>
            <a:off x="762120" y="5867280"/>
            <a:ext cx="8001000" cy="685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hyperlink" Target="mailto:DavidGruber@doh.state.nj.us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New Jersey: Health Emergency Preparedness and Response Program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3733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vid Gruber, M.M.A.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ssistant Commissio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 Jersey Department of Health and Senior Servic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enton, N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7184" t="0" r="6584" b="25000"/>
          <a:stretch/>
        </p:blipFill>
        <p:spPr>
          <a:xfrm>
            <a:off x="5867280" y="3200400"/>
            <a:ext cx="2073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7080" y="331056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Medical Coordination Cent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ive </a:t>
            </a:r>
            <a:r>
              <a:rPr b="0" i="1" lang="en-US" sz="2200" spc="-1" strike="noStrike">
                <a:solidFill>
                  <a:srgbClr val="ffcc00"/>
                </a:solidFill>
                <a:latin typeface="Times New Roman"/>
              </a:rPr>
              <a:t>regional</a:t>
            </a:r>
            <a:r>
              <a:rPr b="0" lang="en-US" sz="2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edical Coordination Centers (MCCs) housed in host hospital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ealth Auxiliary Coordination Center (HACC)  in the New Jersey Hospital Association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esponsible for </a:t>
            </a:r>
            <a:r>
              <a:rPr b="0" i="1" lang="en-US" sz="2200" spc="-1" strike="noStrike">
                <a:solidFill>
                  <a:srgbClr val="ffcc00"/>
                </a:solidFill>
                <a:latin typeface="Times New Roman"/>
              </a:rPr>
              <a:t>development of regional planning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for hospitals and other medical facilities with an emphasis on enhanced </a:t>
            </a:r>
            <a:r>
              <a:rPr b="0" i="1" lang="en-US" sz="2200" spc="-1" strike="noStrike">
                <a:solidFill>
                  <a:srgbClr val="ffcc00"/>
                </a:solidFill>
                <a:latin typeface="Times New Roman"/>
              </a:rPr>
              <a:t>surge capacity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imes New Roman"/>
              </a:rPr>
              <a:t>Coordination and management of medical and medically related activities and resource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ntegrated and synchronized with public health and emergency management system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CCs will have the </a:t>
            </a:r>
            <a:r>
              <a:rPr b="0" i="1" lang="en-US" sz="2200" spc="-1" strike="noStrike">
                <a:solidFill>
                  <a:srgbClr val="ffcc00"/>
                </a:solidFill>
                <a:latin typeface="Times New Roman"/>
              </a:rPr>
              <a:t>same information available as the Department’s HCC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to include: hospital diversion status, health facility bed status, pharmaceutical availability, medical information, and EMS system statu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514600" y="15238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The Strategic State Stockpi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mmissioner of Health and Senior Services has directed the development and implementation of a plan that ensures New Jersey’s healthcare system is adequately supplied with pharmaceuticals and medical supplies during any emergency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plan will rely on federally supplied materials (the Strategic National Stockpile) and on a New Jersey owned stockpile of medical/pharmaceutical supplies tailored to the State’s needs (Strategic State Stockpil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459320" y="129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Health System Integration Software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er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RMIS/Hospital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S/Decon Tra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Tra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SS Inven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essional 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dentia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14600" y="129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9200" y="2057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The New Jersey Facto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99ff"/>
                </a:solidFill>
                <a:latin typeface="Times New Roman"/>
              </a:rPr>
              <a:t>Nation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ransportation corridor for rail and roa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orts and Airpor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hiladelphia and New York C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ritical National Industri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gricul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tlantic Cit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uclear Power Plan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99ff"/>
                </a:solidFill>
                <a:latin typeface="Times New Roman"/>
              </a:rPr>
              <a:t>New Jerse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etro-Chemical Plan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harmaceutical Industr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gricul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ouris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895480" y="1752480"/>
            <a:ext cx="3276720" cy="2895840"/>
            <a:chOff x="2895480" y="1752480"/>
            <a:chExt cx="3276720" cy="2895840"/>
          </a:xfrm>
        </p:grpSpPr>
        <p:sp>
          <p:nvSpPr>
            <p:cNvPr id="167" name=""/>
            <p:cNvSpPr/>
            <p:nvPr/>
          </p:nvSpPr>
          <p:spPr>
            <a:xfrm>
              <a:off x="2895480" y="1752480"/>
              <a:ext cx="3276720" cy="289584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55e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33920" y="2362320"/>
              <a:ext cx="1600200" cy="1307880"/>
            </a:xfrm>
            <a:prstGeom prst="triangle">
              <a:avLst>
                <a:gd name="adj" fmla="val 50000"/>
              </a:avLst>
            </a:prstGeom>
            <a:solidFill>
              <a:srgbClr val="000022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Region Tea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62520" y="1981080"/>
              <a:ext cx="1154160" cy="276480"/>
            </a:xfrm>
            <a:prstGeom prst="rect">
              <a:avLst/>
            </a:prstGeom>
            <a:solidFill>
              <a:srgbClr val="00002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Public Health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78000" y="3738600"/>
              <a:ext cx="1036800" cy="459000"/>
            </a:xfrm>
            <a:prstGeom prst="rect">
              <a:avLst/>
            </a:prstGeom>
            <a:solidFill>
              <a:srgbClr val="00002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Emergenc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nage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87760" y="3719520"/>
              <a:ext cx="1528920" cy="459000"/>
            </a:xfrm>
            <a:prstGeom prst="rect">
              <a:avLst/>
            </a:prstGeom>
            <a:solidFill>
              <a:srgbClr val="00002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Healthcare Delive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yste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886200" y="304920"/>
            <a:ext cx="1344600" cy="13716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324480" y="1752480"/>
            <a:ext cx="2565360" cy="1630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28600" y="1825560"/>
            <a:ext cx="2590920" cy="1822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7467480" y="4025880"/>
            <a:ext cx="1425600" cy="1612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304920" y="4038480"/>
            <a:ext cx="1442880" cy="16765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909800" y="4648320"/>
            <a:ext cx="5482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vid Gru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stant Commissio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 Jersey Department of Health &amp; Senior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 Box 3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enton, NJ   086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99ff"/>
                </a:solidFill>
                <a:uFillTx/>
                <a:latin typeface="Arial"/>
                <a:hlinkClick r:id="rId6"/>
              </a:rPr>
              <a:t>DavidGruber@doh.state.nj.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609) 633-83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8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22480" y="2286000"/>
            <a:ext cx="702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ability to exceed standard response in reaction to an event that would overwhelm the normal capacity of healthcare facilities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35812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fac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57600" y="5640480"/>
            <a:ext cx="73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Regionalization/Situational Awareness/Education/Training/Exercise/Logis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3733920"/>
            <a:ext cx="2438640" cy="1143000"/>
          </a:xfrm>
          <a:custGeom>
            <a:avLst/>
            <a:gdLst>
              <a:gd name="textAreaLeft" fmla="*/ 609480 w 2438640"/>
              <a:gd name="textAreaRight" fmla="*/ 1829160 w 2438640"/>
              <a:gd name="textAreaTop" fmla="*/ 0 h 1143000"/>
              <a:gd name="textAreaBottom" fmla="*/ 1000440 h 1143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3809880"/>
            <a:ext cx="122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eal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3429000"/>
            <a:ext cx="1676160" cy="1523880"/>
          </a:xfrm>
          <a:prstGeom prst="noSmoking">
            <a:avLst>
              <a:gd name="adj" fmla="val 12500"/>
            </a:avLst>
          </a:prstGeom>
          <a:solidFill>
            <a:srgbClr val="ff0000">
              <a:alpha val="72000"/>
            </a:srgbClr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Surge Capaci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0760" y="1752480"/>
            <a:ext cx="4923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cute Ev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 hit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mediate imp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ck and a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jority of casualties/minimal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uma to healt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ponse/reaction based on pla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8240" y="4267080"/>
            <a:ext cx="667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hronic Ev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ow mov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dual increasing imp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ing eff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onential increasing casual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prise health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ponse/reaction based on planning and adap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0240" y="2286000"/>
            <a:ext cx="233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hemical att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plosive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rn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0960" y="4749840"/>
            <a:ext cx="281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iological att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diological rel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loo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778040"/>
            <a:ext cx="8229600" cy="218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4191120"/>
            <a:ext cx="8229600" cy="2260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What Might Happe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09680" y="2133720"/>
            <a:ext cx="4172040" cy="3520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60345"/>
              </a:gs>
              <a:gs pos="100000">
                <a:srgbClr val="040231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7120" y="1752480"/>
            <a:ext cx="170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ublic Healt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1760" y="5578560"/>
            <a:ext cx="163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mergenc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35760" y="5578560"/>
            <a:ext cx="243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ealthcare Delive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ys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8223800">
            <a:off x="2464920" y="34009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compet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3451800">
            <a:off x="4904640" y="359280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cap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80000" y="562752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capac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429000" y="3505320"/>
            <a:ext cx="1771560" cy="1747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66636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tigate    Prepare    Respond   Recover</a:t>
            </a:r>
            <a:endParaRPr b="0" lang="en-US" sz="1200" spc="1" strike="noStrike">
              <a:ln w="32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927000" y="135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The Health Emergency Preparedness and Response Triad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733920" y="1527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Focu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tuational awar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o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sive and Active Architectur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sh and P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nda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rgeted capabi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SS, Education/Training, Equipment, 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22806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rovide the State of New Jersey with an </a:t>
            </a:r>
            <a:r>
              <a:rPr b="0" i="1" lang="en-US" sz="2400" spc="-1" strike="noStrike">
                <a:solidFill>
                  <a:srgbClr val="ffcc00"/>
                </a:solidFill>
                <a:latin typeface="Times New Roman"/>
              </a:rPr>
              <a:t>integrated, synchronized, responsive, and focused health preparedness and response capabil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using highly trained and educated health professionals, new technologies, coordinated planning, training and exercise, and, cooperative efforts with local, State, and Federal agencie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752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An Emergency Preparedness and Response Health System Network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12960" y="2093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4479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Role of Division of Health Emergency Preparedness and Response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ment of Health EP&amp;R Plans/Poli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ment of Health EP&amp;R Infrastructure (ECC/MCC, C3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ment of Health EP&amp;R Education/Training/Exercise Progra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ordination of all emergency/bioterrorism/MCI gr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ordination of Education (consortiu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ordination of EP&amp;R Training and Exerc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pervision of State EMS programs (OEM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pervision of State Health System MCI Emergency Respon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rol of Strategic State Stockpile (SS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rol of Strategic National Stockpile (S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egration of Federal, Regional, State and Local Health EP&amp;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0" y="1752480"/>
          <a:ext cx="49528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49528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4262400" y="1752480"/>
          <a:ext cx="495288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2400" y="1752480"/>
                    <a:ext cx="49528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830600" y="539100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Y 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50320" y="541980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295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72760" y="5591160"/>
            <a:ext cx="27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DC Focus:  Public Heal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67560" y="5896080"/>
            <a:ext cx="309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RSA Focus:  Health Syste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95520" y="6324480"/>
            <a:ext cx="81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MEDPREP Focus:  Critical and unfunded emergency preparedness and response progra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NJDHSS Major Emergency Preparedness And Response Fund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9880" y="121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3048120"/>
            <a:ext cx="236196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</a:rPr>
              <a:t>Phase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rategic Develop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HEPR Infrastructure (manpower/space/I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eeds Assess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4191120"/>
            <a:ext cx="23623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</a:rPr>
              <a:t>Phase II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ate Infrastructu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aining/Education/ Exerci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05320" y="3581280"/>
            <a:ext cx="236196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imes New Roman"/>
              </a:rPr>
              <a:t>Phase II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rategic Development (cont.)/Re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eeds Assessment (cont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rogram Develop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37120" y="1676520"/>
            <a:ext cx="713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 1:  Infrastructu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―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egionalization/surge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 2:  C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 3:  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Roadmap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21:25:38Z</dcterms:created>
  <dc:creator>DHSS</dc:creator>
  <dc:description/>
  <dc:language>en-US</dc:language>
  <cp:lastModifiedBy>Samantha Vargas</cp:lastModifiedBy>
  <dcterms:modified xsi:type="dcterms:W3CDTF">2004-07-08T20:17:00Z</dcterms:modified>
  <cp:revision>381</cp:revision>
  <dc:subject/>
  <dc:title>Slide 1</dc:title>
</cp:coreProperties>
</file>