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C3FF-FF23-4FA2-9F49-66BDE3B2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6.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. Your group has recently been awarded an Ark grant for your work in education and training; can you start by telling us a bit about this proj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. Tell us, why are volunteer and non-active nurses the focus of your projec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. What is the key message about surge capacity that you are trying to get out to nur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. You mentioned that there are some value shifts that nurses must make. Give us an example of one of those required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. How is your work different from other training effo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6. Are any of the modules available? How can interested listeners get copies of the modu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D35-FD3B-4A85-BDF6-5819BBE6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E90-C877-4F11-B6A5-F4348E4F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DC7-3604-44DC-AFB1-29AE775A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D35-E1D3-4234-B3AA-DE7B1E74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098-7643-42C7-BCF7-A2B31BCC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0C9-4499-4EDD-9175-183CFDA1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0F3-55BA-4AB6-BF7D-35BD3A0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C0F-76D5-46CE-A4FA-EC40F6A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A3B-57FE-4E75-A413-90E057D5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15B-CD5A-4B5A-B1C8-CF470CC3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2FC-26ED-4FF4-A507-DB2CA3B9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657-328F-4C3B-A85A-61936C09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B631-AFED-4228-B4FB-2B02C9FC6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aring Volunteer Nurses for Public Health Emergencie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3276360"/>
            <a:ext cx="5029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tsy Weiner, Ph.D., R.N., B.C., F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ior Associate Dean for Educational Informatic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essor in Nursing and Biomedical Infor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ool of 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nderbilt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shville, 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43800" y="533412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1774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ww.incmce.or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1096920"/>
            <a:ext cx="6400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 Aims for AHRQ Gra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edical Reserves Corps (MRC) volunteer nurses, face to face vs. online learning will be com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fine user characteristics that predict selection and completion of learn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adequacy of technology integration in learning emergency response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lunteer and Inactive Nur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urrently working for responding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 to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ing through local response structure via Medical Reserve Cor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8696" t="10876" r="8696" b="8819"/>
          <a:stretch/>
        </p:blipFill>
        <p:spPr>
          <a:xfrm>
            <a:off x="4343400" y="2133720"/>
            <a:ext cx="43434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Message to Nur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me of all modules is surg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is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art of the pl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5455" t="10305" r="5455" b="12121"/>
          <a:stretch/>
        </p:blipFill>
        <p:spPr>
          <a:xfrm>
            <a:off x="304920" y="2057400"/>
            <a:ext cx="4343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lue Shift: Tri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good for the greatest number of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ly ill patients are not always first; may be provided palliative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odule: The Tipp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0420" t="13086" r="10420" b="10344"/>
          <a:stretch/>
        </p:blipFill>
        <p:spPr>
          <a:xfrm>
            <a:off x="4419720" y="2286000"/>
            <a:ext cx="41907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 Aspect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2920" y="495288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cies created by International Nursing Coalition for Mass Casualty Education (INCM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national “How People Learn” framework in conjunction with Little Planet Learning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eople Lear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ome with precon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 factual knowledge, but know how to organize and retri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take control of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vironments must be learner- centered, knowledge-centered, assessment- centered, and community-cen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eople Learn Cyc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11368" t="16304" r="11368" b="12736"/>
          <a:stretch/>
        </p:blipFill>
        <p:spPr>
          <a:xfrm>
            <a:off x="762120" y="1285920"/>
            <a:ext cx="78483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5144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1:03:54Z</dcterms:created>
  <dc:creator>Jeff Gordon</dc:creator>
  <dc:description/>
  <dc:language>en-US</dc:language>
  <cp:lastModifiedBy>Cheryl Bell</cp:lastModifiedBy>
  <cp:lastPrinted>2004-02-27T21:48:27Z</cp:lastPrinted>
  <dcterms:modified xsi:type="dcterms:W3CDTF">2004-03-02T13:34:2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4013301</vt:r8>
  </property>
  <property fmtid="{D5CDD505-2E9C-101B-9397-08002B2CF9AE}" pid="3" name="_AuthorEmail">
    <vt:lpwstr>BLevee@AHRQ.GOV</vt:lpwstr>
  </property>
  <property fmtid="{D5CDD505-2E9C-101B-9397-08002B2CF9AE}" pid="4" name="_AuthorEmailDisplayName">
    <vt:lpwstr>LeVee, Biff</vt:lpwstr>
  </property>
  <property fmtid="{D5CDD505-2E9C-101B-9397-08002B2CF9AE}" pid="5" name="_EmailSubject">
    <vt:lpwstr>ULP audioconference: surge capacity and health system preparedness</vt:lpwstr>
  </property>
</Properties>
</file>