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73E1-59A3-4B93-9FA3-E690BBB55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6.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1. Your group has recently been awarded an Ark grant for your work in education and training; can you start by telling us a bit about this proj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. Tell us, why are volunteer and non-active nurses the focus of your projec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. What is the key message about surge capacity that you are trying to get out to nur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4. You mentioned that there are some value shifts that nurses must make. Give us an example of one of those required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5. How is your work different from other training effor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5.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5.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6. Are any of the modules available? How can interested listeners get copies of the modu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9B1-5526-4096-AD7F-E2A67273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EF61-93C0-48FC-996D-2832B1A3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069A-4070-4F20-9634-658174BA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D05A-A715-4939-921D-B616678A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9A0E-A63D-41B9-AB7F-D0282439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BFE0-DE1F-4185-AF5D-A23325C0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9CD6-5039-4FF7-A8E6-1CC30DB4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D35-706E-4FC8-8536-1241280A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-36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E385-2363-4F85-8402-E87ED533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1F6-64EF-4612-AF3A-DD6F5294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E851-1AEA-4021-B28B-08DA3D12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498C-2DE6-46B7-BE9D-186E9CB8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725a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2141-3ED1-42B8-997F-78D7DA018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paring Volunteer Nurses for Public Health Emergencies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95480" y="3276360"/>
            <a:ext cx="5029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tsy Weiner, Ph.D., R.N., B.C., FA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ior Associate Dean for Educational Informatic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essor in Nursing and Biomedical Infor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ool of Nur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nderbilt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shville, 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543800" y="533412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1774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ww.incmce.or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95280" y="1096920"/>
            <a:ext cx="6400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earch Aims for AHRQ Gra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Medical Reserves Corps (MRC) volunteer nurses, face to face vs. online learning will be compa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725a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termine effec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725a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termine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725a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fine user characteristics that predict selection and completion of learning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725a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etermine the adequacy of technology integration in learning emergency response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lunteer and Inactive Nur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urrently working for responding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re to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ing through local response structure via Medical Reserve Cor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8696" t="10876" r="8696" b="8819"/>
          <a:stretch/>
        </p:blipFill>
        <p:spPr>
          <a:xfrm>
            <a:off x="4343400" y="2133720"/>
            <a:ext cx="434340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Message to Nur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00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me of all modules is surge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 of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 is ess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part of the pla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rcRect l="5455" t="10305" r="5455" b="12121"/>
          <a:stretch/>
        </p:blipFill>
        <p:spPr>
          <a:xfrm>
            <a:off x="304920" y="2057400"/>
            <a:ext cx="4343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lue Shift: Tria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good for the greatest number of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ly ill patients are not always first; may be provided palliative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module: The Tipping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10420" t="13086" r="10420" b="10344"/>
          <a:stretch/>
        </p:blipFill>
        <p:spPr>
          <a:xfrm>
            <a:off x="4419720" y="2286000"/>
            <a:ext cx="419076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 Aspects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162920" y="4952880"/>
            <a:ext cx="1352520" cy="1352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encies created by International Nursing Coalition for Mass Casualty Education (INCM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national “How People Learn” framework in conjunction with Little Planet Learning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People Lear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come with precon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have factual knowledge, but know how to organize and retri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take control of own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vironments must be learner- centered, knowledge-centered, assessment- centered, and community-cen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People Learn Cycl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11368" t="16304" r="11368" b="12736"/>
          <a:stretch/>
        </p:blipFill>
        <p:spPr>
          <a:xfrm>
            <a:off x="762120" y="1285920"/>
            <a:ext cx="784836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04920" y="51444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01:03:54Z</dcterms:created>
  <dc:creator>Jeff Gordon</dc:creator>
  <dc:description/>
  <dc:language>en-US</dc:language>
  <cp:lastModifiedBy>Cheryl Bell</cp:lastModifiedBy>
  <cp:lastPrinted>2004-02-27T21:48:27Z</cp:lastPrinted>
  <dcterms:modified xsi:type="dcterms:W3CDTF">2004-03-02T13:34:20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04013301</vt:r8>
  </property>
  <property fmtid="{D5CDD505-2E9C-101B-9397-08002B2CF9AE}" pid="3" name="_AuthorEmail">
    <vt:lpwstr>BLevee@AHRQ.GOV</vt:lpwstr>
  </property>
  <property fmtid="{D5CDD505-2E9C-101B-9397-08002B2CF9AE}" pid="4" name="_AuthorEmailDisplayName">
    <vt:lpwstr>LeVee, Biff</vt:lpwstr>
  </property>
  <property fmtid="{D5CDD505-2E9C-101B-9397-08002B2CF9AE}" pid="5" name="_EmailSubject">
    <vt:lpwstr>ULP audioconference: surge capacity and health system preparedness</vt:lpwstr>
  </property>
</Properties>
</file>