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2"/>
          </p:nvPr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3"/>
          </p:nvPr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4CD9-C824-41ED-BBB3-A68921D3A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5. What benefits does “HER-SA” expect from moving in this direction at this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5.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6. Where can our listeners learn more about this progra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ri, would you Begin by telling us what “HER-SA” hopes to achieve through the National Bioterrorism Hospital Preparedness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2. What is currently being done by “HER-SA” awardees in the area of education and training for hospital preparedn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2.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2.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2.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3. You’ve told us about a significant amount of work that has been done to date. What challenges remain in meeting the current educational needs of hospital staff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4. Where is the program head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4.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7162920" y="6140520"/>
          <a:ext cx="1752480" cy="51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6140520"/>
                    <a:ext cx="175248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4920" y="6019920"/>
          <a:ext cx="2286000" cy="67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6019920"/>
                    <a:ext cx="228600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National Bioterrorism Hospital Preparedness Program: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Education and Training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3657240"/>
            <a:ext cx="4191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erri Spear, Ed.M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393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ioterrorism Education and Training Specialis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393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mergency Preparedness Evaluation and Specialty Branch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393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pecial Programs Burea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393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ealth Resources and Services Administration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393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U.S. Department of Health and Human Servic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393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ockville, MD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Expected Benefits of Competency-Based Education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grammatic definition and different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focus on obtaining the answers to the real question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percentage of our health care workforce is prepared to respon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relationship between training and  workplace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ining outcomes are observable and therefore measur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44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roved transferability and comparability of trai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al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ficiency in resource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earer definition of health care provider prepared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ensive drills will have added utiliz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Expected Benefits of Competency-Based Education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5280" y="617040"/>
            <a:ext cx="76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For More Information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more information on HRSA’s National Bioterrorism Hospital Preparedness Program, go to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ww.hrsa.gov/bioterrorism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Program Mission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6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y Hospitals and supporting health care systems to deliver coordinated and effective care to victims of terrorism and other public health emergencie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617040"/>
            <a:ext cx="749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Education and Training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Y 02 Guidance – Secondary Prio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Y 03 Guidance – Optional Benchmark #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9% of the jurisdictions addressed education and training direct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0% described educational activ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argeted Trainee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09480" y="1828800"/>
          <a:ext cx="7755120" cy="481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7755120" cy="48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opics Addressed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9480" y="1981080"/>
          <a:ext cx="7767720" cy="444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81080"/>
                    <a:ext cx="7767720" cy="44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Educational Methodology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933560"/>
          <a:ext cx="8305920" cy="52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33560"/>
                    <a:ext cx="8305920" cy="52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Overriding Question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hat percentage of the Nation’s health care workforce is prepared to respond competently to a public health emergency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ederal Response Toda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gress reports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’t tell 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tate and Local Response Toda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’t tell 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roviders Respons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. Caleb Alexander et al, “Ready and Willing? Physician Sense of Preparedness for Bioterrorism”,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Health Affairs, Oct. 200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Future Direction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ist awardees in transforming bioterrorism educatio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fro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focus on content al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mallpo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thra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diation Ill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owar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mpet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l hospital employees should be able to describe their emergency response role and be able to demonstrate it during drills or actual emergenc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1704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Existing Bioterrorism Competencie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blic Heal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c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r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spital-based employe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spital administra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95880" y="4748040"/>
            <a:ext cx="282096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19:46:00Z</dcterms:created>
  <dc:creator>Administrator</dc:creator>
  <dc:description/>
  <dc:language>en-US</dc:language>
  <cp:lastModifiedBy>Cheryl Bell</cp:lastModifiedBy>
  <dcterms:modified xsi:type="dcterms:W3CDTF">2004-03-01T17:28:53Z</dcterms:modified>
  <cp:revision>20</cp:revision>
  <dc:subject/>
  <dc:title>National Bioterrorism Hospital Preparedness Program: Education and Trai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39328657</vt:r8>
  </property>
  <property fmtid="{D5CDD505-2E9C-101B-9397-08002B2CF9AE}" pid="3" name="_AuthorEmail">
    <vt:lpwstr>BLevee@AHRQ.GOV</vt:lpwstr>
  </property>
  <property fmtid="{D5CDD505-2E9C-101B-9397-08002B2CF9AE}" pid="4" name="_AuthorEmailDisplayName">
    <vt:lpwstr>LeVee, Biff</vt:lpwstr>
  </property>
  <property fmtid="{D5CDD505-2E9C-101B-9397-08002B2CF9AE}" pid="5" name="_EmailSubject">
    <vt:lpwstr>ULP audioconference: surge capacity and health system preparedness</vt:lpwstr>
  </property>
</Properties>
</file>