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AF8-9B42-4C51-9C44-F1DE78C5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What benefits does “HER-SA” expect from moving in this direction at this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. Where can our listeners learn more about this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, would you Begin by telling us what “HER-SA” hopes to achieve through the National Bioterrorism Hospital Preparednes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What is currently being done by “HER-SA” awardees in the area of education and training for hospital preparedn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. You’ve told us about a significant amount of work that has been done to date. What challenges remain in meeting the current educational needs of hospital staff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Where is the program hea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162920" y="6140520"/>
          <a:ext cx="175248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6140520"/>
                    <a:ext cx="1752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6019920"/>
          <a:ext cx="228600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19920"/>
                    <a:ext cx="22860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ational Bioterrorism Hospital Preparedness Program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 and Training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6572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rri Spear, Ed.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ioterrorism Education and Training Speciali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ergency Preparedness Evaluation and Specialty Branc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ecial Programs Burea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alth Resources and Services Administr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.S. Department of Health and Human Servic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ockville, M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pected Benefits of Competency-Based Educ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matic definition and different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focus on obtaining the answers to the real ques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percentage of our health care workforce is prepared to respon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onship between training and  workplace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outcomes are observable and therefore measu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d transferability and comparability of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cy in resource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er definition of health care provider prepared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nsive drills will have added uti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pected Benefits of Competency-Based Educ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or More Information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ore information on HRSA’s National Bioterrorism Hospital Preparedness Program, go 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ww.hrsa.gov/bioterrorism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gram Mi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6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y Hospitals and supporting health care systems to deliver coordinated and effective care to victims of terrorism and other public health emergenc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 and Training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 02 Guidance – Secondary Pri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 03 Guidance – Optional Benchmark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9% of the jurisdictions addressed education and training direc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% described educational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argeted Traine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828800"/>
          <a:ext cx="775512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75512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opics Addressed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981080"/>
          <a:ext cx="776772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677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al Methodolo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33560"/>
          <a:ext cx="830592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33560"/>
                    <a:ext cx="83059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Overriding Ques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at percentage of the Nation’s health care workforce is prepared to respond competently to a public health emergenc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ederal Response Toda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 report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tell 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te and Local Response Toda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tell 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viders Respon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. Caleb Alexander et al, “Ready and Willing? Physician Sense of Preparedness for Bioterrorism”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ealth Affairs, Oct.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ture Direc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 awardees in transforming bioterrorism educ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cus on content al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Ill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wa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pet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hospital employees should be able to describe their emergency response role and be able to demonstrate it during drills or actual emerg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isting Bioterrorism Competenc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-based employ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 administ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5880" y="4748040"/>
            <a:ext cx="28209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9:46:00Z</dcterms:created>
  <dc:creator>Administrator</dc:creator>
  <dc:description/>
  <dc:language>en-US</dc:language>
  <cp:lastModifiedBy>Cheryl Bell</cp:lastModifiedBy>
  <dcterms:modified xsi:type="dcterms:W3CDTF">2004-03-01T17:28:53Z</dcterms:modified>
  <cp:revision>20</cp:revision>
  <dc:subject/>
  <dc:title>National Bioterrorism Hospital Preparedness Program: Education and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9328657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