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Futura BdCn BT"/>
              </a:rPr>
              <a:t>Click to move the slide</a:t>
            </a:r>
            <a:endParaRPr b="0" lang="en-US" sz="4000" spc="-1" strike="noStrike">
              <a:solidFill>
                <a:srgbClr val="336699"/>
              </a:solidFill>
              <a:latin typeface="Futura BdCn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0D7-C77C-42FF-AF08-E835E463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7. Finally, where can interested members of our audience find more information on your training project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1. Michael can you start by giving us a brief overview of what the non-contiguous training program is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2. How is this training program different from others and what are the key advantages to training the workforce in this manner? 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2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3. Has this method of skill acquisition and maintenance ever been used in other industries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4. Why should a hospital adopt the non-contiguous training concept when they are already doing drills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4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4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How do you teach skills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180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412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180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412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527760"/>
            <a:ext cx="7086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180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412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180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412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527760"/>
            <a:ext cx="7086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262160" indent="-34128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66800" indent="-290520">
              <a:spcBef>
                <a:spcPts val="1800"/>
              </a:spcBef>
              <a:buClr>
                <a:srgbClr val="9b32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4" marL="2065320" indent="-284040">
              <a:spcBef>
                <a:spcPts val="1800"/>
              </a:spcBef>
              <a:buClr>
                <a:srgbClr val="9b32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5" marL="2065320" indent="-284040">
              <a:spcBef>
                <a:spcPts val="1800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6" marL="2065320" indent="-284040">
              <a:spcBef>
                <a:spcPts val="1800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96880" y="228600"/>
            <a:ext cx="0" cy="119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380880"/>
            <a:ext cx="914400" cy="914400"/>
          </a:xfrm>
          <a:prstGeom prst="rect">
            <a:avLst/>
          </a:prstGeom>
          <a:gradFill rotWithShape="0">
            <a:gsLst>
              <a:gs pos="0">
                <a:srgbClr val="677a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764560" y="0"/>
            <a:ext cx="378000" cy="624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172880"/>
            <a:ext cx="6858000" cy="1190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Futura BdCn BT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Futura BdCn BT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143000"/>
            <a:ext cx="0" cy="1193760"/>
          </a:xfrm>
          <a:prstGeom prst="line">
            <a:avLst/>
          </a:prstGeom>
          <a:ln w="28440">
            <a:solidFill>
              <a:srgbClr val="003c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95280"/>
            <a:ext cx="914400" cy="914400"/>
          </a:xfrm>
          <a:prstGeom prst="rect">
            <a:avLst/>
          </a:prstGeom>
          <a:gradFill rotWithShape="0">
            <a:gsLst>
              <a:gs pos="0">
                <a:srgbClr val="677ab4"/>
              </a:gs>
              <a:gs pos="100000">
                <a:srgbClr val="003c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764560" y="0"/>
            <a:ext cx="378000" cy="6249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6027840"/>
            <a:ext cx="1395360" cy="622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480" y="5715000"/>
            <a:ext cx="914400" cy="84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914400" indent="6480" algn="ctr">
              <a:spcBef>
                <a:spcPts val="601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66920" indent="9360" algn="ctr">
              <a:spcBef>
                <a:spcPts val="300"/>
              </a:spcBef>
              <a:buClr>
                <a:srgbClr val="9b32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4" marL="1717560" indent="63720" algn="ctr">
              <a:spcBef>
                <a:spcPts val="601"/>
              </a:spcBef>
              <a:buClr>
                <a:srgbClr val="9b32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5" marL="1717560" indent="63720">
              <a:spcBef>
                <a:spcPts val="601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6" marL="1717560" indent="63720">
              <a:spcBef>
                <a:spcPts val="601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avitz@rti.org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1172880"/>
            <a:ext cx="6858000" cy="1190520"/>
          </a:xfrm>
          <a:prstGeom prst="rect">
            <a:avLst/>
          </a:prstGeom>
          <a:noFill/>
          <a:ln w="0">
            <a:noFill/>
          </a:ln>
        </p:spPr>
        <p:txBody>
          <a:bodyPr lIns="15552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c83"/>
                </a:solidFill>
                <a:latin typeface="Futura BdCn BT"/>
              </a:rPr>
              <a:t>Surge Capacity and Preparing the Workforce</a:t>
            </a:r>
            <a:endParaRPr b="0" lang="en-US" sz="4000" spc="-1" strike="noStrike">
              <a:solidFill>
                <a:srgbClr val="336699"/>
              </a:solidFill>
              <a:latin typeface="Futura BdCn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8120" y="2819520"/>
            <a:ext cx="49528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83"/>
                </a:solidFill>
                <a:latin typeface="Arial"/>
              </a:rPr>
              <a:t>Michael Allswede, D.O.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Associate Professor of Emergency Medicine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Section Chief, Special Emergency Medical Response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Department of Emergency Medicine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University of Pittsburgh Medical Center Health System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Pittsburgh, PA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64560" y="0"/>
            <a:ext cx="378000" cy="6249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8863" t="0" r="0" b="0"/>
          <a:stretch/>
        </p:blipFill>
        <p:spPr>
          <a:xfrm>
            <a:off x="990720" y="2971800"/>
            <a:ext cx="18288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Acquire Sk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34459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rtual interfa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Training roo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deo demonstr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elf-learni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30880" y="1863720"/>
            <a:ext cx="4103640" cy="229248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876920" y="4267080"/>
            <a:ext cx="2819160" cy="3682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UPMC Disaster Drill 2002</a:t>
            </a:r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Practice Sk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886200" cy="34459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nounced drill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Group drill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gmented testi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imu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748320" cy="243864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4952880" y="4343400"/>
            <a:ext cx="2819520" cy="10087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OPOFF II, Chemical Weapons Site,       Chicago IL</a:t>
            </a:r>
            <a:endParaRPr b="0" lang="en-US" sz="20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Validation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16360" cy="32940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drill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Actual ev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2160" y="1827360"/>
            <a:ext cx="4032360" cy="234144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TOPOFF II Tech Rescue Site, Chicago IL</a:t>
            </a:r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For More Information:</a:t>
            </a: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398736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ntact: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ucy Savitz, Ph.D., M.B.A. at </a:t>
            </a:r>
            <a:r>
              <a:rPr b="1" lang="en-US" sz="2800" spc="-1" strike="noStrike" u="sng">
                <a:solidFill>
                  <a:srgbClr val="f8b800"/>
                </a:solidFill>
                <a:uFillTx/>
                <a:latin typeface="Arial"/>
                <a:hlinkClick r:id="rId1"/>
              </a:rPr>
              <a:t>savitz@rti.or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28152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Non-Contiguous Training Overview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010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he Non-Contiguous Training Concept is a method of planning  and training the acquisition of WMD related skil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The ability to train during down-time or other hours will prove to: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Improve skill level of the staff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Cost less than standard dril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racking skill deficits in key personnel will improve the safety of the system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Non-Contiguous Objective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2526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seminate individual knowledge and skills prior to the drill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Train on objectives, not “time-based” CME/CEU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rill for integration and for “macro” organizatio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Leadership training: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Must be dynamic “war game”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Model on “Sim-City”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Disaster Interaction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5044680"/>
          </a:xfrm>
          <a:prstGeom prst="rect">
            <a:avLst/>
          </a:prstGeom>
          <a:solidFill>
            <a:srgbClr val="003c83"/>
          </a:solidFill>
          <a:ln w="9360">
            <a:solidFill>
              <a:srgbClr val="003c8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WMD events cause “triage inversion”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east injured present first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ost injured remain for extricatio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Contaminated victims precede scene informatio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WMD events contaminate hospitals unless hospitals are protected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ff"/>
                </a:solidFill>
                <a:latin typeface="Arial"/>
              </a:rPr>
              <a:t>Hospital personnel were among victims in Tokyo Sari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ospitals and providers are “non-renewable” in the short term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Navy ATEAM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8031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loat Training Exercise and Management  System (ATEAM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Allows skill acquisition and maintenance to be on-going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ills are for system evaluation, not skill acquisi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Assigns skills by duty st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351"/>
          <a:stretch/>
        </p:blipFill>
        <p:spPr>
          <a:xfrm>
            <a:off x="4572000" y="1676520"/>
            <a:ext cx="405288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5334120"/>
            <a:ext cx="2133720" cy="3988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USS Carl Vinson</a:t>
            </a:r>
            <a:endParaRPr b="0" lang="en-US" sz="20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28116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The Problem with Disaster Dr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2336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25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Hospitals cannot stop their normal function to play in a dril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aster drills are pre-announced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mmunity drills scheduled at the convenience of community services…in the morning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orning is busy time for hospita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asters happen at night when staffing levels are thinnest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28116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The Problem with Disaster Dr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1068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225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Shifting extra personnel is expensiv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$3,000 per hour at UPMC for ED personnel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tra non-clinical personnel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tra administrative personnel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Victim Volunteers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MS-Medical Command-Civic Services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62160" indent="-3412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$16 Million for TOPOFF II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621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28116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The Problem with Disaster Dr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924680" cy="412416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55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00"/>
                </a:solidFill>
                <a:uFillTx/>
                <a:latin typeface="Arial"/>
              </a:rPr>
              <a:t>Training a shift at a time is inefficien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 shift equals: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% of total nurse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5% of total attending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0% of residents and house staff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perienced people AVOID disaster dril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oulage is never the real thing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Familiarize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62520" cy="345384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ic classroom teachin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Distance learnin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deo interfac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Memory enhancement tool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228600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410080" y="4343400"/>
            <a:ext cx="2133720" cy="10087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aPiD-T Training, City of Pittsburgh EMS, 2002</a:t>
            </a:r>
            <a:endParaRPr b="0" lang="en-US" sz="20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7:28:42Z</dcterms:created>
  <dc:creator>Cheryl Bell</dc:creator>
  <dc:description/>
  <dc:language>en-US</dc:language>
  <cp:lastModifiedBy>Cheryl Bell</cp:lastModifiedBy>
  <dcterms:modified xsi:type="dcterms:W3CDTF">2004-03-01T19:22:25Z</dcterms:modified>
  <cp:revision>8</cp:revision>
  <dc:subject/>
  <dc:title>Surge Capacity and Preparing the Wor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9544750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</Properties>
</file>