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9DF-EA37-4AEB-A3E8-628DC598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7EF-54FC-4944-A6AA-57E0E1B0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923-C1B7-414B-8C73-8516BB1A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142-32B2-4C30-9BD9-62AD3A05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1076-DD7E-40AF-9929-4D452863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E31B-7DA8-44C3-845F-49ECF860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8393-8D4A-4735-BC2E-21DA7311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DA63-8477-48D9-BF8D-07AB792E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3951-3196-47E1-A8F4-15B4ED8D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CB7C-6FA8-4D67-8024-B810423E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7AF0-BA9C-4362-80B8-B398F49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55C-EF94-4364-8384-98F7952D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90EA-5F96-48A1-AF0E-B3498EB6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7B8C-334E-41DE-9780-4E61FB27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0608-F4A6-4204-BCB5-DFA8D184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0F4F-8AEE-4516-B526-8C3C152E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32C4-85F0-4BF7-BE42-CAD4B9CE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F00-0E53-436B-9AD0-EE7EB4FD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EEE-7DD6-4240-B18D-C068E969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579-0FD0-462C-BF07-AEA77592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7F0-82A7-4A7B-943E-300F8FA2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6FB-42C5-4BF5-98A3-9D66DB4C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FD1-633A-46AD-8045-8B4DB970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B9E-FC09-489A-85FA-A6629689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F154-EB73-4F8E-B966-49C6631F56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1A8E-2DA8-493A-A32C-D026CBBDFE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Arial"/>
              </a:rPr>
              <a:t>Emergency Preparedness: Education and Training for Treating the Pediatric Popul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46483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ichael Shannon, M.D., M.P.H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recto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enter for Biopreparednes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rofessor and Chair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vision of Emergency Medicin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ildren's Hospital, Harvard Medical Schoo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oston, M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33360" y="228600"/>
            <a:ext cx="1060560" cy="1295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6240" y="228600"/>
            <a:ext cx="1289160" cy="1447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562720" y="4038480"/>
            <a:ext cx="20016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Unmet Needs in Pediatric Emergency Preparednes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rehensive, school-based emergency preparedness protoco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diatric protocols in every hospit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diatric surge capacity pla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ucation/training on unique issu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ty involv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dentification and reunification of children and paren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Key Issues in Education &amp; Train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first responders remain inadequately trained in pediatric aspects of disaster respon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ining programs are failing to provide specific pediatric trai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 has been little development of DVDs/videos as training tool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Decontamination of Children: Preparedness and Response for Hospital Emergency Department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deo provides step-by-step demonstration of decontamination process in real tim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ining tool for emergency responders and hospital emergency department staf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Video-based Training Top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ponding to mental health needs of children after disas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velopment of comprehensive, school-based disaster 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fic to childr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agement of mass casualty incid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agement of bioterrorism and other infectious emergenc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agement of radiologic emergenc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dentification and Reunification of Children After a Mass Casualty Inciden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quires means of rapidly collecting information on arriving casualties (e.g., digital photo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hoto index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te where arriving parents can review phot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em for presenting select phot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20:50:48Z</dcterms:created>
  <dc:creator>.</dc:creator>
  <dc:description/>
  <dc:language>en-US</dc:language>
  <cp:lastModifiedBy>Katherine Flore</cp:lastModifiedBy>
  <dcterms:modified xsi:type="dcterms:W3CDTF">2006-01-10T14:26:10Z</dcterms:modified>
  <cp:revision>7</cp:revision>
  <dc:subject/>
  <dc:title>Public Health Emergency Preparedness: Strategies and Tools for Meeting the Needs of Children </dc:title>
</cp:coreProperties>
</file>