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ABD-9F92-406D-A431-EAA882BE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CDD-79B7-435F-8EFB-887A492E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F3D-F85C-4C4D-857E-49BE82D1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FCC-BBD2-4541-83E3-61C3FCC5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EFCE-3111-4F9E-AD3C-A8939D0A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6727-078D-48DB-9169-FA796BF1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943B-3CAA-41AC-82F3-1DBDD43F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6AEA-554E-4F44-9CE0-9B7CC754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45EC-9862-44E2-8C8A-08387C49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5B44-397F-478F-B04E-BCA9FAF6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0F3D-6CF3-4B75-AF89-DD303855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488-E6AF-452F-8C3F-A5AF9D90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C83E-F95E-440F-8389-856F7ECB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0D1B-BD0A-4C0E-B597-5F8924F7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2B4F-82B3-48F1-BE9D-5A7CF033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CF86-52CB-493F-AC93-C37D81E6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0412-800F-4ACC-93C4-AF86B511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55B-33D1-472F-8595-46A11D0F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EAD-0FCA-42A9-8C5A-960C6F98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32F-A39B-4514-B315-33FD3D81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2B8-EA73-4B68-81EE-BBD9ACD7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650-96A7-4942-BF86-1A36E173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24A-A662-4B97-B170-1DB564C8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EA3-6525-46B4-988C-06E1B446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A459-C36A-4DF6-A6E0-C59664D4C2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2DEF-331D-4C51-845E-991087A40B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Emergency Preparedness: Education and Training for Treating the Pediatric Popul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ichael Shannon, M.D., M.P.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rect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enter for Biopreparedn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fessor and Chai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ision of Emergency Medici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ildren's Hospital, Harvard Medical Schoo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oston, M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33360" y="228600"/>
            <a:ext cx="1060560" cy="1295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6240" y="228600"/>
            <a:ext cx="1289160" cy="1447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20016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Unmet Needs in Pediatric Emergency Preparedn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rehensive, school-based emergency preparedness protoco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diatric protocols in every hospit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diatric surge capacity pl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ucation/training on unique issu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dentification and reunification of children and paren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Key Issues in Education &amp; Train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first responders remain inadequately trained in pediatric aspects of disaster respon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ining programs are failing to provide specific pediatric trai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has been little development of DVDs/videos as training tool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Decontamination of Children: Preparedness and Response for Hospital Emergency Department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deo provides step-by-step demonstration of decontamination process in real tim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ining tool for emergency responders and hospital emergency department staf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Video-based Training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ponding to mental health needs of children after disa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ment of comprehensive, school-based disaster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fic to childr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agement of mass casualty incid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agement of bioterrorism and other infectious emergenc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agement of radiologic emergenc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dentification and Reunification of Children After a Mass Casualty Inciden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quires means of rapidly collecting information on arriving casualties (e.g., digital photo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oto index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te where arriving parents can review phot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em for presenting select phot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20:50:48Z</dcterms:created>
  <dc:creator>.</dc:creator>
  <dc:description/>
  <dc:language>en-US</dc:language>
  <cp:lastModifiedBy>Katherine Flore</cp:lastModifiedBy>
  <dcterms:modified xsi:type="dcterms:W3CDTF">2006-01-10T14:26:10Z</dcterms:modified>
  <cp:revision>7</cp:revision>
  <dc:subject/>
  <dc:title>Public Health Emergency Preparedness: Strategies and Tools for Meeting the Needs of Children </dc:title>
</cp:coreProperties>
</file>