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AF0-1CB0-46A4-A135-1F43EB82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C0DF-F645-4DD6-BD2F-28CF6F83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C88-61B2-4B24-A447-1B2A646A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1F4-D0E6-4E7D-A075-779AD2ED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876-4529-4442-B5C6-1AD10423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1C3-41A2-44D1-96BF-C013717B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105-0D4F-432C-84BA-4616DF51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485-F2E7-4CBD-A18A-DDF76FD6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16F3-C379-4BF2-84F1-6D1B6B32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6E1B-8790-44F7-8967-C878A5F3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82F-4BA7-4858-AB2B-6FA78605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4EFD-8D37-49AE-BF84-ADF51412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2743200" y="6251040"/>
            <a:ext cx="365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er for Disaster Medic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 York Medical College School of Public H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2751-956E-4FA6-8789-DDA45AAF77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1218960" cy="766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iderations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mergency Preparedness: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Two-track Conferenc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3352320"/>
            <a:ext cx="411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David Markenson, M.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irector, Center for Disaster Medici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ew York Medical College School of Public Healt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hief, Pediatric Emergency Medici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ria Fareri Children’s Hospit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867280" y="3276720"/>
            <a:ext cx="215928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s of Confer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ew new pediatric litera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pdate pediatric guideli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d guidelines in selected are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ew literature of persons with disabil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aft guidelines on emergency preparedness for persons with disabil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hanges in Terrorism Guidelines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e of fluoroquinol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lusion of ones other than ciprofloxac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rve agent auto-injec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diatric equival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ticonvuls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idofavi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ded and Expanded Topic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hool Prepar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ild Congregate Facility Prepar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eltering Needs of Child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diatric Needs for Public Health Emergency Prepar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ildren with Special Health Care Needs and Technologically Assisted Child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ontamination of Childr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logical Terrorism Prophylaxis and Treatment of Emerging Ag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mily Centered Prepar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ecommendations for Schools and Child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ngregate Faciliti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 safety plans that identify unique threats or hazards that schools may f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are safety plans with community to ensure that all community resources will be utilized in emergen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e schools practice fire and evacuation drills regularly, at least twice per academic 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ave local plans reflect major role of schools in community planning and as emergency re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commendations for Decontamin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ontamination of young children must be done with high-volume, low-pressure, heated water 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stems must be designed for decontamination of all ages and types of childr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protocols and guidance must addres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ater temperature and press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nambulatory chil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ild with special health care nee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01440" indent="-4852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othing for after decontamin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mmendations for Hospita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2 hours of pediatric supplies and pharmaceuticals on hand for average daily census plus minimum surge of 5% adjusted for risk assess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gage in specific pediatric disaster risk assessment with community to include school districts, emergency services, police dept., fire dept., child welfare, private practitioners, child care, public health, and mental heal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7T02:33:37Z</dcterms:created>
  <dc:creator>David Markenson</dc:creator>
  <dc:description/>
  <dc:language>en-US</dc:language>
  <cp:lastModifiedBy>Chris Weaver</cp:lastModifiedBy>
  <dcterms:modified xsi:type="dcterms:W3CDTF">2006-01-05T21:46:59Z</dcterms:modified>
  <cp:revision>17</cp:revision>
  <dc:subject/>
  <dc:title>Slide 1</dc:title>
</cp:coreProperties>
</file>