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5C1-BE41-44B3-BFAA-33F6C221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E92-666A-462F-BB99-ED26B7D6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461-85D9-4652-94C5-85CE76DA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E10-7404-45B9-B254-9398EA36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EFE-2D5B-4F4F-9185-DF774DCD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A74-8EE9-48B3-A99E-39D0CC3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DD1-E8E9-4B98-A040-3B29D298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310-449C-44EF-8F37-EB436F4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14E-8B54-43AD-9B99-8DCEEA5B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DFD-60B8-41BB-A4AE-857CE751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1D0-736A-4D4E-BDB2-2CB58FF1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120-D2DB-4075-BD09-EFBA7901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2743200" y="625104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er for Disaster Medic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York Medical College School of Public 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2AA5-7011-4FE8-900D-6B2AC18903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1218960" cy="766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iderations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mergency Preparedness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wo-track Confere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33523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avid Markenson, M.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irector, Center for Disaster Medic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ew York Medical College School of Public Healt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ief, Pediatric Emergency Medic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ria Fareri Children’s Hospit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3276720"/>
            <a:ext cx="21592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 of Confer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new pediatric litera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date pediatric guidel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d guidelines in selected a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literature of persons with dis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aft guidelines on emergency preparedness for persons with dis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nges in Terrorism Guideline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fluoroquinol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lusion of ones other than ciprofloxac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rve agent auto-inje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iatric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convuls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idofav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ded and Expanded Top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ool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ld Congregate Facility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ltering Needs of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iatric Needs for Public Health Emergency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ldren with Special Health Care Needs and Technologically Assisted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ontamination of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logical Terrorism Prophylaxis and Treatment of Emerging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 Centered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ecommendations for Schools and Child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ngregate Faciliti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safety plans that identify unique threats or hazards that schools may f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re safety plans with community to ensure that all community resources will be utilized in emergen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schools practice fire and evacuation drills regularly, at least twice per academic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local plans reflect major role of schools in community planning and as emergency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commendations for Decontamin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ontamination of young children must be done with high-volume, low-pressure, heated water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stems must be designed for decontamination of all ages and types of childr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protocols and guidance must addres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 temperature an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ambulatory chi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ild with special health care nee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othing for after decontam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mmendations for Hospit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2 hours of pediatric supplies and pharmaceuticals on hand for average daily census plus minimum surge of 5% adjusted for risk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age in specific pediatric disaster risk assessment with community to include school districts, emergency services, police dept., fire dept., child welfare, private practitioners, child care, public health, and mental h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02:33:37Z</dcterms:created>
  <dc:creator>David Markenson</dc:creator>
  <dc:description/>
  <dc:language>en-US</dc:language>
  <cp:lastModifiedBy>Chris Weaver</cp:lastModifiedBy>
  <dcterms:modified xsi:type="dcterms:W3CDTF">2006-01-05T21:46:59Z</dcterms:modified>
  <cp:revision>17</cp:revision>
  <dc:subject/>
  <dc:title>Slide 1</dc:title>
</cp:coreProperties>
</file>