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114-8386-462E-A203-5C846986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866-7541-4D02-A8F1-D4CB7022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F00-A3C9-4463-BE70-C1A45626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DD5-FC35-4702-9D85-4465D6F9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5700-A90D-490C-B208-E90425A3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99A8-60AE-445E-9B8B-D188DCA4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E7DA-9A0B-436E-828E-377A0A56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F643-B253-4266-8D5F-E6326589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346D-EF70-400C-8BDE-36A1CFD0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367B-0EAD-46CC-B204-1BA9E4BE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576A-2BB8-4EDF-8FC1-6F7C97E6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F7D-987E-4582-AC39-D4DDE6C8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FEB1-E5AE-4AB4-9C5E-3631C516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59C6-CEA7-4897-9AF4-C5C07F8E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2F2A-6CC1-46B1-8D9C-180A134B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9721-749F-44E1-B4AD-1F4D2099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988F-E80B-4DBA-97BA-8506CA8E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35C-0E41-4AD9-B241-9DC08E0A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F98-A458-4B56-83A0-B64A2A9B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1ED-06DF-4FEF-81D5-D1C72E84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364-66E8-4C0B-90E0-C2CFC549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57C-1FCA-44BA-8C73-D08C6D1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303-1BFA-4192-852E-E57DFDC5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FDC-8BC7-4D79-9A40-3503CC04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F788-6FB7-4B8F-964E-9AD7BCB10E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5808-D0BB-4970-9780-3BCFA21D18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6248520"/>
          <a:ext cx="3333600" cy="5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6248520"/>
                    <a:ext cx="33336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gf16@nyu.edu" TargetMode="External"/><Relationship Id="rId2" Type="http://schemas.openxmlformats.org/officeDocument/2006/relationships/hyperlink" Target="http://www.cpem.org/" TargetMode="External"/><Relationship Id="rId3" Type="http://schemas.openxmlformats.org/officeDocument/2006/relationships/hyperlink" Target="http://www.aap.org/" TargetMode="External"/><Relationship Id="rId4" Type="http://schemas.openxmlformats.org/officeDocument/2006/relationships/hyperlink" Target="http://www.ahrq.gov/" TargetMode="External"/><Relationship Id="rId5" Type="http://schemas.openxmlformats.org/officeDocument/2006/relationships/hyperlink" Target="http://www.hrsa.gov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ediatric Terrorism and Disaster Preparedness Resource (PTDPR)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361960" y="3428640"/>
            <a:ext cx="4800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L. Foltin, M.D., F.A.A.P., F.A.C.E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nter for Pediatric Emergency Medic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YU School of Medicine/Bellevue Hospi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 York City, N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3472" t="0" r="6430" b="0"/>
          <a:stretch/>
        </p:blipFill>
        <p:spPr>
          <a:xfrm>
            <a:off x="380880" y="320040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 Furthe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ail George Foltin at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gf16@nyu.e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t CPEM website at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cpem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t AAP at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www.aap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t AHRQ at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www.ahrq.g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t HRSA at 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www.hrsa.g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the Pediatric Terrorism and Disaster Preparedness Resource (PTDPR)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erican Academy of Pediatrics Project  funded by AHR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P in partnership with the Center for Pediatric Emergency Medicine  at NYU School of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 Editors: George Foltin, MD, David Schonfeld, MD and Michael Shannon, M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ed to AHRQ on November 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s for Distribution ongo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the Pediatric Terrorism and Disaster Preparedness Resource (PTDPR)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pediatric reference on preparedness for acts of terrorism: includes slides, handouts, and lecture out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nt experts from around the country were recruited to develop training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vers clinical and policy issu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ed to allow access of critical and essential background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ve time while facilitating planning eff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Was the PTDPR Create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k of available pediatric-specific resources or clinical guide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vailability of pediatric resources in the community or on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ve time for those facilitating pediatric planning eff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ediatric Terrorism and Disaster Preparedness Resource (PTDPR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hildren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ssues: Preparedness Primer For The Pediatr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Weapons &amp;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Health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This Resource Into You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ediatric Terrorism and Disaster Preparedness Resource (PTDPR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lossary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efinitions of key wo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ulary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ist of critical med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y points of each s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Web Links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eb sites related to chapter/s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llustrations and pict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ticles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AP statements:  full text or Web-link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rent EMS handouts; home emergency prep plan or k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terials for non pediatrician practitioners:  tables covering vital signs, developmental differences, equipment differ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PS:  Algorithms, treatment/triage task analyses (based on critical chapter conten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urricane Katrina: Lessons Learn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ediatric Terrorism and Disaster Preparedness Resource (PTDPR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73600" y="1752480"/>
            <a:ext cx="4127400" cy="2082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025880" y="3733920"/>
            <a:ext cx="3594240" cy="2171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04920" y="259092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 PTDPR  Decon Shower- 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61628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 PTDPR  Decon Shower- Inf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diatric Disaster Tool K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YC Department of Health and Mental Hygi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RSA Fu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ediatric Disaster Advisory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spital Guidelines f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ediatrics in Disas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ources for General Hospital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diatric Disaster Tool K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social/Et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21:35:17Z</dcterms:created>
  <dc:creator>CPEM</dc:creator>
  <dc:description/>
  <dc:language>en-US</dc:language>
  <cp:lastModifiedBy>Katherine Flore</cp:lastModifiedBy>
  <dcterms:modified xsi:type="dcterms:W3CDTF">2006-01-10T14:26:17Z</dcterms:modified>
  <cp:revision>20</cp:revision>
  <dc:subject/>
  <dc:title>Literature Review Prehospital and Hospital Preparedness</dc:title>
</cp:coreProperties>
</file>