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526-6F95-4C9D-8E76-F6288AEC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B1B-CF18-421D-A803-A6E66CD4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65B-626E-4CF8-946E-9E009C89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E280-6D69-4F32-81C2-EA7CDF4F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6FD0-ACFC-47FD-A1F8-EC273C73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C59-233E-45E3-A15F-C9E99913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8641-6524-47CF-A0FD-DF915BB5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A58F-D421-4E40-B633-A068A58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10C9-6129-4A17-84AE-7B513C03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FBDB-6031-4A25-BFC7-D33E1464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38F-9F9A-4D08-8450-2361345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A11-1FA9-4EB0-A2D1-254D8C74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836-454E-4FD6-B7E4-85CE9E0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9E35-9F62-4A86-85B6-8AEF0CA4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266D-A2D0-4D9D-B739-2D410B08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BD77-03DE-446F-BD01-6F44A278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B87-BE4C-41D1-B8F3-CEA13A63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132-471F-4121-BFFA-F3831155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DF6-4E54-410D-87E8-1F8FE9A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4C5-0224-4FEE-8033-87E5AE84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429-D8C9-4E32-9C1B-BD6F04EB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0AD2-0A78-4C47-A20C-4E5EA65E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D78A-42CC-46EF-9F24-8D2663F5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B93-ED87-4A81-B93A-D5FA53E2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42F4-E8D0-4D28-B947-A9CB19AB7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16B1-F007-4CC3-BF38-DBB4561B05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1908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4920" y="6248520"/>
          <a:ext cx="3333600" cy="5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248520"/>
                    <a:ext cx="33336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f16@nyu.edu" TargetMode="External"/><Relationship Id="rId2" Type="http://schemas.openxmlformats.org/officeDocument/2006/relationships/hyperlink" Target="http://www.cpem.org/" TargetMode="External"/><Relationship Id="rId3" Type="http://schemas.openxmlformats.org/officeDocument/2006/relationships/hyperlink" Target="http://www.aap.org/" TargetMode="External"/><Relationship Id="rId4" Type="http://schemas.openxmlformats.org/officeDocument/2006/relationships/hyperlink" Target="http://www.ahrq.gov/" TargetMode="External"/><Relationship Id="rId5" Type="http://schemas.openxmlformats.org/officeDocument/2006/relationships/hyperlink" Target="http://www.hrsa.gov/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361960" y="3428640"/>
            <a:ext cx="480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L. Foltin, M.D., F.A.A.P., F.A.C.E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nter for Pediatric Emergency Medic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YU School of Medicine/Bellevue Hospi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 York City, 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472" t="0" r="6430" b="0"/>
          <a:stretch/>
        </p:blipFill>
        <p:spPr>
          <a:xfrm>
            <a:off x="380880" y="320040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 Further Inform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ail George Foltin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gf16@nyu.e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CPEM website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cpem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AAP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www.aap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AHRQ at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www.ahrq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t HRSA at 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www.hrsa.go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Pediatric Terrorism and Disaster Preparedness Resource (PTDPR)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erican Academy of Pediatrics Project  funded by AHR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P in partnership with the Center for Pediatric Emergency Medicine  at NYU School of Medic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 Editors: George Foltin, MD, David Schonfeld, MD and Michael Shannon, M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ed to AHRQ on November 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s for Distribution ongo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the Pediatric Terrorism and Disaster Preparedness Resource (PTDPR)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pediatric reference on preparedness for acts of terrorism: includes slides, handouts, and lecture out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nt experts from around the country were recruited to develop training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vers clinical and policy issu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ed to allow access of critical and essential background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time while facilitating planning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Was the PTDPR Create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k of available pediatric-specific resources or clinical guid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vailability of pediatric resources in the community or on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ve time for those facilitating pediatric planning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hildren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ssues: Preparedness Primer For The Pediatr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Weapons &amp;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ar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Terro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 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ng This Resource Into You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lossary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efinitions of key wo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ulary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ist of critical med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points of each s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Web Links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Web sites related to chapter/s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lustrations and pict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ticles: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P statements:  full text or Web-link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 EMS handouts; home emergency prep plan or k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terials for non pediatrician practitioners:  tables covering vital signs, developmental differences, equipment differen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PS:  Algorithms, treatment/triage task analyses (based on critical chapter cont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urricane Katrina: Lessons Lear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ediatric Terrorism and Disaster Preparedness Resource (PTDPR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73600" y="1752480"/>
            <a:ext cx="4127400" cy="208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025880" y="3733920"/>
            <a:ext cx="3594240" cy="2171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259092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9. PTDPR  Decon Shower- 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46162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10. PTDPR  Decon Shower- Inf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diatric Disaster Tool K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YC Department of Health and Mental Hygie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RSA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ediatric Disaster Advisory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ospital Guidelines f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ediatrics in Disa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sources for General Hospital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ediatric Disaster Tool Ki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social/Eth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21:35:17Z</dcterms:created>
  <dc:creator>CPEM</dc:creator>
  <dc:description/>
  <dc:language>en-US</dc:language>
  <cp:lastModifiedBy>Katherine Flore</cp:lastModifiedBy>
  <dcterms:modified xsi:type="dcterms:W3CDTF">2006-01-10T14:26:17Z</dcterms:modified>
  <cp:revision>20</cp:revision>
  <dc:subject/>
  <dc:title>Literature Review Prehospital and Hospital Preparedness</dc:title>
</cp:coreProperties>
</file>