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8EC-21C3-4682-BF8D-8F413200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CB1-7BCC-4886-8097-86C703C8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AFD-761D-4179-B480-32E3CA8B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908-99B4-4546-A376-B0352737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8709-3C0C-49ED-B19D-17C1615E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D479-9E73-4547-A6B7-5EFD1553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1763-E65F-442C-963B-5FCBA395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EDE2-CB0B-4156-AA3C-7B519E74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352B-66EC-4935-A63E-63802D99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117D-9043-43F0-A9E4-D8ABBA2E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C6FB-38AC-4106-A50C-A027E679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D53-A4BC-4381-BE8B-B3B708B6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A0FB-CA51-49A0-8C2C-F1A61F80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447E-C419-4DCF-8D46-57A62FA9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BE71-D037-4DB7-A898-07E1E943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15E2-2EF1-48F4-A71D-6461F92E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568A-1BA4-4316-9EBC-39CD1E06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B37-4330-4E30-B530-A87C4886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473A-488C-4238-A64C-38519F2D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CE7-0AB2-4465-A4A6-0AA61388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8B9-63B7-4222-9D9C-7FF63F6B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235-3414-4F4F-B4B2-6869D407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7A2-7EFA-49F5-B2B7-C426F1ED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186-7A25-47EF-BC54-F77A0F76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308D-90FD-45BE-87DB-F1DE1F5BF49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E59C-EF6B-4C55-B830-ADD783E5396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mprehensive Clinical And Policy Resource Guide To Assess Children's Need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1760" y="4038120"/>
            <a:ext cx="3733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olly A. Hicks, M.P.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ssistant Direct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partment of Federal Affai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erican Academy of Pediatric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ashington, D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3276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9efee"/>
                </a:solidFill>
                <a:latin typeface="Palatino Linotype"/>
              </a:rPr>
              <a:t>Pediatric Terrorism Preparedness Resource</a:t>
            </a:r>
            <a:endParaRPr b="1" lang="en-US" sz="35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8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mprehensive clinical and policy reference concerning the needs of children following a terrorist attack or other disast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ts val="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18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mprove the ability of all health care professionals to undertake pediatric preparation and planning activities for hospitals, schools, emergency medical systems and communitie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1325520" cy="19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ediatric Terrorism Preparedness Resourc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quipment li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dication dos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atment protocol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ucational materi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ining pack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llust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ource lin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95680" y="1676160"/>
            <a:ext cx="4267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children are differ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stems man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logical terror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mical terror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diologic terror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last terror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ntal heal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grating resource into pract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b9efee"/>
                </a:solidFill>
                <a:latin typeface="Palatino Linotype"/>
              </a:rPr>
              <a:t>Addressing Mental Health Needs Resource</a:t>
            </a: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90000"/>
              </a:lnSpc>
              <a:spcBef>
                <a:spcPts val="17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rehensive mental health resource for providers who are seeing children affected by the tragedy of 9/11 and other trauma-related situ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>
              <a:lnSpc>
                <a:spcPct val="90000"/>
              </a:lnSpc>
              <a:spcBef>
                <a:spcPts val="17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form providers working with children and families about crisis-related mental health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>
              <a:lnSpc>
                <a:spcPct val="90000"/>
              </a:lnSpc>
              <a:spcBef>
                <a:spcPts val="17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nstrate the use of tools for screening these mental health problems through a case study approac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cribe treatment options and where to refer patients for mental health serv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ress issues such as parental reassurance and bereavement sup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44100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b9efee"/>
                </a:solidFill>
                <a:uFillTx/>
                <a:latin typeface="Palatino Linotype"/>
              </a:rPr>
              <a:t>American Academy of Pediatrics</a:t>
            </a:r>
            <a:br>
              <a:rPr sz="4000"/>
            </a:br>
            <a:r>
              <a:rPr b="1" lang="en-US" sz="3500" spc="-1" strike="noStrike">
                <a:solidFill>
                  <a:srgbClr val="b9efee"/>
                </a:solidFill>
                <a:latin typeface="Palatino Linotype"/>
              </a:rPr>
              <a:t>For More Information</a:t>
            </a:r>
            <a:endParaRPr b="1" lang="en-US" sz="35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hildren, Terrorism &amp; Disasters Website         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http://www.aap.org/terrorism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ntact the Task Force on Terrorism                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email: kids1st@aap.org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ntact Academy Staff                                      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Molly Hicks, M.P.A.                                          Assistant Director                                                  Dept. of Federal Affairs                                          email: mhicks@aap.org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4120" y="4038480"/>
            <a:ext cx="3427200" cy="219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Palatino Linotype"/>
              </a:rPr>
              <a:t>Who We Are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3320"/>
            <a:ext cx="7772400" cy="37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5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 Linotype"/>
              </a:rPr>
              <a:t>57,000 member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ts val="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 Linotype"/>
              </a:rPr>
              <a:t>Primary care pediatricians, pediatric medical subspecialists, and pediatric surgical specialists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 Linotype"/>
              </a:rPr>
              <a:t>Dedicated to the health, safety and well being of infants, children, adolescents and young adult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24480" y="5410080"/>
            <a:ext cx="236232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Palatino Linotype"/>
              </a:rPr>
              <a:t>Why We Are Involved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7360"/>
            <a:ext cx="784872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 Linotype"/>
              </a:rPr>
              <a:t>Children are more vulnerable than adult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ts val="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lnSpc>
                <a:spcPct val="100000"/>
              </a:lnSpc>
              <a:spcBef>
                <a:spcPts val="75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 Linotype"/>
              </a:rPr>
              <a:t>Children have unique treatment need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ts val="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lnSpc>
                <a:spcPct val="100000"/>
              </a:lnSpc>
              <a:spcBef>
                <a:spcPts val="75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 Linotype"/>
              </a:rPr>
              <a:t>Children have unique mental health need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ts val="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lnSpc>
                <a:spcPct val="100000"/>
              </a:lnSpc>
              <a:spcBef>
                <a:spcPts val="75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 Linotype"/>
              </a:rPr>
              <a:t>Children require specialized care from health professionals trained to meet their unique need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1653" t="9537" r="66912" b="48259"/>
          <a:stretch/>
        </p:blipFill>
        <p:spPr>
          <a:xfrm>
            <a:off x="1143000" y="541008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34751" t="9537" r="35477" b="48259"/>
          <a:stretch/>
        </p:blipFill>
        <p:spPr>
          <a:xfrm>
            <a:off x="3809880" y="541008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rcRect l="64533" t="9537" r="4031" b="48259"/>
          <a:stretch/>
        </p:blipFill>
        <p:spPr>
          <a:xfrm>
            <a:off x="6248520" y="5410080"/>
            <a:ext cx="1447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Palatino Linotype"/>
              </a:rPr>
              <a:t>What We Have Don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3320"/>
            <a:ext cx="777240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k on children, terrorism and disasters pre-dates events of September 11, 200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-253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ed policy statements, treatment guidelines, and family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-253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nsored continuing education and medical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Palatino Linotype"/>
              </a:rPr>
              <a:t>Task Force on Terrorism: Formation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3320"/>
            <a:ext cx="777240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ablished in October 200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328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328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3280" indent="-233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rised of 12 pediatricians from around the count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328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3280" indent="-233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rtise in such areas as emergency medicine, environmental health, mental health and infectious dis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Palatino Linotype"/>
              </a:rPr>
              <a:t>Task Force on Terrorism: Goal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827000"/>
            <a:ext cx="80010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that pediatricians and other providers have the information they need as fast as it becomes avail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60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60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that children’s needs are considered in all planning effo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60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60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functioning linkages between the Academy and all appropriate Federal, State and local governments and private ent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Palatino Linotype"/>
              </a:rPr>
              <a:t>Task Force on Terrorism: Resourc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ldren, Terrorism &amp; Disasters Webs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ldren, Terrorism &amp; Disasters Toolk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-253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diatric Terrorism Preparedness Resour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-253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ressing Mental Health Needs Resour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-253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AP Member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Palatino Linotype"/>
              </a:rPr>
              <a:t>Children, Terrorism &amp; Disasters Website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31237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ttp://www.aap.org/terror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’s Ne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ademy Re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deral Re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dical Journal &amp; Re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ents, Teachers &amp; Community Plann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atured Lin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970" t="7898" r="970" b="76927"/>
          <a:stretch/>
        </p:blipFill>
        <p:spPr>
          <a:xfrm>
            <a:off x="380880" y="1828800"/>
            <a:ext cx="83822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b9efee"/>
                </a:solidFill>
                <a:latin typeface="Palatino Linotype"/>
              </a:rPr>
              <a:t>Children, Terrorism &amp; Disasters Toolkit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3581640" cy="3000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49440" y="1850760"/>
            <a:ext cx="44370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diatrici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mily Physici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diatric Nurse Practition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deral and State Offici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fessional Organiz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Grou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2:51:49Z</dcterms:created>
  <dc:creator>Molly Hicks</dc:creator>
  <dc:description/>
  <dc:language>en-US</dc:language>
  <cp:lastModifiedBy>CBell</cp:lastModifiedBy>
  <cp:lastPrinted>2003-12-12T15:09:40Z</cp:lastPrinted>
  <dcterms:modified xsi:type="dcterms:W3CDTF">2003-12-15T19:00:07Z</dcterms:modified>
  <cp:revision>11</cp:revision>
  <dc:subject/>
  <dc:title>Bioterrorism and Other Public Health Emergencies: Linkages with Community Providers  December 16, 2003</dc:title>
</cp:coreProperties>
</file>