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EBE-7394-4B67-9C0C-351286C1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ABC-B2CD-4A4E-A9F7-7B16C772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F8B3-B2D5-47BE-81BD-FCB4CD2F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317-01CE-49CF-BE05-D0E395E1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40C3-FE11-4FF8-AEBC-3BF00425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E9B8-F9D9-4FB0-8462-D3D2D04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0B00-D9DB-4FC3-AD34-7180D308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FF37-3205-46AE-9849-05564A8A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90FC-2166-45B2-A903-37DF4631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879B-33A2-4D0B-87D2-D8F63B3E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DD50-B5A3-40F0-A00E-1888D56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980-8867-4402-9E1D-4F5C6AC5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4F7C-3A58-4C64-B5E7-22A62F0D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8F74-ADE8-4BD6-9B29-C3A2E8D4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013A-E1C6-44AA-B4DB-7BB79E3D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D001-A4FC-4153-85CF-78BBBE38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DEFC-23C4-4D1F-84E0-8F4F7876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C36-C7FF-4BB5-A4B9-3257E612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BFA-2B93-49C8-9B10-4C992DE7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0386-2BFB-4001-9BC5-39B8F1D1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BB7-C429-4CA2-9D5D-4B4E967C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105-DC42-4F56-A549-75B34D8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9DC-04E8-4EE7-98E1-948EB560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87E-05AD-439E-AD01-D70547FE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02F5-350A-493B-ABDE-82AF539BD8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3219-FC2D-4199-863C-26E2F3D829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mprehensive Clinical And Policy Resource Guide To Assess Children's Nee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3733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olly A. Hicks, M.P.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ssistant Directo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partment of Federal Affair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erican Academy of Pediatric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ashington, D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3276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b9efee"/>
                </a:solidFill>
                <a:latin typeface="Palatino Linotype"/>
              </a:rPr>
              <a:t>Pediatric Terrorism Preparedness Resource</a:t>
            </a:r>
            <a:endParaRPr b="1" lang="en-US" sz="35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8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mprehensive clinical and policy reference concerning the needs of children following a terrorist attack or other disast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ts val="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18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mprove the ability of all health care professionals to undertake pediatric preparation and planning activities for hospitals, schools, emergency medical systems and communitie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2743200"/>
            <a:ext cx="1325520" cy="198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ediatric Terrorism Preparedness Resourc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quipment l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dication dos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eatment protoco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ducational mater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aining pack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llustr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ource l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95680" y="1676160"/>
            <a:ext cx="4267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children are differ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stems man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ological terror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mical terror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adiologic terror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last terror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ntal heal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egrating resource into pract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44100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b9efee"/>
                </a:solidFill>
                <a:latin typeface="Palatino Linotype"/>
              </a:rPr>
              <a:t>Addressing Mental Health Needs Resource</a:t>
            </a:r>
            <a:endParaRPr b="1" lang="en-US" sz="39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rehensive mental health resource for providers who are seeing children affected by the tragedy of 9/11 and other trauma-related situ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form providers working with children and families about crisis-related mental health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>
              <a:lnSpc>
                <a:spcPct val="90000"/>
              </a:lnSpc>
              <a:spcBef>
                <a:spcPts val="17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monstrate the use of tools for screening these mental health problems through a case study approach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cribe treatment options and where to refer patients for mental health serv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74960" indent="-174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ress issues such as parental reassurance and bereavement supp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44100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b9efee"/>
                </a:solidFill>
                <a:uFillTx/>
                <a:latin typeface="Palatino Linotype"/>
              </a:rPr>
              <a:t>American Academy of Pediatrics</a:t>
            </a:r>
            <a:br>
              <a:rPr sz="4000"/>
            </a:br>
            <a:r>
              <a:rPr b="1" lang="en-US" sz="3500" spc="-1" strike="noStrike">
                <a:solidFill>
                  <a:srgbClr val="b9efee"/>
                </a:solidFill>
                <a:latin typeface="Palatino Linotype"/>
              </a:rPr>
              <a:t>For More Information</a:t>
            </a:r>
            <a:endParaRPr b="1" lang="en-US" sz="35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hildren, Terrorism &amp; Disasters Website         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http://www.aap.org/terrorism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ntact the Task Force on Terrorism                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email: kids1st@aap.org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Contact Academy Staff                                      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Molly Hicks, M.P.A.                                          Assistant Director                                                  Dept. of Federal Affairs                                          email: mhicks@aap.org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4120" y="4038480"/>
            <a:ext cx="3427200" cy="219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Who We Are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3320"/>
            <a:ext cx="7772400" cy="37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57,000 member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ts val="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Primary care pediatricians, pediatric medical subspecialists, and pediatric surgical specialists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Dedicated to the health, safety and well being of infants, children, adolescents and young adult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24480" y="5410080"/>
            <a:ext cx="236232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Why We Are Involved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7360"/>
            <a:ext cx="784872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Children are more vulnerable than adult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ts val="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Children have unique treatment need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ts val="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Children have unique mental health need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0">
              <a:lnSpc>
                <a:spcPts val="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50200" indent="-250200">
              <a:lnSpc>
                <a:spcPct val="100000"/>
              </a:lnSpc>
              <a:spcBef>
                <a:spcPts val="751"/>
              </a:spcBef>
              <a:buClr>
                <a:srgbClr val="00ff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alatino Linotype"/>
              </a:rPr>
              <a:t>Children require specialized care from health professionals trained to meet their unique need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653" t="9537" r="66912" b="48259"/>
          <a:stretch/>
        </p:blipFill>
        <p:spPr>
          <a:xfrm>
            <a:off x="1143000" y="541008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34751" t="9537" r="35477" b="48259"/>
          <a:stretch/>
        </p:blipFill>
        <p:spPr>
          <a:xfrm>
            <a:off x="3809880" y="54100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rcRect l="64533" t="9537" r="4031" b="48259"/>
          <a:stretch/>
        </p:blipFill>
        <p:spPr>
          <a:xfrm>
            <a:off x="6248520" y="5410080"/>
            <a:ext cx="14475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Palatino Linotype"/>
              </a:rPr>
              <a:t>What We Have Done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3320"/>
            <a:ext cx="77724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k on children, terrorism and disasters pre-dates events of September 11, 200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ced policy statements, treatment guidelines, and famil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nsored continuing education and medical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Task Force on Terrorism: Formation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3320"/>
            <a:ext cx="7772400" cy="34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ablished in October 200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rised of 12 pediatricians from around the count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33280" indent="-233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rtise in such areas as emergency medicine, environmental health, mental health and infectious dise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Palatino Linotype"/>
              </a:rPr>
              <a:t>Task Force on Terrorism: Goal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827000"/>
            <a:ext cx="80010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that pediatricians and other providers have the information they need as fast as it becomes avail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that children’s needs are considered in all planning effo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sure functioning linkages between the Academy and all appropriate Federal, State and local governments and private ent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Task Force on Terrorism: Resources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ldren, Terrorism &amp; Disasters Webs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ldren, Terrorism &amp; Disasters Toolk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diatric Terrorism Preparedness Resou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dressing Mental Health Needs Resour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53800" indent="-253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AP Member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Children, Terrorism &amp; Disasters Website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31237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ttp://www.aap.org/terror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’s Ne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ademy Re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deral Re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dical Journal &amp; Re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ents, Teachers &amp; Community Plann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atured Lin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970" t="7898" r="970" b="76927"/>
          <a:stretch/>
        </p:blipFill>
        <p:spPr>
          <a:xfrm>
            <a:off x="380880" y="1828800"/>
            <a:ext cx="83822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b9efee"/>
                </a:solidFill>
                <a:latin typeface="Palatino Linotype"/>
              </a:rPr>
              <a:t>Children, Terrorism &amp; Disasters Toolkit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2257560"/>
            <a:ext cx="3581640" cy="3000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49440" y="1850760"/>
            <a:ext cx="44370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diatrici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mily Physicia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ediatric Nurse Practition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ederal and State Offici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fessional Organiza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2:51:49Z</dcterms:created>
  <dc:creator>Molly Hicks</dc:creator>
  <dc:description/>
  <dc:language>en-US</dc:language>
  <cp:lastModifiedBy>CBell</cp:lastModifiedBy>
  <cp:lastPrinted>2003-12-12T15:09:40Z</cp:lastPrinted>
  <dcterms:modified xsi:type="dcterms:W3CDTF">2003-12-15T19:00:07Z</dcterms:modified>
  <cp:revision>11</cp:revision>
  <dc:subject/>
  <dc:title>Bioterrorism and Other Public Health Emergencies: Linkages with Community Providers  December 16, 2003</dc:title>
</cp:coreProperties>
</file>