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media/image1.wmf" ContentType="image/x-wmf"/>
  <Override PartName="/ppt/media/image2.jpeg" ContentType="image/jpeg"/>
  <Override PartName="/ppt/media/image3.jpeg" ContentType="image/jpeg"/>
  <Override PartName="/ppt/media/image4.wmf" ContentType="image/x-wmf"/>
  <Override PartName="/ppt/media/image5.jpeg" ContentType="image/jpeg"/>
  <Override PartName="/ppt/media/image6.jpeg" ContentType="image/jpe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40309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15235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4030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14560" y="4030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40360" y="15235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00560" y="15235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40309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40360" y="40309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00560" y="40309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7CD28-0E1B-4384-A832-C166C59777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cc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2B8C6-F06B-4FB7-8697-956DF36D12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8FB98-6D67-4804-9987-DAFFA18709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4560" y="15235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32315-CF2F-4094-9650-2D8EF6F514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EE2B9-48D9-4019-801D-B8BED439FF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B8CD9-8C3B-4F07-ADA1-2D4F76F517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4560" y="15235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0520" y="4030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E1611-3B9D-42BC-AF5F-E32350831E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cc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4560" y="15235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14560" y="4030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3D6DF-F47A-48DA-A6E7-A0FF4D4D30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4560" y="15235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520" y="40309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E5900-DA07-4E68-93D0-5E5A273C65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520" y="40309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84FC9-4608-4B68-A819-A1F72E7590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15235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520" y="4030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14560" y="4030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4BCB0-08F7-4D3F-8942-15B1D28CA3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0360" y="15235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0560" y="15235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0520" y="40309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0360" y="40309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0560" y="4030920"/>
            <a:ext cx="272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96405-9F61-45D5-BD45-43B738F21D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14560" y="15235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520" y="1519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cc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4560" y="15235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4030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12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4560" y="15235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14560" y="40309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4560" y="1523520"/>
            <a:ext cx="4127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4030920"/>
            <a:ext cx="8458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package" Target="../embeddings/oleObject1.ppt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7e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0000"/>
              <a:buFont typeface="Times New Roman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7e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cc"/>
                </a:solidFill>
                <a:latin typeface="Garamond"/>
              </a:rPr>
              <a:t>Click to edit the title text format</a:t>
            </a:r>
            <a:endParaRPr b="1" lang="en-US" sz="3800" spc="-1" strike="noStrike">
              <a:solidFill>
                <a:srgbClr val="0066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347ec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21CD-CC0A-4FB5-90FC-76B3F51DBF6F}" type="slidenum">
              <a:rPr b="1" lang="en-US" sz="1400" spc="-1" strike="noStrike">
                <a:solidFill>
                  <a:srgbClr val="347ec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" name=""/>
          <p:cNvGraphicFramePr/>
          <p:nvPr/>
        </p:nvGraphicFramePr>
        <p:xfrm>
          <a:off x="0" y="0"/>
          <a:ext cx="9144000" cy="685008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66cc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7e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1752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cc"/>
                </a:solidFill>
                <a:latin typeface="Garamond"/>
              </a:rPr>
              <a:t>Using an AHRQ-supported Practice- Based Research Network (PBRN) To Design, Implement, And Evaluate Communication Strategies</a:t>
            </a:r>
            <a:endParaRPr b="1" lang="en-US" sz="3400" spc="-1" strike="noStrike">
              <a:solidFill>
                <a:srgbClr val="0066cc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038480" y="3809880"/>
            <a:ext cx="41911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Garamond"/>
              </a:rPr>
              <a:t>Jeralyn Bernier, M.D., M.P.H.</a:t>
            </a:r>
            <a:endParaRPr b="1" lang="en-US" sz="2400" spc="-1" strike="noStrike">
              <a:solidFill>
                <a:srgbClr val="0066cc"/>
              </a:solidFill>
              <a:latin typeface="Garamond"/>
            </a:endParaRPr>
          </a:p>
          <a:p>
            <a:pPr lvl="1" marL="399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cc"/>
                </a:solidFill>
                <a:latin typeface="Garamond"/>
              </a:rPr>
              <a:t>Research Director</a:t>
            </a:r>
            <a:endParaRPr b="1" lang="en-US" sz="1600" spc="-1" strike="noStrike">
              <a:solidFill>
                <a:srgbClr val="0066cc"/>
              </a:solidFill>
              <a:latin typeface="Garamond"/>
            </a:endParaRPr>
          </a:p>
          <a:p>
            <a:pPr lvl="1" marL="399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cc"/>
                </a:solidFill>
                <a:latin typeface="Garamond"/>
              </a:rPr>
              <a:t>Cincinnati Pediatric Research Group</a:t>
            </a:r>
            <a:endParaRPr b="1" lang="en-US" sz="1600" spc="-1" strike="noStrike">
              <a:solidFill>
                <a:srgbClr val="0066cc"/>
              </a:solidFill>
              <a:latin typeface="Garamond"/>
            </a:endParaRPr>
          </a:p>
          <a:p>
            <a:pPr lvl="1" marL="399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cc"/>
                </a:solidFill>
                <a:latin typeface="Garamond"/>
              </a:rPr>
              <a:t>Cincinnati Children’s Hospital Medical Center</a:t>
            </a:r>
            <a:endParaRPr b="1" lang="en-US" sz="1600" spc="-1" strike="noStrike">
              <a:solidFill>
                <a:srgbClr val="0066cc"/>
              </a:solidFill>
              <a:latin typeface="Garamond"/>
            </a:endParaRPr>
          </a:p>
          <a:p>
            <a:pPr lvl="1" marL="399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cc"/>
                </a:solidFill>
                <a:latin typeface="Garamond"/>
              </a:rPr>
              <a:t>Cincinnati, OH</a:t>
            </a:r>
            <a:endParaRPr b="1" lang="en-US" sz="1600" spc="-1" strike="noStrike">
              <a:solidFill>
                <a:srgbClr val="0066cc"/>
              </a:solidFill>
              <a:latin typeface="Garamond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Garamond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11295" t="0" r="13288" b="17364"/>
          <a:stretch/>
        </p:blipFill>
        <p:spPr>
          <a:xfrm>
            <a:off x="1447920" y="3733920"/>
            <a:ext cx="207792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47F78-D65D-4ABB-B2F5-4864E24412E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7e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Symptom Surveillance—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Health Department Participation</a:t>
            </a: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gular review/analysis of data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otices, bulletins to providers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vestigations as needed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strained use of alert function to maintain effectiveness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overning boards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7e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Health Department Communications</a:t>
            </a: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9" name="img003" descr=""/>
          <p:cNvPicPr/>
          <p:nvPr/>
        </p:nvPicPr>
        <p:blipFill>
          <a:blip r:embed="rId1"/>
          <a:srcRect l="0" t="0" r="0" b="3905"/>
          <a:stretch/>
        </p:blipFill>
        <p:spPr>
          <a:xfrm>
            <a:off x="533520" y="824040"/>
            <a:ext cx="784836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7e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Symptom Surveillance—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Relevance to Everyday Practice</a:t>
            </a: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nswers the commonly posed question, “What’s going around?”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ore timely detection of naturally occurring outbreaks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pid targeted information source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7e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0" y="228600"/>
          <a:ext cx="8906040" cy="6089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8906040" cy="60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7e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Symptom Surveillance—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Future Expansion</a:t>
            </a: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152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xpansion throughout Ohio via Health Departments and sister PBRNs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apping feature with automated analysis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mproved community provider penetration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48320" y="180972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7e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Symptom Surveillance—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Future Expansion</a:t>
            </a: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aily data entry 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hone triage data collection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utomated analysis of claims/billing data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utomated linkage to corresponding lab data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mproved informational resources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7e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Symptom Surveillance—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Other Uses</a:t>
            </a: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scussion of research and preliminary findings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etwork/Hospital/Health Department news briefs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hared practice management tools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inks to information resources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eeting reminders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vent announcements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7e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Overview</a:t>
            </a: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idwest regional Practice-Based Research Network spanning 8 counties in three States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tablished in 1996 with support from General and Community Pediatrics, CCHMC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45 providers in 22 practices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deas generated in “bottom-up” fashion at monthly meetings of members tackling clinical problems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ngoing support from the Agency for Healthcare Research and Quality (AHRQ) and Cincinnati Children’s Hospital Medical Center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7e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g001" descr=""/>
          <p:cNvPicPr/>
          <p:nvPr/>
        </p:nvPicPr>
        <p:blipFill>
          <a:blip r:embed="rId1"/>
          <a:stretch/>
        </p:blipFill>
        <p:spPr>
          <a:xfrm>
            <a:off x="380880" y="0"/>
            <a:ext cx="845820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7e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Symptom Surveillance Project</a:t>
            </a: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eb-based password protected database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hysicians enter data re: symptom complexes of high prevalence in outpatient office settings, as well as unusual cases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ymptoms as manifest in children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ymptoms likely in transmissible diseases or bioterrorism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7e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Symptom Surveillance—Who?</a:t>
            </a: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actice-based research networks of primary care providers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99cc00"/>
              </a:buClr>
              <a:buSzPct val="70000"/>
              <a:buFont typeface="Times New Roman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Garamond"/>
              </a:rPr>
              <a:t>CPRG (Cincinnati Pediatric Research Group)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99cc00"/>
              </a:buClr>
              <a:buSzPct val="70000"/>
              <a:buFont typeface="Times New Roman"/>
              <a:buChar char="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Garamond"/>
              </a:rPr>
              <a:t>OPRC (Ohio Pediatric Research Consortium)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gionally distributed practices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edical community leaders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7e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04920" y="262080"/>
          <a:ext cx="8853480" cy="60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62080"/>
                    <a:ext cx="8853480" cy="60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7e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Symptom Surveillance—Unique Features</a:t>
            </a: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idirectional communication between providers and public health officials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ortal for educating providers to facilitate timely translation of research into practice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ymptoms vs. diagnoses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munity-based providers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diatric focus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ractive graphical output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7e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img002" descr=""/>
          <p:cNvPicPr/>
          <p:nvPr/>
        </p:nvPicPr>
        <p:blipFill>
          <a:blip r:embed="rId1"/>
          <a:srcRect l="0" t="0" r="0" b="1561"/>
          <a:stretch/>
        </p:blipFill>
        <p:spPr>
          <a:xfrm>
            <a:off x="228600" y="-42840"/>
            <a:ext cx="876312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7e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Symptom Surveillance—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Provider Motivation</a:t>
            </a:r>
            <a:endParaRPr b="1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volvement in ongoing research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mmediate data feedback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ccess to public health officials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ffice staff rewards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odest financial remuneration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8T18:48:13Z</dcterms:created>
  <dc:creator>eHealth</dc:creator>
  <dc:description/>
  <dc:language>en-US</dc:language>
  <cp:lastModifiedBy>Network Administrator</cp:lastModifiedBy>
  <cp:lastPrinted>2003-12-11T15:22:22Z</cp:lastPrinted>
  <dcterms:modified xsi:type="dcterms:W3CDTF">2003-12-17T19:49:54Z</dcterms:modified>
  <cp:revision>46</cp:revision>
  <dc:subject/>
  <dc:title>PowerPoint Presentation</dc:title>
</cp:coreProperties>
</file>