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030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456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056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056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AF47-7A60-42A7-9E09-9D718693C5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3D61-7135-429D-AB4F-373A200F5A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750E-1165-4C65-A129-312073BC75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A800-84AE-4EB9-ABA5-01BB612AB9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FC8B-0EEC-4BDA-9B80-BEA0D8B3C6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7154-EB5A-4288-A30D-442BA4090E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51C0-75F1-455A-87A5-23D0123B1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AB51-E853-4995-B589-1E838739AE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B726-F3C9-472A-B108-7BA3B36C18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4030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648B-2B8C-4920-91E1-2E9CE410C4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4E34-04E2-4D28-975D-BE1D23B52F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C3F2-8024-45DC-B2BA-D0668C236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456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0000"/>
              <a:buFont typeface="Times New Roman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cc"/>
                </a:solidFill>
                <a:latin typeface="Garamond"/>
              </a:rPr>
              <a:t>Click to edit the title text format</a:t>
            </a:r>
            <a:endParaRPr b="1" lang="en-US" sz="3800" spc="-1" strike="noStrike">
              <a:solidFill>
                <a:srgbClr val="0066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47e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4228-4445-471F-8035-E560276A6BC4}" type="slidenum">
              <a:rPr b="1" lang="en-US" sz="1400" spc="-1" strike="noStrike">
                <a:solidFill>
                  <a:srgbClr val="347ec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752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cc"/>
                </a:solidFill>
                <a:latin typeface="Garamond"/>
              </a:rPr>
              <a:t>Using an AHRQ-supported Practice- Based Research Network (PBRN) To Design, Implement, And Evaluate Communication Strategies</a:t>
            </a:r>
            <a:endParaRPr b="1" lang="en-US" sz="3400" spc="-1" strike="noStrike">
              <a:solidFill>
                <a:srgbClr val="0066cc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038480" y="380988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Garamond"/>
              </a:rPr>
              <a:t>Jeralyn Bernier, M.D., M.P.H.</a:t>
            </a:r>
            <a:endParaRPr b="1" lang="en-US" sz="2400" spc="-1" strike="noStrike">
              <a:solidFill>
                <a:srgbClr val="0066cc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Garamond"/>
              </a:rPr>
              <a:t>Research Director</a:t>
            </a: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Garamond"/>
              </a:rPr>
              <a:t>Cincinnati Pediatric Research Group</a:t>
            </a: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Garamond"/>
              </a:rPr>
              <a:t>Cincinnati Children’s Hospital Medical Center</a:t>
            </a: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Garamond"/>
              </a:rPr>
              <a:t>Cincinnati, OH</a:t>
            </a: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1295" t="0" r="13288" b="17364"/>
          <a:stretch/>
        </p:blipFill>
        <p:spPr>
          <a:xfrm>
            <a:off x="1447920" y="3733920"/>
            <a:ext cx="207792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4F9D-7A56-4C63-B68F-53DACFFF1A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Health Department Participation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gular review/analysis of dat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tices, bulletins to provi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vestigations as needed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trained use of alert function to maintain effectivenes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verning board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Health Department Communications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img003" descr=""/>
          <p:cNvPicPr/>
          <p:nvPr/>
        </p:nvPicPr>
        <p:blipFill>
          <a:blip r:embed="rId1"/>
          <a:srcRect l="0" t="0" r="0" b="3905"/>
          <a:stretch/>
        </p:blipFill>
        <p:spPr>
          <a:xfrm>
            <a:off x="533520" y="824040"/>
            <a:ext cx="78483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Relevance to Everyday Practice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s the commonly posed question, “What’s going around?”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re timely detection of naturally occurring outbreak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pid targeted information sourc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228600"/>
          <a:ext cx="8906040" cy="608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90604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Future Expansion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152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pansion throughout Ohio via Health Departments and sister PBR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pping feature with automated analysi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mproved community provider penetration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18097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Future Expansion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aily data entry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one triage data collectio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utomated analysis of claims/billing dat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utomated linkage to corresponding lab dat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roved informational resourc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Other Uses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ussion of research and preliminary finding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twork/Hospital/Health Department news brief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ared practice management tool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nks to information resourc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eting remin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vent announcement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Overview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dwest regional Practice-Based Research Network spanning 8 counties in three State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tablished in 1996 with support from General and Community Pediatrics, CCHMC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5 providers in 22 practice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deas generated in “bottom-up” fashion at monthly meetings of members tackling clinical problem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going support from the Agency for Healthcare Research and Quality (AHRQ) and Cincinnati Children’s Hospital Medical Center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g001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 Project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b-based password protected databas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ysicians enter data re: symptom complexes of high prevalence in outpatient office settings, as well as unusual cas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ymptoms as manifest in childre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ymptoms likely in transmissible diseases or bioterrorism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Who?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actice-based research networks of primary care provi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0000"/>
              <a:buFont typeface="Times New Roman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CPRG (Cincinnati Pediatric Research Group)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0000"/>
              <a:buFont typeface="Times New Roman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OPRC (Ohio Pediatric Research Consortium)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gionally distributed practic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dical community lea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04920" y="262080"/>
          <a:ext cx="8853480" cy="60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2080"/>
                    <a:ext cx="8853480" cy="60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Unique Features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directional communication between providers and public health official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rtal for educating providers to facilitate timely translation of research into practic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ymptoms vs. diagnos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ty-based provi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atric focu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ractive graphical outpu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g002" descr=""/>
          <p:cNvPicPr/>
          <p:nvPr/>
        </p:nvPicPr>
        <p:blipFill>
          <a:blip r:embed="rId1"/>
          <a:srcRect l="0" t="0" r="0" b="1561"/>
          <a:stretch/>
        </p:blipFill>
        <p:spPr>
          <a:xfrm>
            <a:off x="228600" y="-42840"/>
            <a:ext cx="87631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Provider Motivation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volvement in ongoing research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mediate data feedback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cess to public health official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fice staff reward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dest financial remuneratio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8:48:13Z</dcterms:created>
  <dc:creator>eHealth</dc:creator>
  <dc:description/>
  <dc:language>en-US</dc:language>
  <cp:lastModifiedBy>Network Administrator</cp:lastModifiedBy>
  <cp:lastPrinted>2003-12-11T15:22:22Z</cp:lastPrinted>
  <dcterms:modified xsi:type="dcterms:W3CDTF">2003-12-17T19:49:54Z</dcterms:modified>
  <cp:revision>46</cp:revision>
  <dc:subject/>
  <dc:title>PowerPoint Presentation</dc:title>
</cp:coreProperties>
</file>