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741-0008-43AC-9035-D184ABD68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671-553B-4EA8-8444-0EAAB20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E76-2966-4550-9CBC-74A8920B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651-5F13-414C-91BC-0AADA3E9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6F49-C6C2-493C-A477-14C37C56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797C-7332-4DCC-A3F9-A55024D4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259D-0775-4487-B87D-C66CC46F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99FA-3F96-4747-8FBD-3ED1D492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BCC0-64A2-4B26-931B-CC55CCA6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CA22-AD02-49E1-9D57-024C8C46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1FE8-F048-4308-BADD-36B0233F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7CE-AFF1-4FA3-B03F-D4838EAC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B3B7-3C4E-4B6A-BF4B-8BC0E31F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E954-6C1B-4DAF-9448-78E46739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93B7-42BA-49FF-9F90-48B8965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0CE8-1FD9-483A-990B-CFACD9F4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8588-B066-407F-9357-757CFC18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73BA-63D8-4759-A5C3-C2D76556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100-E126-47E6-BB7F-169B9E6C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543-696C-475A-AD95-671FAE93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04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29A-1654-4FB5-8933-6348FA57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1A3-7A80-47C7-88AE-E4DF57F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207-4A07-4C2B-BBE0-B88A09DC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84B-13D2-47B3-9A57-3CC06188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2AEC-1A55-4728-812A-DE674D6BD0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3685-BB79-461F-B76D-EE6CDE4ACD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Role of Information Technology In Improving Syndromic Surveillance and Decision Mak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114440" y="3505320"/>
            <a:ext cx="47242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ichael Shannon, M.D., M.P.H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Center for Bioprepared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ildren’s Hospital/Harvard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dical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oston, 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9096" t="0" r="19188" b="20663"/>
          <a:stretch/>
        </p:blipFill>
        <p:spPr>
          <a:xfrm>
            <a:off x="990720" y="3352680"/>
            <a:ext cx="2450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Syndromic Surveillanc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dromic surveillance is the term for the active monitoring of a disease clust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formation Technology’s Role in Improving Syndromic Surveillanc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on technology offers several valuable features for syndromic surveillanc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ctronic natu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ility to conduct real-time surveillan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alue of its monitoring data that are routinely collected in daily social activiti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Key Steps in Developing Bioterrorism-Based Automated Decision Support System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ilation of signs/symptoms of the disease of inter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phi group evaluation of signs/ symptoms, temporal features and differential diagno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ruction of prior probabilities algorithms (back end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put = differential diagnosis along with probabili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formation Systems Created or Under Development by the Center for Biopreparedness at CHB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ndromic Surveill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Scop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EG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ston data linkage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CARN data linkage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ool monitoring proj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tomated Decision Supp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ioagent Diagnosis Progr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0"/>
          <a:ext cx="8763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763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2139" t="14296" r="6255" b="25881"/>
          <a:stretch/>
        </p:blipFill>
        <p:spPr>
          <a:xfrm>
            <a:off x="990720" y="1035000"/>
            <a:ext cx="7086600" cy="5780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4582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ioagent Diagnosis Progr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228960" y="22860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fic Issues in Pediatric Preparedn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l prepared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rge capac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ining of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responders in management of pediatric disaster victi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ion of national pediatric disaster response te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ion of assessment/management tools for mental health sequela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19:46Z</dcterms:created>
  <dc:creator>shannon</dc:creator>
  <dc:description/>
  <dc:language>en-US</dc:language>
  <cp:lastModifiedBy>Mike Hess</cp:lastModifiedBy>
  <dcterms:modified xsi:type="dcterms:W3CDTF">2003-10-23T18:39:01Z</dcterms:modified>
  <cp:revision>11</cp:revision>
  <dc:subject/>
  <dc:title>The Role of Information/Communication Technology and Monitoring/Surveillance Systems in Bioterrorism Prepared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0191338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audioconference: Role of Info/Communications Technology in Monitoring BT preparedness</vt:lpwstr>
  </property>
  <property fmtid="{D5CDD505-2E9C-101B-9397-08002B2CF9AE}" pid="6" name="_PreviousAdHocReviewCycleID">
    <vt:r8>2099424624</vt:r8>
  </property>
</Properties>
</file>