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00A-3098-4150-B38F-BAFC39B1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817-ABFA-4C45-8C8D-115A59BF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2C32-36BD-44FF-8536-7C754129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9A7-BD70-4E5E-9F56-B87908FC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F2A0-ED87-4F79-BC71-40DD9C5A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1A46-544F-43E5-AB0C-7188652F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413D-8D9D-4EFB-9B53-D0097863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1B64-EEBE-4F2B-B490-621C6E6B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3793-BAF3-42FA-BDD5-77498E1B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9CF6-4250-454A-AF26-1154C779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B7E5-6187-4953-9B4A-25D99A02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057-5CCA-4D10-8283-417FC105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19D2-12FC-45C6-B280-91113DAB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439D-8139-460C-AB2C-7C9DC004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C684-35E1-4D9C-8D03-E12B43BB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5909-8912-4C45-A1CF-3A0F4212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106B-CE95-4DB1-BE42-C5D6D583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FE4-A8CF-4312-B572-0D42FD78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E721-3151-4CBF-AA52-27D1407A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2238-B5CC-4F56-9216-5371D28E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067-7D84-4ED5-A8C3-0DDEB522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C74-8480-41DB-BA97-B43CAD98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98FA-DB32-41BC-9C87-931F4D8B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8C7A-6A42-4C2B-8BB8-85EC32EE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0B3A-8338-42B5-A296-7955FE580A5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02AE-FC6B-40E1-A3D0-850DDC63C83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61048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Role of Information Technology In Improving Syndromic Surveillance and Decision Mak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114440" y="3505320"/>
            <a:ext cx="4724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ichael Shannon, M.D., M.P.H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Center for Biopreparedn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ildren’s Hospital/Harvard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dical Sch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oston, 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29096" t="0" r="19188" b="20663"/>
          <a:stretch/>
        </p:blipFill>
        <p:spPr>
          <a:xfrm>
            <a:off x="990720" y="3352680"/>
            <a:ext cx="2450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Syndromic Surveillanc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dromic surveillance is the term for the active monitoring of a disease clust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formation Technology’s Role in Improving Syndromic Surveilla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ormation technology offers several valuable features for syndromic surveillance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ctronic natu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bility to conduct real-time surveillan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alue of its monitoring data that are routinely collected in daily social activiti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Key Steps in Developing Bioterrorism-Based Automated Decision Support System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ilation of signs/symptoms of the disease of inter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lphi group evaluation of signs/ symptoms, temporal features and differential diagnos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truction of prior probabilities algorithms (back end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put = differential diagnosis along with probabili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formation Systems Created or Under Development by the Center for Biopreparedness at CHB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dromic Surveill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DScop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EG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ston data linkage proj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CARN data linkage proj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hool monitoring proj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utomated Decision Supp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Bioagent Diagnosis Pro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8600" y="0"/>
          <a:ext cx="876312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763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2139" t="14296" r="6255" b="25881"/>
          <a:stretch/>
        </p:blipFill>
        <p:spPr>
          <a:xfrm>
            <a:off x="990720" y="1035000"/>
            <a:ext cx="7086600" cy="5780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ioagent Diagnosis Progr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228960" y="22860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cific Issues in Pediatric Preparedne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hool preparedn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rge capac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ining of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esponders in management of pediatric disaster victi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eation of national pediatric disaster response tea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eation of assessment/management tools for mental health sequela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3:19:46Z</dcterms:created>
  <dc:creator>shannon</dc:creator>
  <dc:description/>
  <dc:language>en-US</dc:language>
  <cp:lastModifiedBy>Mike Hess</cp:lastModifiedBy>
  <dcterms:modified xsi:type="dcterms:W3CDTF">2003-10-23T18:39:01Z</dcterms:modified>
  <cp:revision>11</cp:revision>
  <dc:subject/>
  <dc:title>The Role of Information/Communication Technology and Monitoring/Surveillance Systems in Bioterrorism Preparedn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01913380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audioconference: Role of Info/Communications Technology in Monitoring BT preparedness</vt:lpwstr>
  </property>
  <property fmtid="{D5CDD505-2E9C-101B-9397-08002B2CF9AE}" pid="6" name="_PreviousAdHocReviewCycleID">
    <vt:r8>2099424624</vt:r8>
  </property>
</Properties>
</file>