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Unicode MS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AEE8-1231-46F7-B8A6-571CC6F86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3560" cy="3406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3188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960" y="3922560"/>
            <a:ext cx="18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83338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6943" b="0"/>
          <a:stretch/>
        </p:blipFill>
        <p:spPr>
          <a:xfrm>
            <a:off x="2209680" y="6216480"/>
            <a:ext cx="4496040" cy="6415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bright="-6000"/>
          </a:blip>
          <a:srcRect l="0" t="0" r="1675" b="1170"/>
          <a:stretch/>
        </p:blipFill>
        <p:spPr>
          <a:xfrm>
            <a:off x="0" y="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2120" indent="-402120"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9812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796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689880"/>
            <a:ext cx="304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077320" y="6297480"/>
            <a:ext cx="838080" cy="4986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270000" y="6100920"/>
            <a:ext cx="669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83338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6943" b="0"/>
          <a:stretch/>
        </p:blipFill>
        <p:spPr>
          <a:xfrm>
            <a:off x="2209680" y="6216480"/>
            <a:ext cx="4496040" cy="6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>
            <a:lum bright="-6000"/>
          </a:blip>
          <a:srcRect l="0" t="0" r="1675" b="1170"/>
          <a:stretch/>
        </p:blipFill>
        <p:spPr>
          <a:xfrm>
            <a:off x="0" y="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8839080" y="6689880"/>
            <a:ext cx="304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77320" y="6297480"/>
            <a:ext cx="838080" cy="49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70000" y="6100920"/>
            <a:ext cx="66996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indent="6480" algn="ctr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Coordinating the Functions, Uses and Activities of Systems and Organizations Involved in Public Health Surveillance</a:t>
            </a:r>
            <a:endParaRPr b="1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John W. Loonsk, M.D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rector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formation Resources Management Offic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enters for Disease Control and Prevention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U.S. Department of Health and Human Service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tlanta, GA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14993"/>
          <a:stretch/>
        </p:blipFill>
        <p:spPr>
          <a:xfrm>
            <a:off x="6172200" y="31240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Detection and monitoring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support of disease and threat surveillance, national health status indicator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Analysi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facilitating real-time evaluation of live data feeds, turning data into information for people at all levels of public health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Information resources and knowledge management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reference information, distance learning, decision support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Alerting and communication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transmission of emergency alerts, routine professional discussions, collaborative activiti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Response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management support of recommendations, prophylaxis, vaccination, etc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Preparedness IT Functions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Beyond Early Detection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ase management – possible cases, possible environmental events, symptomology, travel history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vestigation and confirmation – person lab results, environmental result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tact tracing – person-person, person-place, conveyance (plane, home, etc.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sponse coordination – quarantine management, stockpile dispensation, accelerated vaccination, prophylaxis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verse events and follow-up management – exposure registries, vaccination “take” recording, adverse reactions to treatment  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52280"/>
          <a:ext cx="8696520" cy="63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69652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1066680"/>
            <a:ext cx="24624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ly Event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io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E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pi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&amp;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io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en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Dissemination &amp;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D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ealth ale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Lab, Outbreak Management, Vaccine administration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1060560"/>
            <a:ext cx="609840" cy="4991040"/>
          </a:xfrm>
          <a:custGeom>
            <a:avLst/>
            <a:gdLst>
              <a:gd name="textAreaLeft" fmla="*/ 0 w 609840"/>
              <a:gd name="textAreaRight" fmla="*/ 220320 w 609840"/>
              <a:gd name="textAreaTop" fmla="*/ 129960 h 4991040"/>
              <a:gd name="textAreaBottom" fmla="*/ 4861080 h 499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540160"/>
            <a:ext cx="2514600" cy="203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00800" y="260352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741760"/>
            <a:ext cx="220968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Federal Health Architecture &amp; Consolidated Health Infor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76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Public Health Information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Unicode MS"/>
              </a:rPr>
              <a:t>Public Health Information Network </a:t>
            </a:r>
            <a:r>
              <a:rPr b="0" lang="en-US" sz="28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—</a:t>
            </a:r>
            <a:r>
              <a:rPr b="0" lang="en-US" sz="2800" spc="-1" strike="noStrike">
                <a:solidFill>
                  <a:srgbClr val="ffff99"/>
                </a:solidFill>
                <a:latin typeface="Arial Unicode MS"/>
              </a:rPr>
              <a:t> Process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apture the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business requirement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hat support the public health miss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dentify relevant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industry standard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echnical and data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based on standards that are concrete enough to do wor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4.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Fund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hrough the specification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“transitional software”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hat implements the specifications now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ncourage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partners and private sector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o implement the specification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upport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conformance tes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Questions to ask of your systems…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ave you documented the specific requirements of the processes you want them to serve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o they meet the specific requirements of other organizations in public health have of you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Were PHIN technical specifications written into your development and implementation contracts? Was there implementation assurance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an you make use of existing functional or commercial components that are standards based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re you prepared for compliance testing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119640" cy="5716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ww.cdc.gov/phin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4:27:00Z</dcterms:created>
  <dc:creator>John W. Loonsk, M.D.</dc:creator>
  <dc:description/>
  <dc:language>en-US</dc:language>
  <cp:lastModifiedBy>CBell</cp:lastModifiedBy>
  <dcterms:modified xsi:type="dcterms:W3CDTF">2003-10-20T12:50:43Z</dcterms:modified>
  <cp:revision>436</cp:revision>
  <dc:subject/>
  <dc:title>BioSen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9612333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EntryID">
    <vt:lpwstr>0000000004CE608E23F1D1118B1500805FA7E6630700217E9EC821F1D1118B1400805FA7E66300000000734D00003598558AD728D41183350008C7CF291C0000125712F60000</vt:lpwstr>
  </property>
  <property fmtid="{D5CDD505-2E9C-101B-9397-08002B2CF9AE}" pid="6" name="_EmailStoreID">
    <vt:lpwstr>0000000038A1BB1005E5101AA1BB08002B2A56C20000454D534D44422E444C4C00000000000000001B55FA20AA6611CD9BC800AA002FC45A0C00000045584348414E474531002F6F3D444848532F6F753D41484350522F636E3D526563697069656E74732F636E3D424C6576656500</vt:lpwstr>
  </property>
  <property fmtid="{D5CDD505-2E9C-101B-9397-08002B2CF9AE}" pid="7" name="_EmailSubject">
    <vt:lpwstr>ULP audioconference: Role of Info/Communications Technology in Monitoring BT preparedness</vt:lpwstr>
  </property>
  <property fmtid="{D5CDD505-2E9C-101B-9397-08002B2CF9AE}" pid="8" name="_PreviousAdHocReviewCycleID">
    <vt:r8>380029007</vt:r8>
  </property>
  <property fmtid="{D5CDD505-2E9C-101B-9397-08002B2CF9AE}" pid="9" name="_ReviewCycleID">
    <vt:r8>1073187063</vt:r8>
  </property>
</Properties>
</file>