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Unicode MS"/>
              </a:rPr>
              <a:t>Click to move the slide</a:t>
            </a:r>
            <a:endParaRPr b="1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AF12-E3FF-45E1-874D-A6D7F8A2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3560" cy="3406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3188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960" y="3922560"/>
            <a:ext cx="181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83338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6943" b="0"/>
          <a:stretch/>
        </p:blipFill>
        <p:spPr>
          <a:xfrm>
            <a:off x="2209680" y="6216480"/>
            <a:ext cx="4496040" cy="6415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>
            <a:lum bright="-6000"/>
          </a:blip>
          <a:srcRect l="0" t="0" r="1675" b="1170"/>
          <a:stretch/>
        </p:blipFill>
        <p:spPr>
          <a:xfrm>
            <a:off x="0" y="0"/>
            <a:ext cx="9144000" cy="650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2120" indent="-402120">
              <a:spcBef>
                <a:spcPts val="799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798120" indent="-28296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3796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689880"/>
            <a:ext cx="304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T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8077320" y="6297480"/>
            <a:ext cx="838080" cy="49860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6"/>
          <a:stretch/>
        </p:blipFill>
        <p:spPr>
          <a:xfrm>
            <a:off x="270000" y="6100920"/>
            <a:ext cx="669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0" t="0" r="83338" b="0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0" t="0" r="6943" b="0"/>
          <a:stretch/>
        </p:blipFill>
        <p:spPr>
          <a:xfrm>
            <a:off x="2209680" y="6216480"/>
            <a:ext cx="4496040" cy="641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>
            <a:lum bright="-6000"/>
          </a:blip>
          <a:srcRect l="0" t="0" r="1675" b="1170"/>
          <a:stretch/>
        </p:blipFill>
        <p:spPr>
          <a:xfrm>
            <a:off x="0" y="0"/>
            <a:ext cx="9144000" cy="6508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Unicode MS"/>
              </a:rPr>
              <a:t>Click to edit the title text format</a:t>
            </a:r>
            <a:endParaRPr b="1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49" name=""/>
          <p:cNvSpPr/>
          <p:nvPr/>
        </p:nvSpPr>
        <p:spPr>
          <a:xfrm>
            <a:off x="8839080" y="6689880"/>
            <a:ext cx="304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Arial"/>
              </a:rPr>
              <a:t>T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077320" y="6297480"/>
            <a:ext cx="838080" cy="49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70000" y="6100920"/>
            <a:ext cx="66996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914400" indent="6480" algn="ctr">
              <a:spcBef>
                <a:spcPts val="601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Unicode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ahoma"/>
              </a:rPr>
              <a:t>Coordinating the Functions, Uses and Activities of Systems and Organizations Involved in Public Health Surveillance</a:t>
            </a:r>
            <a:endParaRPr b="1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6840" y="320040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John W. Loonsk, M.D.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Director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Information Resources Management Office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Centers for Disease Control and Prevention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U.S. Department of Health and Human Service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marL="293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Atlanta, GA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0" b="14993"/>
          <a:stretch/>
        </p:blipFill>
        <p:spPr>
          <a:xfrm>
            <a:off x="6172200" y="3124080"/>
            <a:ext cx="2438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Detection and monitoring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– support of disease and threat surveillance, national health status indicator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Analysi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– facilitating real-time evaluation of live data feeds, turning data into information for people at all levels of public health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Information resources and knowledge management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reference information, distance learning, decision support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Alerting and communication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– transmission of emergency alerts, routine professional discussions, collaborative activitie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-4064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Unicode MS"/>
              </a:rPr>
              <a:t>Response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– management support of recommendations, prophylaxis, vaccination, etc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4064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59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Preparedness IT Functions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Beyond Early Detection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ase management – possible cases, possible environmental events, symptomology, travel history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vestigation and confirmation – person lab results, environmental results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ntact tracing – person-person, person-place, conveyance (plane, home, etc.)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Response coordination – quarantine management, stockpile dispensation, accelerated vaccination, prophylaxis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marL="337320" indent="-337320">
              <a:lnSpc>
                <a:spcPct val="80000"/>
              </a:lnSpc>
              <a:spcBef>
                <a:spcPts val="1400"/>
              </a:spcBef>
              <a:buClr>
                <a:srgbClr val="ffff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dverse events and follow-up management – exposure registries, vaccination “take” recording, adverse reactions to treatment   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152280"/>
          <a:ext cx="8696520" cy="63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69652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1066680"/>
            <a:ext cx="246240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ly Event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ioS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NE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pi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&amp;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Bio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en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Dissemination &amp;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CD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Health ale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Lab, Outbreak Management, Vaccine administration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1060560"/>
            <a:ext cx="609840" cy="4991040"/>
          </a:xfrm>
          <a:custGeom>
            <a:avLst/>
            <a:gdLst>
              <a:gd name="textAreaLeft" fmla="*/ 0 w 609840"/>
              <a:gd name="textAreaRight" fmla="*/ 220320 w 609840"/>
              <a:gd name="textAreaTop" fmla="*/ 129960 h 4991040"/>
              <a:gd name="textAreaBottom" fmla="*/ 4861080 h 499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7600" y="2540160"/>
            <a:ext cx="2514600" cy="2031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400800" y="260352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741760"/>
            <a:ext cx="2209680" cy="16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Narrow"/>
              </a:rPr>
              <a:t>Federal Health Architecture &amp; Consolidated Health Infor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7632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Unicode MS"/>
              </a:rPr>
              <a:t>Public Health Information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202680" cy="69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 Unicode MS"/>
              </a:rPr>
              <a:t>Public Health Information Network </a:t>
            </a:r>
            <a:r>
              <a:rPr b="0" lang="en-US" sz="28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—</a:t>
            </a:r>
            <a:r>
              <a:rPr b="0" lang="en-US" sz="2800" spc="-1" strike="noStrike">
                <a:solidFill>
                  <a:srgbClr val="ffff99"/>
                </a:solidFill>
                <a:latin typeface="Arial Unicode MS"/>
              </a:rPr>
              <a:t> Process</a:t>
            </a:r>
            <a:endParaRPr b="0" lang="en-US" sz="28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apture the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business requirement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hat support the public health mission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Identify relevant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industry standard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echnical and data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evelop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specifications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based on standards that are concrete enough to do work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4.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Fund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hrough the specifications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evelop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“transitional software”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hat implements the specifications now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Encourage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partners and private sector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 to implement the specifications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421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Support </a:t>
            </a:r>
            <a:r>
              <a:rPr b="0" lang="en-US" sz="2400" spc="-1" strike="noStrike">
                <a:solidFill>
                  <a:srgbClr val="ffff00"/>
                </a:solidFill>
                <a:latin typeface="Arial Unicode MS"/>
              </a:rPr>
              <a:t>conformance testing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 Unicode MS"/>
              </a:rPr>
              <a:t>Questions to ask of your systems…</a:t>
            </a:r>
            <a:endParaRPr b="0" lang="en-US" sz="3600" spc="-1" strike="noStrike">
              <a:solidFill>
                <a:srgbClr val="ffff99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Have you documented the specific requirements of the processes you want them to serve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Do they meet the specific requirements of other organizations in public health have of you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Were PHIN technical specifications written into your development and implementation contracts? Was there implementation assurance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Can you make use of existing functional or commercial components that are standards based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Are you prepared for compliance testing?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 marL="5544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119640" cy="57164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Unicode MS"/>
              </a:rPr>
              <a:t>www.cdc.gov/phin</a:t>
            </a:r>
            <a:endParaRPr b="0" lang="en-US" sz="3200" spc="-1" strike="noStrike">
              <a:solidFill>
                <a:srgbClr val="ffff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4:27:00Z</dcterms:created>
  <dc:creator>John W. Loonsk, M.D.</dc:creator>
  <dc:description/>
  <dc:language>en-US</dc:language>
  <cp:lastModifiedBy>CBell</cp:lastModifiedBy>
  <dcterms:modified xsi:type="dcterms:W3CDTF">2003-10-20T12:50:43Z</dcterms:modified>
  <cp:revision>436</cp:revision>
  <dc:subject/>
  <dc:title>BioSen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96123332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EntryID">
    <vt:lpwstr>0000000004CE608E23F1D1118B1500805FA7E6630700217E9EC821F1D1118B1400805FA7E66300000000734D00003598558AD728D41183350008C7CF291C0000125712F60000</vt:lpwstr>
  </property>
  <property fmtid="{D5CDD505-2E9C-101B-9397-08002B2CF9AE}" pid="6" name="_EmailStoreID">
    <vt:lpwstr>0000000038A1BB1005E5101AA1BB08002B2A56C20000454D534D44422E444C4C00000000000000001B55FA20AA6611CD9BC800AA002FC45A0C00000045584348414E474531002F6F3D444848532F6F753D41484350522F636E3D526563697069656E74732F636E3D424C6576656500</vt:lpwstr>
  </property>
  <property fmtid="{D5CDD505-2E9C-101B-9397-08002B2CF9AE}" pid="7" name="_EmailSubject">
    <vt:lpwstr>ULP audioconference: Role of Info/Communications Technology in Monitoring BT preparedness</vt:lpwstr>
  </property>
  <property fmtid="{D5CDD505-2E9C-101B-9397-08002B2CF9AE}" pid="8" name="_PreviousAdHocReviewCycleID">
    <vt:r8>380029007</vt:r8>
  </property>
  <property fmtid="{D5CDD505-2E9C-101B-9397-08002B2CF9AE}" pid="9" name="_ReviewCycleID">
    <vt:r8>1073187063</vt:r8>
  </property>
</Properties>
</file>