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F9A8-121E-469B-9611-AF54E7A5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438-CA0E-4A86-937C-9582F9548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088-2B9D-4713-9FCF-309FBF576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C4A-4CE3-4D92-A3D4-33175370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6EEE-AFC3-41DA-B46D-BD91870D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4016-D271-4A77-9109-D03F0F3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CD56-B96A-4DE0-9503-858E94D9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A255-4231-435A-ADB3-7F32E68E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E1D-FB6B-4FE8-AA85-3D9B732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C05-6632-4B21-B525-7320C48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8DF4-D066-4386-9DE0-5BF6FF9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BD2-5AE6-46D0-A4CB-1BF132B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A56F-6483-4F1B-A5A2-0CE7E4B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CA16-2E67-4D1D-9AAF-46419D9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DE1-EA38-40EF-AB9B-0006E0B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F16B-4CFC-4B4C-ADDC-1579CFB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8509-F37C-44BE-B302-85866D9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FAE1-C16A-4F1B-9916-A67E7D9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A788-38FC-43D5-869C-64F8999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9622-C2FA-4BD6-A366-7E85E3B0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358-13F8-400A-BE53-E4135DB4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1568-9942-4B43-AF2F-14E5917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59CF-6D39-47A3-8E10-7C50739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E5CC-6B5A-4CF9-BB96-84182AD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C898-9C9D-4A1E-A221-A901C18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18C6-CE36-4565-B3D6-864CD57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B681-CC4D-4E99-8476-DFD2332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A545-F5FA-4902-A8DC-7541FBA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838-0D4E-4BEA-95A8-3D541273B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EAA8-8195-40B9-8656-16777E412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Assessing Hospital and Health System Preparedness and Respon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oward Levitin, M.D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Emergency Physician and Consultant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Disaster Planning International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Levitin_picture" descr=""/>
          <p:cNvPicPr/>
          <p:nvPr/>
        </p:nvPicPr>
        <p:blipFill>
          <a:blip r:embed="rId1"/>
          <a:srcRect l="17486" t="9055" r="19565" b="23923"/>
          <a:stretch/>
        </p:blipFill>
        <p:spPr>
          <a:xfrm>
            <a:off x="5562720" y="2895480"/>
            <a:ext cx="311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Yearly Impact of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fluenz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cess hospitalizations 50/1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0% hospitalized &gt;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0,000 die annually from the f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costs -$1B (198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costs - $2-4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434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sonal effe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ercrowding – ED, UCC, PPP, clin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D di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longed wait ti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d short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erworked (sick) sta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arcity of ventila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vel of Preparedness i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ur Hospitals Survey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e met minimum level of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ly one center provided bioweapon (BW) trai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ly one facility’s plan addressed mass casual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four hospitals regularly experience staffing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had no excess capacity in the ED or IC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e had sufficient supplies to manage a mass casualty inci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tacles to Prepared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ck of financial support for BW planning &amp; preparedness (typically volunte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generally accepted planning scen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rtage of “true” planning/response expert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mal (or no) excess patient care capa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rrent Health of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ealthcare System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336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wer hospit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wer hospital b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D overcrow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rsonnel short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ource limi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nancial 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82880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Decreased by 1,075 1979-19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3623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378,000 decrease 1979-19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2971800"/>
            <a:ext cx="44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ED volume up 14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5053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Nurses, Pharmacist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114800"/>
            <a:ext cx="431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Just in time purcha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724280"/>
            <a:ext cx="4641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Decline in government support for hospitals; unfunded mandates; increase demand for charity c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o Measure Capacity, Hospitals must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valuate existing &amp; immediately available services for inpatient &amp; outpatient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sess its rapid expansion capacity – physical plant, personnel, supplies &amp; equi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der maintenance of standards for medical care, monitoring &amp; trac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der contingency plans to ensure patient care – alternative care centers, discontinuance of services &amp; patient transf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es to Increase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rly patient dischar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ncel elective proced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pen unused patient care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tilize “non-traditional” patient care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rease nurse/patient rat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miting f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rson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itors/equi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t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aseline demand for care doesn’t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What will be the impact of the increased capacit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spital Assess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a886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logical Emerg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nn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dness Questionna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althcare Fac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a886e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inical Preparedness Maturity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agement &amp;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on Techn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g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ff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rveillance/de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Public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d agency in a biological atta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der reporting of infectious outbrea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derutilized resour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 medical prov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adequate daily contac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communit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mergenc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ff shortage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pecially Epidemiolog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t available 24/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595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0 Anthrax Patients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ed Requiremen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1:15:09Z</dcterms:created>
  <dc:creator>Howard W. Levitin</dc:creator>
  <dc:description/>
  <dc:language>en-US</dc:language>
  <cp:lastModifiedBy>Steve Seitz</cp:lastModifiedBy>
  <dcterms:modified xsi:type="dcterms:W3CDTF">2002-05-31T20:11:11Z</dcterms:modified>
  <cp:revision>12</cp:revision>
  <dc:subject/>
  <dc:title>Level of Preparedness in  Four Hospitals Survey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48207512</vt:r8>
  </property>
  <property fmtid="{D5CDD505-2E9C-101B-9397-08002B2CF9AE}" pid="3" name="_AuthorEmail">
    <vt:lpwstr>hwlevi@hazmatdqe.com</vt:lpwstr>
  </property>
  <property fmtid="{D5CDD505-2E9C-101B-9397-08002B2CF9AE}" pid="4" name="_AuthorEmailDisplayName">
    <vt:lpwstr>Howard Levitin</vt:lpwstr>
  </property>
  <property fmtid="{D5CDD505-2E9C-101B-9397-08002B2CF9AE}" pid="5" name="_EmailSubject">
    <vt:lpwstr>FW: Draft questions for Event #3</vt:lpwstr>
  </property>
</Properties>
</file>