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948-20A9-44C3-8AA5-567DCFC1D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54FD-8AEE-4C51-AE67-03EF744C7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2F2B-E28F-40E1-86A2-EBD4531A5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9729-D5A9-4249-AD25-C30BEA20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FD2B8-1EE7-470F-9E3C-EB372A69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AF8C9-ACAB-4AA2-BE64-58550582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F22C-CB07-4C16-A332-850C5301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CB813-EB56-464A-BF4D-AF79E98A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E58B-414A-4D60-9253-1895AAE7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EC80-ACCB-40E9-8B81-F2E04FCD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C3D-3558-485E-988B-97CA2CA1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737D-4658-43C4-A824-E0DD88D1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90E4-80AB-42EC-A3F4-1790272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F9EB-2F2B-4596-9A52-CFD1116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3703-EA9A-40FD-B2CE-4B1797A6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FE6C-46E9-4095-9684-56E211EE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4B38-60C4-45C8-8E29-6999296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D481-AE87-4E03-9022-0A2B9E9A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0F5D-F514-4FA1-93EA-02E4605B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4D37-6553-4FDF-A8B5-53CD94EA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55FF-2EA9-4491-83B4-0B1647D9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1303-4CD8-4312-AA10-E8427C8B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7270-7698-462E-9DDF-07ED0F39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2765-403D-42E0-993D-D5ED0B34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DB14-054D-44EB-B44C-B17F0E2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FC59-2003-4903-A9E4-A33DE94F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E839E-C14A-4FC7-A9A6-F66AF45B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BDD7-2B74-417A-A066-463D6F3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4A08-D486-4C88-A8E0-0FE472C4B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89A0-5E68-4585-B5F6-E0E3FAE9F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Assessing Hospital and Health System Preparedness and Response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04560" y="37339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Howard Levitin, M.D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Emergency Physician and Consultant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Disaster Planning International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Levitin_picture" descr=""/>
          <p:cNvPicPr/>
          <p:nvPr/>
        </p:nvPicPr>
        <p:blipFill>
          <a:blip r:embed="rId1"/>
          <a:srcRect l="17486" t="9055" r="19565" b="23923"/>
          <a:stretch/>
        </p:blipFill>
        <p:spPr>
          <a:xfrm>
            <a:off x="5562720" y="2895480"/>
            <a:ext cx="311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Yearly Impact of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Influenz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cess hospitalizations 50/100,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0% hospitalized &gt;6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0,000 die annually from the f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irect costs -$1B (1986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direct costs - $2-4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434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sonal effect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vercrowding – ED, UCC, PPP, clin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D divers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longed wait ti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d short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verworked (sick) sta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carcity of ventila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vel of Preparedness i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our Hospitals Survey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ne met minimum level of prepar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ly one center provided bioweapon (BW) trai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ly one facility’s plan addressed mass casual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four hospitals regularly experience staffing probl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st had no excess capacity in the ED or IC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ne had sufficient supplies to manage a mass casualty incid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tacles to Prepared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ck of financial support for BW planning &amp; preparedness (typically volunte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o generally accepted planning scenar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rtage of “true” planning/response experti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mal (or no) excess patient care capa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rrent Health of 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ealthcare System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336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ewer hospit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ewer hospital be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D overcrow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rsonnel short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ource limi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nancial insta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828800"/>
            <a:ext cx="5029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Decreased by 1,075 1979-19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2362320"/>
            <a:ext cx="426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378,000 decrease 1979-199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2971800"/>
            <a:ext cx="44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ED volume up 14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50532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Nurses, Pharmacists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4114800"/>
            <a:ext cx="431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Just in time purchas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724280"/>
            <a:ext cx="4641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- Decline in government support for hospitals; unfunded mandates; increase demand for charity c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o Measure Capacity, Hospitals must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valuate existing &amp; immediately available services for inpatient &amp; outpatient c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ssess its rapid expansion capacity – physical plant, personnel, supplies &amp; equi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der maintenance of standards for medical care, monitoring &amp; track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der contingency plans to ensure patient care – alternative care centers, discontinuance of services &amp; patient transf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cesses to Increase 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rly patient dischar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ancel elective proced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pen unused patient care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tilize “non-traditional” patient care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crease nurse/patient rat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imiting factor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ersonn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nitors/equi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Util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aseline demand for care doesn’t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What will be the impact of the increased capacit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spital Assessmen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38160">
            <a:solidFill>
              <a:srgbClr val="a886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logical Emergenc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lanning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&amp;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dness Questionna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r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althcare Facili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a886e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inical Preparedness Maturity Mod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anagement &amp; Plan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formation Techn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g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ff Ski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rveillance/det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aramond"/>
              </a:rPr>
              <a:t>Public Heal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d agency in a biological attac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der reporting of infectious outbrea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nderutilized resour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y medical provi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adequate daily contac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 communit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mergency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ff shortage –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pecially Epidemiolog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51000" indent="-351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t available 24/7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35956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50 Anthrax Patients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Bed Requirements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239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21:15:09Z</dcterms:created>
  <dc:creator>Howard W. Levitin</dc:creator>
  <dc:description/>
  <dc:language>en-US</dc:language>
  <cp:lastModifiedBy>Steve Seitz</cp:lastModifiedBy>
  <dcterms:modified xsi:type="dcterms:W3CDTF">2002-05-31T20:11:11Z</dcterms:modified>
  <cp:revision>12</cp:revision>
  <dc:subject/>
  <dc:title>Level of Preparedness in  Four Hospitals Survey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48207512</vt:r8>
  </property>
  <property fmtid="{D5CDD505-2E9C-101B-9397-08002B2CF9AE}" pid="3" name="_AuthorEmail">
    <vt:lpwstr>hwlevi@hazmatdqe.com</vt:lpwstr>
  </property>
  <property fmtid="{D5CDD505-2E9C-101B-9397-08002B2CF9AE}" pid="4" name="_AuthorEmailDisplayName">
    <vt:lpwstr>Howard Levitin</vt:lpwstr>
  </property>
  <property fmtid="{D5CDD505-2E9C-101B-9397-08002B2CF9AE}" pid="5" name="_EmailSubject">
    <vt:lpwstr>FW: Draft questions for Event #3</vt:lpwstr>
  </property>
</Properties>
</file>