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80238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ff"/>
            </a:gs>
            <a:gs pos="50000">
              <a:srgbClr val="0c0c75"/>
            </a:gs>
            <a:gs pos="100000">
              <a:srgbClr val="1b1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ff"/>
            </a:gs>
            <a:gs pos="50000">
              <a:srgbClr val="0c0c75"/>
            </a:gs>
            <a:gs pos="100000">
              <a:srgbClr val="1b1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0640" y="95256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0" y="2095560"/>
            <a:ext cx="7986240" cy="19080"/>
            <a:chOff x="0" y="2095560"/>
            <a:chExt cx="7986240" cy="19080"/>
          </a:xfrm>
        </p:grpSpPr>
        <p:sp>
          <p:nvSpPr>
            <p:cNvPr id="40" name=""/>
            <p:cNvSpPr/>
            <p:nvPr/>
          </p:nvSpPr>
          <p:spPr>
            <a:xfrm>
              <a:off x="5400" y="211464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209556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9920" y="6178680"/>
            <a:ext cx="2987640" cy="49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8323200" y="6222960"/>
          <a:ext cx="63036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23200" y="6222960"/>
                    <a:ext cx="6303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ff"/>
            </a:gs>
            <a:gs pos="50000">
              <a:srgbClr val="0c0c75"/>
            </a:gs>
            <a:gs pos="100000">
              <a:srgbClr val="1b1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0960" y="952560"/>
            <a:ext cx="7927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sessing Hospital and Health System Preparedness and Respons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560" y="3022200"/>
            <a:ext cx="614988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haniel Hupert, M.D., M.P.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stant Professor of Public Health and Medic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ision of Outcomes and Effectiveness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ill Medical College of Corn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Hupert_pic" descr=""/>
          <p:cNvPicPr/>
          <p:nvPr/>
        </p:nvPicPr>
        <p:blipFill>
          <a:blip r:embed="rId1"/>
          <a:stretch/>
        </p:blipFill>
        <p:spPr>
          <a:xfrm>
            <a:off x="6337440" y="2928960"/>
            <a:ext cx="20271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1bff"/>
            </a:gs>
            <a:gs pos="50000">
              <a:srgbClr val="0c0c75"/>
            </a:gs>
            <a:gs pos="100000">
              <a:srgbClr val="1b1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spital Capacity: Scenario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9720" y="1371240"/>
            <a:ext cx="7856640" cy="163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NYPHS were responsible for 50,000 potential casualties, outpatient prophylaxis would have to reach &gt;90% of those exposed to prevent anthrax cases from exceeding available bed supp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3124080"/>
          <a:ext cx="7620120" cy="30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124080"/>
                    <a:ext cx="7620120" cy="30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1bff"/>
            </a:gs>
            <a:gs pos="50000">
              <a:srgbClr val="0c0c75"/>
            </a:gs>
            <a:gs pos="100000">
              <a:srgbClr val="1b1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8060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utpatient Distribution Model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398680" y="1351080"/>
            <a:ext cx="4014720" cy="527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age protoco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ug avai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 arrival patter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 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Templa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~70 staff per shi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~7 minutes per pat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~ 1000 pts/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1bff"/>
            </a:gs>
            <a:gs pos="50000">
              <a:srgbClr val="0c0c75"/>
            </a:gs>
            <a:gs pos="100000">
              <a:srgbClr val="1b1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2360" y="87480"/>
            <a:ext cx="8637480" cy="65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1bff"/>
            </a:gs>
            <a:gs pos="50000">
              <a:srgbClr val="0c0c75"/>
            </a:gs>
            <a:gs pos="100000">
              <a:srgbClr val="1b1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44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333440"/>
            <a:ext cx="7842240" cy="480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are the first scalable computer models of civilian medical response to bioterrori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r outpatient prophylaxis model was  implemented during 2001 NYC anthrax att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xt: Improve this model using “live run”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r hospital model pinpointed the limits of system capacity in response to a hypothetical bioterrorist mass casualty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uracy of the model depends on the quality of information (e.g., type of agent, natural history of disease, and treatment requirements)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ff"/>
            </a:gs>
            <a:gs pos="50000">
              <a:srgbClr val="0c0c75"/>
            </a:gs>
            <a:gs pos="100000">
              <a:srgbClr val="1b1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uiding Ques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/should we assess hospital capacity for bioterrorism respon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role of private hospital networks in bioterrorism respon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capacity of existing integrated healthcare delivery systems to provide patient care after a large-scale bioterrorist attac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1bff"/>
            </a:gs>
            <a:gs pos="50000">
              <a:srgbClr val="0c0c75"/>
            </a:gs>
            <a:gs pos="100000">
              <a:srgbClr val="1b1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8640" y="495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arge-Scale Anthrax Attack Scenario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57320" y="1467000"/>
            <a:ext cx="2438640" cy="9144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250,000 Expo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to Anthr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71560" y="2838600"/>
            <a:ext cx="3048120" cy="914400"/>
          </a:xfrm>
          <a:prstGeom prst="flowChartProcess">
            <a:avLst/>
          </a:prstGeom>
          <a:solidFill>
            <a:srgbClr val="c3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7.75 Mill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Non-Exp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81840" y="4019400"/>
            <a:ext cx="1904760" cy="1067040"/>
          </a:xfrm>
          <a:prstGeom prst="flowChartAlternateProcess">
            <a:avLst/>
          </a:prstGeom>
          <a:solidFill>
            <a:srgbClr val="51d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Outpat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Antibio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Dis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753640" y="4038480"/>
            <a:ext cx="1066680" cy="99072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990720"/>
              <a:gd name="textAreaBottom" fmla="*/ 9914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085" stAng="10800000" swAng="5400000"/>
                <a:lnTo>
                  <a:pt x="16500" y="4075"/>
                </a:lnTo>
                <a:lnTo>
                  <a:pt x="16500" y="0"/>
                </a:lnTo>
                <a:lnTo>
                  <a:pt x="21600" y="6079"/>
                </a:lnTo>
                <a:lnTo>
                  <a:pt x="16500" y="12158"/>
                </a:lnTo>
                <a:lnTo>
                  <a:pt x="16500" y="8083"/>
                </a:lnTo>
                <a:lnTo>
                  <a:pt x="12427" y="8083"/>
                </a:lnTo>
                <a:arcTo wR="8419" hR="4077" stAng="16200000" swAng="-5400000"/>
                <a:lnTo>
                  <a:pt x="4008" y="21600"/>
                </a:lnTo>
                <a:close/>
              </a:path>
            </a:pathLst>
          </a:custGeom>
          <a:solidFill>
            <a:srgbClr val="8cf4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67200" y="2400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278240" y="4037760"/>
            <a:ext cx="1828800" cy="76212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762120"/>
              <a:gd name="textAreaBottom" fmla="*/ 762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827" stAng="10800000" swAng="5400000"/>
                <a:lnTo>
                  <a:pt x="16333" y="3333"/>
                </a:lnTo>
                <a:lnTo>
                  <a:pt x="16333" y="0"/>
                </a:lnTo>
                <a:lnTo>
                  <a:pt x="21600" y="6079"/>
                </a:lnTo>
                <a:lnTo>
                  <a:pt x="16333" y="12158"/>
                </a:lnTo>
                <a:lnTo>
                  <a:pt x="16333" y="8825"/>
                </a:lnTo>
                <a:lnTo>
                  <a:pt x="12427" y="8825"/>
                </a:lnTo>
                <a:arcTo wR="6935" hR="3335" stAng="16200000" swAng="-5400000"/>
                <a:lnTo>
                  <a:pt x="5492" y="21600"/>
                </a:lnTo>
                <a:close/>
              </a:path>
            </a:pathLst>
          </a:custGeom>
          <a:solidFill>
            <a:srgbClr val="8cf4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9240" y="4419720"/>
            <a:ext cx="1828800" cy="60948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No 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4880" y="5410080"/>
            <a:ext cx="888840" cy="628920"/>
          </a:xfrm>
          <a:prstGeom prst="flowChartTerminator">
            <a:avLst/>
          </a:prstGeom>
          <a:solidFill>
            <a:srgbClr val="00279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03520" y="5429160"/>
            <a:ext cx="1447560" cy="609840"/>
          </a:xfrm>
          <a:prstGeom prst="flowChartTerminator">
            <a:avLst/>
          </a:prstGeom>
          <a:solidFill>
            <a:srgbClr val="dfd8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ill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01880" y="5105520"/>
            <a:ext cx="30456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cf4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20840" y="51055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cf4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35000" y="1333440"/>
            <a:ext cx="7315200" cy="259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2038320"/>
            <a:ext cx="1195560" cy="557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51360" y="2232000"/>
            <a:ext cx="249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RGET FOR PROPHYLAX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55245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8221800">
            <a:off x="5826960" y="5295600"/>
            <a:ext cx="762120" cy="399960"/>
          </a:xfrm>
          <a:custGeom>
            <a:avLst/>
            <a:gdLst>
              <a:gd name="textAreaLeft" fmla="*/ 95040 w 762120"/>
              <a:gd name="textAreaRight" fmla="*/ 667080 w 76212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rot="13378200">
            <a:off x="7384320" y="5314680"/>
            <a:ext cx="762120" cy="399960"/>
          </a:xfrm>
          <a:custGeom>
            <a:avLst/>
            <a:gdLst>
              <a:gd name="textAreaLeft" fmla="*/ 95040 w 762120"/>
              <a:gd name="textAreaRight" fmla="*/ 667080 w 762120"/>
              <a:gd name="textAreaTop" fmla="*/ 100080 h 399960"/>
              <a:gd name="textAreaBottom" fmla="*/ 300240 h 39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89600" y="5848200"/>
            <a:ext cx="1447560" cy="60984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s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77120" y="5867280"/>
            <a:ext cx="1447920" cy="609840"/>
          </a:xfrm>
          <a:prstGeom prst="flowChartTerminator">
            <a:avLst/>
          </a:prstGeom>
          <a:solidFill>
            <a:srgbClr val="dfd8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720" y="6000840"/>
            <a:ext cx="1447920" cy="60948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s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ff"/>
            </a:gs>
            <a:gs pos="50000">
              <a:srgbClr val="0c0c75"/>
            </a:gs>
            <a:gs pos="100000">
              <a:srgbClr val="1b1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rot="1910400">
            <a:off x="3312720" y="2635200"/>
            <a:ext cx="1500120" cy="574560"/>
          </a:xfrm>
          <a:prstGeom prst="rightArrow">
            <a:avLst>
              <a:gd name="adj1" fmla="val 50000"/>
              <a:gd name="adj2" fmla="val 65273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 rot="19570200">
            <a:off x="3549240" y="3812400"/>
            <a:ext cx="1297080" cy="525600"/>
          </a:xfrm>
          <a:prstGeom prst="rightArrow">
            <a:avLst>
              <a:gd name="adj1" fmla="val 50000"/>
              <a:gd name="adj2" fmla="val 61695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440" y="1428840"/>
            <a:ext cx="3894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ED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SUALTIES REQUIRING HOSPITA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6440" y="4343400"/>
            <a:ext cx="389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ED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TOT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 BEDS AND MEDICAL SUPP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2305080"/>
            <a:ext cx="399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STATIC ESTIMATE: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ACITY FOR BIOTERRORISM RESPON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80560" y="628200"/>
            <a:ext cx="77216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tic vs. Dynamic Hospital Capa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ff"/>
            </a:gs>
            <a:gs pos="50000">
              <a:srgbClr val="0c0c75"/>
            </a:gs>
            <a:gs pos="100000">
              <a:srgbClr val="1b1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783" t="22149" r="35568" b="44071"/>
          <a:stretch/>
        </p:blipFill>
        <p:spPr>
          <a:xfrm>
            <a:off x="525600" y="1619280"/>
            <a:ext cx="7991280" cy="3429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00200" y="10447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5040" y="657360"/>
            <a:ext cx="7542360" cy="66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 with Static Estimat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3749760" y="4695840"/>
            <a:ext cx="1085760" cy="457200"/>
          </a:xfrm>
          <a:custGeom>
            <a:avLst/>
            <a:gdLst>
              <a:gd name="textAreaLeft" fmla="*/ 169560 w 1085760"/>
              <a:gd name="textAreaRight" fmla="*/ 950040 w 1085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7190640" y="4791960"/>
            <a:ext cx="1316160" cy="457200"/>
          </a:xfrm>
          <a:custGeom>
            <a:avLst/>
            <a:gdLst>
              <a:gd name="textAreaLeft" fmla="*/ 205560 w 1316160"/>
              <a:gd name="textAreaRight" fmla="*/ 1151640 w 13161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7120" y="5410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you measure casualties here?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her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ff"/>
            </a:gs>
            <a:gs pos="50000">
              <a:srgbClr val="0c0c75"/>
            </a:gs>
            <a:gs pos="100000">
              <a:srgbClr val="1b1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60640" y="4838760"/>
            <a:ext cx="2057400" cy="1447920"/>
          </a:xfrm>
          <a:prstGeom prst="flowChartMultidocumen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SPI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70480" y="3848040"/>
            <a:ext cx="609480" cy="1143000"/>
          </a:xfrm>
          <a:prstGeom prst="downArrow">
            <a:avLst>
              <a:gd name="adj1" fmla="val 50000"/>
              <a:gd name="adj2" fmla="val 46884"/>
            </a:avLst>
          </a:prstGeom>
          <a:solidFill>
            <a:srgbClr val="8cf4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927680" y="595080"/>
            <a:ext cx="3492360" cy="1423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27680" y="2019240"/>
            <a:ext cx="3489120" cy="1285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03440" y="2552760"/>
            <a:ext cx="2819520" cy="129528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ISEASE ON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32040" y="495360"/>
            <a:ext cx="2286000" cy="990720"/>
          </a:xfrm>
          <a:prstGeom prst="flowChartProcess">
            <a:avLst/>
          </a:prstGeom>
          <a:solidFill>
            <a:srgbClr val="fb132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XPO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0480" y="1486080"/>
            <a:ext cx="609480" cy="1066680"/>
          </a:xfrm>
          <a:prstGeom prst="downArrow">
            <a:avLst>
              <a:gd name="adj1" fmla="val 50000"/>
              <a:gd name="adj2" fmla="val 43754"/>
            </a:avLst>
          </a:prstGeom>
          <a:solidFill>
            <a:srgbClr val="8cf4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02320" y="1333440"/>
            <a:ext cx="264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ily Case Onset R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1125000" y="3257640"/>
            <a:ext cx="3480120" cy="100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160280" y="4343400"/>
            <a:ext cx="3444840" cy="1581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087560" y="3867120"/>
            <a:ext cx="231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ily Bed Capac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7880" y="266760"/>
            <a:ext cx="2886120" cy="23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Alternative: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ynamic Capacity Esti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1bff"/>
            </a:gs>
            <a:gs pos="50000">
              <a:srgbClr val="0c0c75"/>
            </a:gs>
            <a:gs pos="100000">
              <a:srgbClr val="1b1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spital Treatment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55120" y="108216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ab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 load: New York Presbyterian Healthcare System (NYPHS) has 20% NY Metro market 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ffed bed avai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 of post-exposure prophylax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ing of disease ons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ease treatment/hospital length of stay (LOS) and 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tion 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YPHS “Surge Capacity” surv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C estimates of anthrax case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spital treatment/LOS/mortality from 2001 attack (e.g. &gt;24 hours sick without treatment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ea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ff"/>
            </a:gs>
            <a:gs pos="50000">
              <a:srgbClr val="0c0c75"/>
            </a:gs>
            <a:gs pos="100000">
              <a:srgbClr val="1b1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909720" y="1682640"/>
          <a:ext cx="7442280" cy="44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682640"/>
                    <a:ext cx="7442280" cy="44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17560" y="6224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w York Presbyterian Healthcare System Bed Surge Capacity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3200400"/>
            <a:ext cx="0" cy="45720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1bff"/>
            </a:gs>
            <a:gs pos="50000">
              <a:srgbClr val="0c0c75"/>
            </a:gs>
            <a:gs pos="100000">
              <a:srgbClr val="1b1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spital Treatment Model (Arena©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11906" t="32880" r="8898" b="14915"/>
          <a:stretch/>
        </p:blipFill>
        <p:spPr>
          <a:xfrm>
            <a:off x="152280" y="1371600"/>
            <a:ext cx="876312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AHCPR IRMB</dc:creator>
  <dc:description/>
  <dc:language>en-US</dc:language>
  <cp:lastModifiedBy>Steve Seitz</cp:lastModifiedBy>
  <cp:lastPrinted>2002-04-16T17:55:52Z</cp:lastPrinted>
  <dcterms:modified xsi:type="dcterms:W3CDTF">2002-05-31T20:10:22Z</dcterms:modified>
  <cp:revision>210</cp:revision>
  <dc:subject/>
  <dc:title>Master Slide</dc:title>
</cp:coreProperties>
</file>