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68E-7A39-409E-BF03-474B899B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D6B-43FA-4F3D-84F3-0AB05916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4C8-1630-42AA-B2EB-1D5B4E83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C5C-0114-4749-966A-6705B31A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DF6-DC2D-419B-B0C0-602537F9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0E24-F6D9-422B-9EB3-14F930E3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C3B2-057A-4EF9-A81C-E8E674E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2B2-36ED-467D-B099-851F4DA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272D-ABAF-47AD-931B-091F4634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20D7-E367-4DF0-92B1-B072D4D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B3EF-A01C-4297-A1C5-B57EE17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6A7-2BAC-4A87-990E-9F1AEE4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4681-ED11-4246-8813-56B12959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4E21-0812-4236-BF34-E7ED053B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AB15-7D10-4B5F-A87A-360B853D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A528-F582-4FAA-B923-39C22E09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9F12-51E7-44DF-B034-76CFE387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D56-E8E6-465C-9039-BC2F2C14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33E-F7D2-43CD-A714-FB75E367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9A7-81AD-4928-B29A-DD81FF03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6B4-3BA4-4DBE-85DA-608E197F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8668-6110-4C17-9338-E59821A6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19D-FA5D-42E1-A05D-1D98D24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B36-F1D2-49A8-BF6B-DE079695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36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36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e36b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e36b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e36b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36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6BF2-6B65-4948-9CBB-73045AD970DC}" type="slidenum">
              <a:rPr b="0" lang="en-US" sz="1400" spc="-1" strike="noStrike">
                <a:solidFill>
                  <a:srgbClr val="ffe36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36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2417-F2F1-4DF5-BE48-381C364EFE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36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Assessing Hospital and Health</a:t>
            </a:r>
            <a:br>
              <a:rPr sz="3600"/>
            </a:b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System Preparedness and </a:t>
            </a:r>
            <a:br>
              <a:rPr sz="3600"/>
            </a:b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Response </a:t>
            </a:r>
            <a:br>
              <a:rPr sz="3600"/>
            </a:b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6572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c99"/>
                </a:solidFill>
                <a:latin typeface="Tahoma"/>
              </a:rPr>
              <a:t>Robert G. Harmon, MD, MPH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c99"/>
                </a:solidFill>
                <a:latin typeface="Tahoma"/>
              </a:rPr>
              <a:t>Vice-President and National Medical Director for Optum/United Health Group </a:t>
            </a:r>
            <a:endParaRPr b="0" lang="en-US" sz="16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e36b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ec99"/>
                </a:solidFill>
                <a:latin typeface="Tahoma"/>
              </a:rPr>
              <a:t>Chair of the  American Association of Health Plans (AAHP) Subcommittee on Prevention &amp; Public Health</a:t>
            </a:r>
            <a:endParaRPr b="0" lang="en-US" sz="1600" spc="-1" strike="noStrike">
              <a:solidFill>
                <a:srgbClr val="ffe36b"/>
              </a:solidFill>
              <a:latin typeface="Tahoma"/>
            </a:endParaRPr>
          </a:p>
        </p:txBody>
      </p:sp>
      <p:pic>
        <p:nvPicPr>
          <p:cNvPr id="101" name="bd14997_" descr=""/>
          <p:cNvPicPr/>
          <p:nvPr/>
        </p:nvPicPr>
        <p:blipFill>
          <a:blip r:embed="rId1"/>
          <a:stretch/>
        </p:blipFill>
        <p:spPr>
          <a:xfrm flipH="1" rot="10800000">
            <a:off x="1143000" y="3276000"/>
            <a:ext cx="6858000" cy="7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0880" y="5867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RGH%20photo%208-00" descr=""/>
          <p:cNvPicPr/>
          <p:nvPr/>
        </p:nvPicPr>
        <p:blipFill>
          <a:blip r:embed="rId2"/>
          <a:stretch/>
        </p:blipFill>
        <p:spPr>
          <a:xfrm>
            <a:off x="6400800" y="350532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Aahp%20Color%20Logo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1981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17040"/>
            <a:ext cx="780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The Role of Health Plans in Addressing Bioterrorism</a:t>
            </a: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Early Detection &amp; Surveillance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Response to Event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Outreach to Community Stakeholder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36b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Early Detection &amp; Surveillance</a:t>
            </a: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Unique capacity to identify sentinel events &amp; illness cluster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Automated outpatient systems and nurse call lin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for early identification of symptom pattern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Real-time ambulatory &amp; patient diagnosis/chief-complaint data identifying unusual illness clust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Electronic dissemination to public health authoriti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170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36b"/>
                </a:solidFill>
                <a:latin typeface="Tahoma"/>
              </a:rPr>
              <a:t>Response to Events</a:t>
            </a:r>
            <a:br>
              <a:rPr sz="3600"/>
            </a:br>
            <a:endParaRPr b="0" lang="en-US" sz="36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21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Unique capacity for accurate &amp; timely information to providers and consumer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Two-way communication via nurse call lines, behavioral  health call centers and case manag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E-mail, faxes, newsletters and mailings to employer groups, providers and consum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Alerts to providers for CME training opportuniti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61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e36b"/>
                </a:solidFill>
                <a:latin typeface="Tahoma"/>
              </a:rPr>
              <a:t>Outreach to Community Stakeholders</a:t>
            </a:r>
            <a:endParaRPr b="0" lang="en-US" sz="35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21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llaboration with local public health, police, fire and EMS official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2" marL="11430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Direct communication with Governors and State emergency planning offic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Development of emergency preparedness planning templates and checklists with scenario training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6b"/>
                </a:solidFill>
                <a:latin typeface="Tahoma"/>
              </a:rPr>
              <a:t>Efforts to Develop Health Plan </a:t>
            </a:r>
            <a:r>
              <a:rPr b="0" lang="en-US" sz="4400" spc="-1" strike="noStrike">
                <a:solidFill>
                  <a:srgbClr val="ffe36b"/>
                </a:solidFill>
                <a:latin typeface="Tahoma"/>
              </a:rPr>
              <a:t>Bioterrorism</a:t>
            </a:r>
            <a:r>
              <a:rPr b="0" lang="en-US" sz="4000" spc="-1" strike="noStrike">
                <a:solidFill>
                  <a:srgbClr val="ffe36b"/>
                </a:solidFill>
                <a:latin typeface="Tahoma"/>
              </a:rPr>
              <a:t> Readiness</a:t>
            </a:r>
            <a:endParaRPr b="0" lang="en-US" sz="40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Individual plans engaged with local public health officials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Understanding public health resources and need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mmunicating health plan resources and capacitie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36b"/>
                </a:solidFill>
                <a:latin typeface="Tahoma"/>
              </a:rPr>
              <a:t>National Engagement</a:t>
            </a:r>
            <a:endParaRPr b="0" lang="en-US" sz="32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AAHP Board of Directors task force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ordination with Federal government agencies 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Developed a health plan readiness checklist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Flow of information to health plans and physician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36b"/>
                </a:solidFill>
                <a:latin typeface="Tahoma"/>
              </a:rPr>
              <a:t>Lessons Learned From 9/11 and the October Anthrax Exposures</a:t>
            </a:r>
            <a:br>
              <a:rPr sz="4000"/>
            </a:br>
            <a:endParaRPr b="0" lang="en-US" sz="4000" spc="-1" strike="noStrike">
              <a:solidFill>
                <a:srgbClr val="ffe36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361960"/>
            <a:ext cx="83455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Back-up operations to support health plan member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Employee assistance programs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Behavioral support-critical incident stress management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Health plan physicians, nurses, social workers, mental health specialists mobilized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  <a:p>
            <a:pPr lvl="1" marL="698400" indent="-268560">
              <a:lnSpc>
                <a:spcPct val="150000"/>
              </a:lnSpc>
              <a:spcBef>
                <a:spcPts val="601"/>
              </a:spcBef>
              <a:buClr>
                <a:srgbClr val="66ff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36b"/>
                </a:solidFill>
                <a:latin typeface="Tahoma"/>
              </a:rPr>
              <a:t>Communications and IT support</a:t>
            </a:r>
            <a:endParaRPr b="0" lang="en-US" sz="2400" spc="-1" strike="noStrike">
              <a:solidFill>
                <a:srgbClr val="ffe36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13:26Z</dcterms:created>
  <dc:creator>Win98se</dc:creator>
  <dc:description/>
  <dc:language>en-US</dc:language>
  <cp:lastModifiedBy>Steve Seitz</cp:lastModifiedBy>
  <cp:lastPrinted>2002-04-26T16:38:02Z</cp:lastPrinted>
  <dcterms:modified xsi:type="dcterms:W3CDTF">2002-05-31T20:09:15Z</dcterms:modified>
  <cp:revision>127</cp:revision>
  <dc:subject/>
  <dc:title>AAHP Industry Survey Preliminary Data - Commercial</dc:title>
</cp:coreProperties>
</file>