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251-FD41-4CFE-8540-BC88EFD5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697-2025-416D-8D44-DE1305EA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A92-ADA4-4A8D-AE93-5F70C004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7EB-2E29-49C6-81B9-FACEBFEB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09A3-2292-417E-B743-FD8612B9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36EA-7C7D-43C0-9B7E-0C135342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D630-394E-47DB-B42F-4C27F0E4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25C-3F64-49E4-B9E2-7D51621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356E-91CE-427F-84A5-5A3A1A6F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0D2F-ED3B-46F4-879B-43CB95E8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8984-2B0A-40A7-B9BA-D79CB1E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0CD-9050-4F27-B095-1D052DBB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F1D5-6487-49BA-A52E-0B131C1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378E-739E-4370-A7E9-7A0E5D59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BC3E-108E-43AF-8494-51ACB0CC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341E-B22A-49CE-BC90-652FD7AE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4EFE-A422-4B23-B8B5-54A0E227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A86-50D6-4AD1-BA5B-6443F109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E2D-1621-431C-9564-FAFE2356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01F-F82D-430A-9155-3F85A698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1B4-C8F5-4D64-8B5E-D5DFCA28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BAA-F3AD-4476-9DFA-2E4645A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6B1-2B9B-452F-939C-4851FC04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B82-E3B3-4BA8-82A7-E7A807D7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36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36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e36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e36b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e36b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36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ECA-0412-40F1-84B1-F3B4D8ED1F25}" type="slidenum">
              <a:rPr b="0" lang="en-US" sz="1400" spc="-1" strike="noStrike">
                <a:solidFill>
                  <a:srgbClr val="ffe36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36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AD8A-6FEA-4FEE-8A99-E036EF2E39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36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Assessing Hospital and Health</a:t>
            </a:r>
            <a:br>
              <a:rPr sz="3600"/>
            </a:b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System Preparedness and </a:t>
            </a:r>
            <a:br>
              <a:rPr sz="3600"/>
            </a:b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Response </a:t>
            </a:r>
            <a:br>
              <a:rPr sz="3600"/>
            </a:b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c99"/>
                </a:solidFill>
                <a:latin typeface="Tahoma"/>
              </a:rPr>
              <a:t>Robert G. Harmon, MD, MPH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c99"/>
                </a:solidFill>
                <a:latin typeface="Tahoma"/>
              </a:rPr>
              <a:t>Vice-President and National Medical Director for Optum/United Health Group </a:t>
            </a:r>
            <a:endParaRPr b="0" lang="en-US" sz="16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c99"/>
                </a:solidFill>
                <a:latin typeface="Tahoma"/>
              </a:rPr>
              <a:t>Chair of the  American Association of Health Plans (AAHP) Subcommittee on Prevention &amp; Public Health</a:t>
            </a:r>
            <a:endParaRPr b="0" lang="en-US" sz="1600" spc="-1" strike="noStrike">
              <a:solidFill>
                <a:srgbClr val="ffe36b"/>
              </a:solidFill>
              <a:latin typeface="Tahoma"/>
            </a:endParaRPr>
          </a:p>
        </p:txBody>
      </p:sp>
      <p:pic>
        <p:nvPicPr>
          <p:cNvPr id="101" name="bd14997_" descr=""/>
          <p:cNvPicPr/>
          <p:nvPr/>
        </p:nvPicPr>
        <p:blipFill>
          <a:blip r:embed="rId1"/>
          <a:stretch/>
        </p:blipFill>
        <p:spPr>
          <a:xfrm flipH="1" rot="10800000">
            <a:off x="1143000" y="3276000"/>
            <a:ext cx="6858000" cy="7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5867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GH%20photo%208-00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Aahp%20Color%20Logo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1981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The Role of Health Plans in Addressing Bioterrorism</a:t>
            </a: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Early Detection &amp; Surveillance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Response to Event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Outreach to Community Stakeholder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Early Detection &amp; Surveillance</a:t>
            </a: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Unique capacity to identify sentinel events &amp; illness cluster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Automated outpatient systems and nurse call lin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for early identification of symptom pattern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Real-time ambulatory &amp; patient diagnosis/chief-complaint data identifying unusual illness clust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Electronic dissemination to public health authoriti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Response to Events</a:t>
            </a:r>
            <a:br>
              <a:rPr sz="3600"/>
            </a:b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21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Unique capacity for accurate &amp; timely information to providers and consumer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Two-way communication via nurse call lines, behavioral  health call centers and case manag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E-mail, faxes, newsletters and mailings to employer groups, providers and consum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Alerts to providers for CME training opportuniti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61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e36b"/>
                </a:solidFill>
                <a:latin typeface="Tahoma"/>
              </a:rPr>
              <a:t>Outreach to Community Stakeholders</a:t>
            </a:r>
            <a:endParaRPr b="0" lang="en-US" sz="35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21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llaboration with local public health, police, fire and EMS official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2" marL="1143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Direct communication with Governors and State emergency planning offic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Development of emergency preparedness planning templates and checklists with scenario training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6b"/>
                </a:solidFill>
                <a:latin typeface="Tahoma"/>
              </a:rPr>
              <a:t>Efforts to Develop Health Plan </a:t>
            </a:r>
            <a:r>
              <a:rPr b="0" lang="en-US" sz="4400" spc="-1" strike="noStrike">
                <a:solidFill>
                  <a:srgbClr val="ffe36b"/>
                </a:solidFill>
                <a:latin typeface="Tahoma"/>
              </a:rPr>
              <a:t>Bioterrorism</a:t>
            </a:r>
            <a:r>
              <a:rPr b="0" lang="en-US" sz="4000" spc="-1" strike="noStrike">
                <a:solidFill>
                  <a:srgbClr val="ffe36b"/>
                </a:solidFill>
                <a:latin typeface="Tahoma"/>
              </a:rPr>
              <a:t> Readiness</a:t>
            </a:r>
            <a:endParaRPr b="0" lang="en-US" sz="40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Individual plans engaged with local public health official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Understanding public health resources and need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mmunicating health plan resources and capaciti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National Engagement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AAHP Board of Directors task force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ordination with Federal government agencies 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Developed a health plan readiness checklist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Flow of information to health plans and physician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6b"/>
                </a:solidFill>
                <a:latin typeface="Tahoma"/>
              </a:rPr>
              <a:t>Lessons Learned From 9/11 and the October Anthrax Exposures</a:t>
            </a:r>
            <a:br>
              <a:rPr sz="4000"/>
            </a:br>
            <a:endParaRPr b="0" lang="en-US" sz="40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34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Back-up operations to support health plan memb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Employee assistance program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Behavioral support-critical incident stress management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Health plan physicians, nurses, social workers, mental health specialists mobilized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mmunications and IT support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13:26Z</dcterms:created>
  <dc:creator>Win98se</dc:creator>
  <dc:description/>
  <dc:language>en-US</dc:language>
  <cp:lastModifiedBy>Steve Seitz</cp:lastModifiedBy>
  <cp:lastPrinted>2002-04-26T16:38:02Z</cp:lastPrinted>
  <dcterms:modified xsi:type="dcterms:W3CDTF">2002-05-31T20:09:15Z</dcterms:modified>
  <cp:revision>127</cp:revision>
  <dc:subject/>
  <dc:title>AAHP Industry Survey Preliminary Data - Commercial</dc:title>
</cp:coreProperties>
</file>