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576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6320" y="167652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84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576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6320" y="3826080"/>
            <a:ext cx="2638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06080" y="285480"/>
            <a:ext cx="772164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3520" y="382608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3520" y="1676520"/>
            <a:ext cx="3998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74840" y="3826080"/>
            <a:ext cx="819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59560" y="5819760"/>
            <a:ext cx="1481040" cy="782280"/>
            <a:chOff x="7459560" y="5819760"/>
            <a:chExt cx="1481040" cy="782280"/>
          </a:xfrm>
        </p:grpSpPr>
        <p:sp>
          <p:nvSpPr>
            <p:cNvPr id="1" name=""/>
            <p:cNvSpPr/>
            <p:nvPr/>
          </p:nvSpPr>
          <p:spPr>
            <a:xfrm>
              <a:off x="7601400" y="5819760"/>
              <a:ext cx="1174320" cy="5774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882200" y="6219360"/>
              <a:ext cx="349920" cy="34956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504920" y="6122880"/>
              <a:ext cx="40752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12200" y="6243480"/>
              <a:ext cx="14616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577280" y="6299280"/>
              <a:ext cx="151200" cy="435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59560" y="6505920"/>
              <a:ext cx="162000" cy="676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224200" y="6219360"/>
              <a:ext cx="327240" cy="352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97960" y="6421320"/>
              <a:ext cx="242640" cy="18072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38120" y="6194880"/>
              <a:ext cx="372960" cy="39636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450200" y="6110280"/>
            <a:ext cx="1482840" cy="479520"/>
            <a:chOff x="7450200" y="6110280"/>
            <a:chExt cx="1482840" cy="479520"/>
          </a:xfrm>
        </p:grpSpPr>
        <p:sp>
          <p:nvSpPr>
            <p:cNvPr id="11" name=""/>
            <p:cNvSpPr/>
            <p:nvPr/>
          </p:nvSpPr>
          <p:spPr>
            <a:xfrm>
              <a:off x="7873560" y="6207120"/>
              <a:ext cx="35028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495200" y="6110280"/>
              <a:ext cx="40824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02840" y="6230880"/>
              <a:ext cx="14652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568640" y="6286680"/>
              <a:ext cx="15084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50200" y="6492960"/>
              <a:ext cx="16200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215200" y="6207120"/>
              <a:ext cx="32724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6408720"/>
              <a:ext cx="24300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530560" y="6183360"/>
              <a:ext cx="37260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7593120" y="5807160"/>
            <a:ext cx="117468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2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880" y="1905120"/>
            <a:ext cx="7788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97280" y="198360"/>
            <a:ext cx="3164760" cy="1671120"/>
            <a:chOff x="2897280" y="198360"/>
            <a:chExt cx="3164760" cy="1671120"/>
          </a:xfrm>
        </p:grpSpPr>
        <p:sp>
          <p:nvSpPr>
            <p:cNvPr id="63" name=""/>
            <p:cNvSpPr/>
            <p:nvPr/>
          </p:nvSpPr>
          <p:spPr>
            <a:xfrm>
              <a:off x="3200760" y="198360"/>
              <a:ext cx="2508840" cy="123300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00160" y="1051920"/>
              <a:ext cx="748080" cy="7470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94480" y="846000"/>
              <a:ext cx="871200" cy="95292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23440" y="1103760"/>
              <a:ext cx="312480" cy="6696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9280" y="1222560"/>
              <a:ext cx="323640" cy="932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7280" y="1663560"/>
              <a:ext cx="346320" cy="1443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30960" y="1051920"/>
              <a:ext cx="699480" cy="75348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43280" y="1483200"/>
              <a:ext cx="51876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02000" y="1000080"/>
              <a:ext cx="797040" cy="8467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182760" y="171360"/>
            <a:ext cx="2508480" cy="123372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878200" y="819000"/>
            <a:ext cx="3164760" cy="1023120"/>
            <a:chOff x="2878200" y="819000"/>
            <a:chExt cx="3164760" cy="1023120"/>
          </a:xfrm>
        </p:grpSpPr>
        <p:sp>
          <p:nvSpPr>
            <p:cNvPr id="74" name=""/>
            <p:cNvSpPr/>
            <p:nvPr/>
          </p:nvSpPr>
          <p:spPr>
            <a:xfrm>
              <a:off x="3782160" y="1025640"/>
              <a:ext cx="747360" cy="745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74320" y="819000"/>
              <a:ext cx="871200" cy="95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4000" y="1076400"/>
              <a:ext cx="312840" cy="67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31640" y="1195560"/>
              <a:ext cx="322560" cy="9432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78200" y="1635840"/>
              <a:ext cx="346320" cy="1450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11520" y="1025640"/>
              <a:ext cx="699120" cy="7524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24560" y="1455840"/>
              <a:ext cx="51840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4000" y="974880"/>
              <a:ext cx="795240" cy="84384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2876400"/>
            <a:ext cx="7986240" cy="19080"/>
            <a:chOff x="0" y="2876400"/>
            <a:chExt cx="7986240" cy="19080"/>
          </a:xfrm>
        </p:grpSpPr>
        <p:sp>
          <p:nvSpPr>
            <p:cNvPr id="83" name=""/>
            <p:cNvSpPr/>
            <p:nvPr/>
          </p:nvSpPr>
          <p:spPr>
            <a:xfrm>
              <a:off x="5400" y="289548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287640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8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essing Hospital and Health System Preparedness and Respon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04560" y="3809520"/>
            <a:ext cx="563868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en Burstin, M.D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er for Primary Care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ency for Healthcare Research a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Burstin_photo" descr=""/>
          <p:cNvPicPr/>
          <p:nvPr/>
        </p:nvPicPr>
        <p:blipFill>
          <a:blip r:embed="rId1"/>
          <a:stretch/>
        </p:blipFill>
        <p:spPr>
          <a:xfrm>
            <a:off x="5791320" y="2971800"/>
            <a:ext cx="2590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State of Health Care System Preparedn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 2001: Anthrax event has prompted many systems to analyze real time responses and revise systems and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 from field exercises and si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currently preparing regional plans to respond to HHS/HRSA fu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services and health systems research to date: what do we know and need to k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Care System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t-Risk Clinical Area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 for IT decision support systems for diagnosis and diseas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care/long term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ng term impact of mass casualties on facilities, equipment and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ergency Depart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to adequately surge capacity for mass casu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and Intensive care of critically il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ilability of ICU equipment and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ealth Services and Health System Research Need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840" y="1447560"/>
            <a:ext cx="81943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inforce effective linkages between the health care system and the public health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issues of surge capacity, including outcomes and cost to hospitals and health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ine the impact of workforce and market forces on capacity and the effect of regional model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duct and disseminate needs assessment data related to system capacity for a bioterrorist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odels (e.g., regional plans, prophylaxis and immunization systems), that work and can be exported to State and local are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83566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Health Systems Research to Address Key Issu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9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rge Capac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ies (ED, ICU, long term care, home ca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ipment (vaccines, monitors, ventila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nel (nursing staff, EMS, cross-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9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force Issu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methods to train healthcare workfo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loyment of adequately trained providers (e.g., mass prophylaxis and immuniz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499"/>
              </a:spcBef>
              <a:buClr>
                <a:srgbClr val="ffff00"/>
              </a:buClr>
              <a:buSzPct val="8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oss-training of the work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499"/>
              </a:spcBef>
              <a:buClr>
                <a:srgbClr val="ffff00"/>
              </a:buClr>
              <a:buSzPct val="8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IT effectively to enhance provider read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285480"/>
            <a:ext cx="7721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ionalization of Healthcare Servic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4840" y="1676520"/>
            <a:ext cx="819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Trauma Centers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 Transplant regiona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diac Car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artment of Veteran Affairs and Department of Defens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mor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79754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llenges Facing Rural Provid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4840" y="1828440"/>
            <a:ext cx="8194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ance and access to 24/7 public health infrastructure support, including epidemiologists and  lab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community of providers for consultation and collaboration for response to a mass casualty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electronic connectivity and decision support tools for diagnosis and disease management of rare dis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85480"/>
            <a:ext cx="8508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wnstream Benefits of Community Readiness for Bioterroris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144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overdue redesign of systems, including ED and hospital systems of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IT and decision support for front-line clinical provid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electronic connectivity and communication between health care and public health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contacts and trust between providers/ public-private partnerships/ networks within local communities for improved pati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4T17:15:37Z</dcterms:created>
  <dc:creator>Carolyn Clancy</dc:creator>
  <dc:description/>
  <dc:language>en-US</dc:language>
  <cp:lastModifiedBy>Steve Seitz</cp:lastModifiedBy>
  <cp:lastPrinted>2002-04-22T13:42:17Z</cp:lastPrinted>
  <dcterms:modified xsi:type="dcterms:W3CDTF">2002-05-31T20:07:23Z</dcterms:modified>
  <cp:revision>12</cp:revision>
  <dc:subject/>
  <dc:title>No Slide Title</dc:title>
</cp:coreProperties>
</file>