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DA9D-90FA-42B4-9C50-2709DF490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C7A-C7B3-4E60-85CC-5D387061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C05-623E-4EDA-B746-7490C9E6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A13D-3A42-490F-BB2B-7424D3DF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365-977D-4F7D-A906-A8F3AC43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DDB-582C-454A-A2A8-8079089C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0E9-3AC9-4AFB-9401-DEDC9DF3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5AA-7559-421A-AF64-D795C85F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756B-8036-443F-BCE1-90C35F5B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58DF-2894-4E55-8DFA-F3522D8B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A1D-0202-423B-835E-55E8B52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2CD-60DC-4D9D-B698-A0EBF31D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711-7F21-44DB-AD82-A83D538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00763b"/>
              </a:gs>
              <a:gs pos="100000">
                <a:srgbClr val="33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AE4D-8BFC-4B41-B100-659568AADB8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259092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re Disea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Seen or Diagnosed by Today’s Clinici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traditional Routes of Infe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merging Patterns of Resis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04640" indent="-404640">
              <a:buClr>
                <a:srgbClr val="ffffcc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reased Viru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752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Bookman Old Style"/>
              </a:rPr>
              <a:t>Bioterrorism: Challenges of Training</a:t>
            </a:r>
            <a:endParaRPr b="0" lang="en-US" sz="48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Agents of Concern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35" name=""/>
          <p:cNvSpPr/>
          <p:nvPr/>
        </p:nvSpPr>
        <p:spPr>
          <a:xfrm>
            <a:off x="554760" y="2463840"/>
            <a:ext cx="20462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tegory 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mallpo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Anthra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Plagu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ularem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HF’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Boto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3352680"/>
            <a:ext cx="25146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tegory B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Q fev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Brucello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Glander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VE, WEE and EE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Ricin tox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Epsilon toxi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Staph enterotoxin B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4343400"/>
            <a:ext cx="2514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ategory C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Nipah vir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antavir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ick-borne HF’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Tick-borne Encephalit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Yellow fev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MDR TB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1905120"/>
            <a:ext cx="7162920" cy="2286000"/>
          </a:xfrm>
          <a:prstGeom prst="line">
            <a:avLst/>
          </a:prstGeom>
          <a:ln w="2844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760" y="2400480"/>
            <a:ext cx="2514600" cy="251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3429000"/>
            <a:ext cx="2514600" cy="2514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343400"/>
            <a:ext cx="2590920" cy="22860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762120"/>
            <a:ext cx="4952880" cy="5753880"/>
          </a:xfrm>
          <a:prstGeom prst="rect">
            <a:avLst/>
          </a:prstGeom>
          <a:solidFill>
            <a:srgbClr val="0076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ink between anthrax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ijackers prob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Times New Roman"/>
              </a:rPr>
              <a:t>October 9, 2001 Posted: 4:41 PM EDT (2041 GMT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WEST PALM BEACH, Florida (CNN) -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Federal officials said Tuesday their investigation into a deadly anthrax infection in Florida included a clos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look at forensic evidence gathered in the weeks since the September 11 terrorist attacks, especially items traced to the suspected hijackers, such as luggage,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documents and car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he bacteria is blamed for the death of photo editor at the supermarket tabloid The Sun. A mailroom employee also tested positive for exposure to anthrax, but is not exhibiting symptoms of the disease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Elsewhere in Florida, officials Tuesday were checking reports of a "white powdery residue" in the mail of two locations in Naples, on the west coast. Reports of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ossible anthrax virus in Weston and Deerfield Beach, on the east coast, proved unfounded.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vert.anthrax.testing.ap" descr=""/>
          <p:cNvPicPr/>
          <p:nvPr/>
        </p:nvPicPr>
        <p:blipFill>
          <a:blip r:embed="rId1"/>
          <a:stretch/>
        </p:blipFill>
        <p:spPr>
          <a:xfrm>
            <a:off x="5181480" y="1066680"/>
            <a:ext cx="3797280" cy="510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592360" y="0"/>
            <a:ext cx="44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October 9, 2001, CN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The Biological Terrorist Spectrum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8600" y="2108160"/>
            <a:ext cx="8578800" cy="4737240"/>
            <a:chOff x="228600" y="2108160"/>
            <a:chExt cx="8578800" cy="4737240"/>
          </a:xfrm>
        </p:grpSpPr>
        <p:sp>
          <p:nvSpPr>
            <p:cNvPr id="92" name=""/>
            <p:cNvSpPr/>
            <p:nvPr/>
          </p:nvSpPr>
          <p:spPr>
            <a:xfrm>
              <a:off x="1012680" y="2978280"/>
              <a:ext cx="6604200" cy="29336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280" y="2597040"/>
              <a:ext cx="0" cy="359424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-1198800" y="4318920"/>
              <a:ext cx="3249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aeaea"/>
                  </a:solidFill>
                  <a:latin typeface="Arial"/>
                </a:rPr>
                <a:t>Likelihood of Occurrenc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3040" y="6197760"/>
              <a:ext cx="7370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18160" y="4876920"/>
              <a:ext cx="22892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Mass Casualty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Devices/Agen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60200" y="6451560"/>
              <a:ext cx="2939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aeaea"/>
                  </a:solidFill>
                  <a:latin typeface="Arial"/>
                </a:rPr>
                <a:t>Numbers of Casualti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26240" y="2819520"/>
              <a:ext cx="1088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eaeaea"/>
                  </a:solidFill>
                  <a:latin typeface="Arial"/>
                </a:rPr>
                <a:t>Hoax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29360" y="2184480"/>
              <a:ext cx="2619360" cy="11174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00000" y="2108160"/>
              <a:ext cx="2372040" cy="63756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Classical Agent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State Sponsorshi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73480" y="2127240"/>
              <a:ext cx="2172600" cy="637560"/>
            </a:xfrm>
            <a:prstGeom prst="rect">
              <a:avLst/>
            </a:prstGeom>
            <a:noFill/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Many Agent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eaeaea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eaeaea"/>
                  </a:solidFill>
                  <a:latin typeface="Arial"/>
                </a:rPr>
                <a:t>Individual/Group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31120" y="3035160"/>
              <a:ext cx="271440" cy="15494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1400" y="3009960"/>
              <a:ext cx="1128600" cy="139680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509560" y="3035160"/>
              <a:ext cx="1917720" cy="381240"/>
            </a:xfrm>
            <a:prstGeom prst="line">
              <a:avLst/>
            </a:prstGeom>
            <a:ln w="7632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30040" y="4597560"/>
              <a:ext cx="2531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Non-Mass Casualty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eaeaea"/>
                  </a:solidFill>
                  <a:latin typeface="Arial"/>
                </a:rPr>
                <a:t>Devices/Agent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pic>
        <p:nvPicPr>
          <p:cNvPr id="108" name="anthrax%20answ" descr=""/>
          <p:cNvPicPr/>
          <p:nvPr/>
        </p:nvPicPr>
        <p:blipFill>
          <a:blip r:embed="rId2"/>
          <a:stretch/>
        </p:blipFill>
        <p:spPr>
          <a:xfrm>
            <a:off x="5791320" y="914400"/>
            <a:ext cx="33526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77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562720" y="1066680"/>
          <a:ext cx="3276360" cy="34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066680"/>
                    <a:ext cx="327636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Screensaver Intervention:</a:t>
            </a:r>
            <a:br>
              <a:rPr sz="4400"/>
            </a:br>
            <a:r>
              <a:rPr b="0" lang="en-US" sz="2800" spc="-1" strike="noStrike">
                <a:solidFill>
                  <a:srgbClr val="ffffcc"/>
                </a:solidFill>
                <a:latin typeface="Bookman Old Style"/>
              </a:rPr>
              <a:t>16.7% increase in correct responses</a:t>
            </a:r>
            <a:endParaRPr b="0" lang="en-US" sz="2800" spc="-1" strike="noStrike">
              <a:solidFill>
                <a:srgbClr val="ffffcc"/>
              </a:solidFill>
              <a:latin typeface="Bookman Old Style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9920" y="1592280"/>
          <a:ext cx="67978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592280"/>
                    <a:ext cx="67978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438280" y="60199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720" y="60199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terven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Web Site Usage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www.bioterrorism.uab.edu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828800" y="2209680"/>
            <a:ext cx="4952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Bookman Old Style"/>
              </a:rPr>
              <a:t>Weeks 1-19</a:t>
            </a: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Bookman Old Style"/>
              </a:rPr>
              <a:t>22 Oct 2001-28 Feb 2002</a:t>
            </a:r>
            <a:endParaRPr b="0" lang="en-US" sz="2800" spc="-1" strike="noStrike">
              <a:solidFill>
                <a:srgbClr val="eaeaea"/>
              </a:solidFill>
              <a:latin typeface="Bookman Old Style"/>
            </a:endParaRPr>
          </a:p>
        </p:txBody>
      </p:sp>
      <p:sp>
        <p:nvSpPr>
          <p:cNvPr id="119" name=""/>
          <p:cNvSpPr/>
          <p:nvPr/>
        </p:nvSpPr>
        <p:spPr>
          <a:xfrm>
            <a:off x="1447920" y="327672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12,180 Unique Visitor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580,300 Total Hit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70 Countrie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39840" indent="-339840">
              <a:buClr>
                <a:srgbClr val="ffffcc"/>
              </a:buClr>
              <a:buSzPct val="8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883 CME certificates issued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1905120"/>
          <a:ext cx="331956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33195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5562720" y="2057400"/>
          <a:ext cx="2971800" cy="200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057400"/>
                    <a:ext cx="2971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911880" y="41148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6920" y="403848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Bacillus anthrac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5410080"/>
            <a:ext cx="82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ublic Health Preparation=Bioterrorism Prepa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5960" y="4724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aturally Occurr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0" y="46483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ioterroris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Bookman Old Style"/>
              </a:rPr>
              <a:t> “</a:t>
            </a:r>
            <a:r>
              <a:rPr b="0" lang="en-US" sz="5400" spc="-1" strike="noStrike">
                <a:solidFill>
                  <a:srgbClr val="ffffcc"/>
                </a:solidFill>
                <a:latin typeface="Bookman Old Style"/>
              </a:rPr>
              <a:t>Dual-Use”</a:t>
            </a:r>
            <a:endParaRPr b="0" lang="en-US" sz="5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50000">
              <a:srgbClr val="00763b"/>
            </a:gs>
            <a:gs pos="100000">
              <a:srgbClr val="33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7520" y="2082960"/>
            <a:ext cx="36234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First Point of Ca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mergency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rimary Care Provider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ternal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ediatr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b/Gy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Family Prac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Hospital Infection Contro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itial Diagnostic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adi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64200" y="2133720"/>
            <a:ext cx="397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onsultative Specialti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nfectious Disea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ulmonology and Critical Ca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Dermat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ephrolo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urgical Subspecial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ther Medical Subspecial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362320"/>
            <a:ext cx="175248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man Old Style"/>
              </a:rPr>
              <a:t>Medical Specialties</a:t>
            </a:r>
            <a:endParaRPr b="0" lang="en-US" sz="4400" spc="-1" strike="noStrike">
              <a:solidFill>
                <a:srgbClr val="ffffcc"/>
              </a:solidFill>
              <a:latin typeface="Bookman Old Sty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18:52:30Z</dcterms:created>
  <dc:creator>Sarah McNutt</dc:creator>
  <dc:description/>
  <dc:language>en-US</dc:language>
  <cp:lastModifiedBy>AHRQ</cp:lastModifiedBy>
  <cp:lastPrinted>2002-04-16T18:19:59Z</cp:lastPrinted>
  <dcterms:modified xsi:type="dcterms:W3CDTF">2002-06-07T17:49:30Z</dcterms:modified>
  <cp:revision>14</cp:revision>
  <dc:subject/>
  <dc:title>PowerPoint Presentation</dc:title>
</cp:coreProperties>
</file>