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2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3040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a0000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9a0000"/>
              </a:solidFill>
              <a:latin typeface="Impac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3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4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9236-D8EF-4E4D-BF26-2D40AD41B05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110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09480" y="3789720"/>
            <a:ext cx="8110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65680" y="160020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480" y="378972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65680" y="378972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51960" y="160020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94440" y="160020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9480" y="378972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51960" y="378972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94440" y="378972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2E4AF-77AB-48B9-8D54-71B89CC39F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8110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AEFD5-C0E8-4694-8576-08C14BDE37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110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2DF32-879B-4A54-9D59-99E67C4AAE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95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65680" y="1600200"/>
            <a:ext cx="395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1E016-1620-4E94-93ED-40131DD0DD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62D30-2D94-4D66-AA41-4D4A2F0AAB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76440" y="792000"/>
            <a:ext cx="81626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D3FEA-AB40-4559-959F-4061D6DDBF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65680" y="1600200"/>
            <a:ext cx="395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9480" y="378972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4CC48-3903-4909-BF76-7B6686E640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8110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Impac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95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65680" y="160020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65680" y="378972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AB3B2-916C-4078-8615-3E46EB59DB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65680" y="160020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480" y="3789720"/>
            <a:ext cx="8110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5BF21-E889-4541-ADF8-3F1483CCB8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110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09480" y="3789720"/>
            <a:ext cx="8110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152C0-E0CB-4048-B3A4-1067BC2202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65680" y="160020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480" y="378972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65680" y="378972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0BCAE-8B3E-402C-A8EB-A5357817DC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51960" y="160020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94440" y="160020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09480" y="378972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51960" y="378972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94440" y="378972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04F20-529C-42C4-9B25-F7A9E12571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110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95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65680" y="1600200"/>
            <a:ext cx="395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76440" y="792000"/>
            <a:ext cx="81626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Impac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65680" y="1600200"/>
            <a:ext cx="395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78972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95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65680" y="160020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65680" y="378972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65680" y="160020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480" y="3789720"/>
            <a:ext cx="8110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219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371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523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676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828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1981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2133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22860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2438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2590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2743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2895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3048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>
            <a:off x="3200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3352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3505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3657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3809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3962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114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4267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>
            <a:off x="4419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"/>
          <p:cNvSpPr/>
          <p:nvPr/>
        </p:nvSpPr>
        <p:spPr>
          <a:xfrm>
            <a:off x="45720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4724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4876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5029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5181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5334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5486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5638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5791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943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6095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248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00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553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05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10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62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67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772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24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77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29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1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534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686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839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991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0"/>
            <a:ext cx="846288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8110800" cy="419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850"/>
              </a:spcAft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850"/>
              </a:spcAft>
              <a:buClr>
                <a:srgbClr val="cccc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850"/>
              </a:spcAft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850"/>
              </a:spcAft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850"/>
              </a:spcAft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850"/>
              </a:spcAft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1BLUE" descr=""/>
          <p:cNvPicPr/>
          <p:nvPr/>
        </p:nvPicPr>
        <p:blipFill>
          <a:blip r:embed="rId2"/>
          <a:stretch/>
        </p:blipFill>
        <p:spPr>
          <a:xfrm>
            <a:off x="7924680" y="6126120"/>
            <a:ext cx="987480" cy="595440"/>
          </a:xfrm>
          <a:prstGeom prst="rect">
            <a:avLst/>
          </a:prstGeom>
          <a:ln w="0">
            <a:noFill/>
          </a:ln>
        </p:spPr>
      </p:pic>
      <p:pic>
        <p:nvPicPr>
          <p:cNvPr id="64" name="HIGHRES" descr=""/>
          <p:cNvPicPr/>
          <p:nvPr/>
        </p:nvPicPr>
        <p:blipFill>
          <a:blip r:embed="rId3"/>
          <a:stretch/>
        </p:blipFill>
        <p:spPr>
          <a:xfrm>
            <a:off x="3154320" y="6553080"/>
            <a:ext cx="2835360" cy="1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-3240" y="0"/>
            <a:ext cx="9068040" cy="6867360"/>
            <a:chOff x="-3240" y="0"/>
            <a:chExt cx="9068040" cy="6867360"/>
          </a:xfrm>
        </p:grpSpPr>
        <p:sp>
          <p:nvSpPr>
            <p:cNvPr id="102" name=""/>
            <p:cNvSpPr/>
            <p:nvPr/>
          </p:nvSpPr>
          <p:spPr>
            <a:xfrm>
              <a:off x="-324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940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1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396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660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8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116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6380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6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6836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2100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73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2556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7820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30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276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3540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87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3996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9260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44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19716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4980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02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5436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0700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59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1156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26420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6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6876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2140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873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2596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7860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30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8316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3580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88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4036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9300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45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9756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5020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02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85476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00740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59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1196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6460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616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76916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92180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074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2636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37900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531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68356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83620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988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81120" y="0"/>
            <a:ext cx="846288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1981080"/>
            <a:ext cx="6477120" cy="76320"/>
          </a:xfrm>
          <a:prstGeom prst="rect">
            <a:avLst/>
          </a:prstGeom>
          <a:solidFill>
            <a:srgbClr val="0000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1307880"/>
            <a:ext cx="8229600" cy="672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a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9a0000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7C81-8C0C-4748-B480-77DF47F499D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Impact"/>
            </a:endParaRPr>
          </a:p>
          <a:p>
            <a:pPr lvl="1" marL="457200" indent="0" algn="ctr">
              <a:lnSpc>
                <a:spcPct val="90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Aft>
                <a:spcPts val="850"/>
              </a:spcAft>
              <a:buClr>
                <a:srgbClr val="cccc99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t.cdc.gov/" TargetMode="External"/><Relationship Id="rId2" Type="http://schemas.openxmlformats.org/officeDocument/2006/relationships/hyperlink" Target="http://www.aamc.org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1307880"/>
            <a:ext cx="8229600" cy="672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a0000"/>
                </a:solidFill>
                <a:latin typeface="Impact"/>
              </a:rPr>
              <a:t>Promoting Clinician Readiness</a:t>
            </a:r>
            <a:endParaRPr b="0" lang="en-US" sz="4000" spc="-1" strike="noStrike">
              <a:solidFill>
                <a:srgbClr val="9a0000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80880" y="3276720"/>
            <a:ext cx="5562720" cy="265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c0c0c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Impact"/>
              </a:rPr>
              <a:t>Maureen Lichtveld,  M.D., M.P.H.</a:t>
            </a:r>
            <a:endParaRPr b="0" lang="en-US" sz="2800" spc="-1" strike="noStrike">
              <a:solidFill>
                <a:srgbClr val="003399"/>
              </a:solidFill>
              <a:latin typeface="Impact"/>
            </a:endParaRPr>
          </a:p>
          <a:p>
            <a:pPr lvl="1" marL="287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ssociate Director for Workforce Development</a:t>
            </a:r>
            <a:endParaRPr b="0" lang="en-US" sz="1900" spc="-1" strike="noStrike">
              <a:solidFill>
                <a:srgbClr val="003399"/>
              </a:solidFill>
              <a:latin typeface="Impact"/>
            </a:endParaRPr>
          </a:p>
          <a:p>
            <a:pPr lvl="1" marL="287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ublic Health Practice Program Office/OD</a:t>
            </a:r>
            <a:endParaRPr b="0" lang="en-US" sz="1900" spc="-1" strike="noStrike">
              <a:solidFill>
                <a:srgbClr val="003399"/>
              </a:solidFill>
              <a:latin typeface="Impact"/>
            </a:endParaRPr>
          </a:p>
          <a:p>
            <a:pPr lvl="1" marL="287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enters for Disease Control and Prevention</a:t>
            </a:r>
            <a:endParaRPr b="0" lang="en-US" sz="1900" spc="-1" strike="noStrike">
              <a:solidFill>
                <a:srgbClr val="003399"/>
              </a:solidFill>
              <a:latin typeface="Impact"/>
            </a:endParaRPr>
          </a:p>
        </p:txBody>
      </p:sp>
      <p:pic>
        <p:nvPicPr>
          <p:cNvPr id="213" name="HIGHRES" descr=""/>
          <p:cNvPicPr/>
          <p:nvPr/>
        </p:nvPicPr>
        <p:blipFill>
          <a:blip r:embed="rId1"/>
          <a:stretch/>
        </p:blipFill>
        <p:spPr>
          <a:xfrm>
            <a:off x="380880" y="5029200"/>
            <a:ext cx="1424160" cy="1030320"/>
          </a:xfrm>
          <a:prstGeom prst="rect">
            <a:avLst/>
          </a:prstGeom>
          <a:ln w="0">
            <a:noFill/>
          </a:ln>
        </p:spPr>
      </p:pic>
      <p:pic>
        <p:nvPicPr>
          <p:cNvPr id="214" name="Lichtveld" descr=""/>
          <p:cNvPicPr/>
          <p:nvPr/>
        </p:nvPicPr>
        <p:blipFill>
          <a:blip r:embed="rId2"/>
          <a:stretch/>
        </p:blipFill>
        <p:spPr>
          <a:xfrm>
            <a:off x="6095880" y="2895480"/>
            <a:ext cx="24368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163000" cy="1158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Impact"/>
              </a:rPr>
              <a:t>Summary of Capacities: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Impact"/>
              </a:rPr>
              <a:t>Education and Training</a:t>
            </a: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52320" y="1752480"/>
            <a:ext cx="8110800" cy="419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a0000"/>
                </a:solidFill>
                <a:latin typeface="Arial"/>
              </a:rPr>
              <a:t>Key content ar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Aft>
                <a:spcPts val="40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/chemical agents – diagnosis, treatment, con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Aft>
                <a:spcPts val="40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ied and Incident Comman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Aft>
                <a:spcPts val="40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s/notificatio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Aft>
                <a:spcPts val="40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ommun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Aft>
                <a:spcPts val="40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Aft>
                <a:spcPts val="40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al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Aft>
                <a:spcPts val="40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/surveillance; laboratory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Aft>
                <a:spcPts val="40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Impact"/>
              </a:rPr>
              <a:t>Clinician Resources</a:t>
            </a: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110800" cy="419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www.bt.cdc.gov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ww.phppo.cdc.gov/workfor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336699"/>
                </a:solidFill>
                <a:uFillTx/>
                <a:latin typeface="Arial"/>
                <a:hlinkClick r:id="rId2"/>
              </a:rPr>
              <a:t>www.aamc.or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ww.phppo.cdc.gov/PHTN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ww.phppo.cdc.gov/HAN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ww.phppo.cdc.gov/NLTN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8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8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CHPHmap032702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686800" cy="62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441000"/>
            <a:ext cx="8162640" cy="1158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Impact"/>
              </a:rPr>
              <a:t>AAMC/CDC Cooperative Agreement: Major Themes</a:t>
            </a: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110800" cy="419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omoting the teaching of public health in academic medical cent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omoting the training of public health and prevention researchers within academic medical cent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creasing the number of underrepresented minority students in medical schoo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tivities to eliminate health dispariti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Impact"/>
              </a:rPr>
              <a:t>Lessons Learned - Anthrax</a:t>
            </a: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110800" cy="419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ublic health and law enforcement –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850"/>
              </a:spcAft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ole clarif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850"/>
              </a:spcAft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vestigation method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850"/>
              </a:spcAft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formation/Communic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ublic health and law enforcement – joint training can lead to enhanced collabor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Impact"/>
              </a:rPr>
              <a:t>CDC’s Role in Mobilizing Post 9/11</a:t>
            </a: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110800" cy="419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tection/Laboratori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eld response te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porting/Surveillan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sources – Education/Train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18110" descr=""/>
          <p:cNvPicPr/>
          <p:nvPr/>
        </p:nvPicPr>
        <p:blipFill>
          <a:blip r:embed="rId1"/>
          <a:stretch/>
        </p:blipFill>
        <p:spPr>
          <a:xfrm>
            <a:off x="6400800" y="1523880"/>
            <a:ext cx="2349360" cy="3505320"/>
          </a:xfrm>
          <a:prstGeom prst="rect">
            <a:avLst/>
          </a:prstGeom>
          <a:ln w="76320">
            <a:solidFill>
              <a:srgbClr val="66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1159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Impact"/>
              </a:rPr>
              <a:t>Clinician Education and Training Observations</a:t>
            </a: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5181840" cy="419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esent but limit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ndifferentiated content, target audiences,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livery mod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arying quality assuran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59146" descr=""/>
          <p:cNvPicPr/>
          <p:nvPr/>
        </p:nvPicPr>
        <p:blipFill>
          <a:blip r:embed="rId1"/>
          <a:stretch/>
        </p:blipFill>
        <p:spPr>
          <a:xfrm>
            <a:off x="5969160" y="2997360"/>
            <a:ext cx="2869920" cy="2869920"/>
          </a:xfrm>
          <a:prstGeom prst="rect">
            <a:avLst/>
          </a:prstGeom>
          <a:ln w="76320">
            <a:solidFill>
              <a:srgbClr val="66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1159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Impact"/>
              </a:rPr>
              <a:t>Clinician Preparedness: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Impact"/>
              </a:rPr>
              <a:t>National Strategies</a:t>
            </a: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8110800" cy="419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operative agreement program for Bioterrorism (BT) and Respon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llaborative Bioterrorism Preparedness and Training Plan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rategic plan for Public Health Workforce Developm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Impact"/>
              </a:rPr>
              <a:t>Key Questions</a:t>
            </a: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10440" cy="419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Aft>
                <a:spcPts val="8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9a0000"/>
                </a:solidFill>
                <a:latin typeface="Arial"/>
              </a:rPr>
              <a:t>What are the effective methods for . . .</a:t>
            </a:r>
            <a:r>
              <a:rPr b="1" i="1" lang="en-US" sz="3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initial training of clinicia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pdating and reinforcing the train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se of Web/telephone-based central information resourc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porting events to a central agenc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municating with other health care professiona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5943600"/>
            <a:ext cx="472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ource: AHRQ-</a:t>
            </a:r>
            <a:r>
              <a:rPr b="0" i="1" lang="en-US" sz="1200" spc="-1" strike="noStrike">
                <a:solidFill>
                  <a:srgbClr val="000000"/>
                </a:solidFill>
                <a:latin typeface="Arial Narrow"/>
              </a:rPr>
              <a:t>Training for Clinicians for Public Health Events Relevant to Bioterrorism Preparedness;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vidence Report/Technology Assessment; #51 p1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163000" cy="1737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Impact"/>
              </a:rPr>
              <a:t>Public Health Preparedness and Response for BT:  A National Program</a:t>
            </a: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110800" cy="419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5000"/>
              </a:lnSpc>
              <a:spcAft>
                <a:spcPts val="2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a0000"/>
                </a:solidFill>
                <a:latin typeface="Arial"/>
              </a:rPr>
              <a:t>Focus Area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5000"/>
              </a:lnSpc>
              <a:spcAft>
                <a:spcPts val="213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eparedness planning and readiness assessm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5000"/>
              </a:lnSpc>
              <a:spcAft>
                <a:spcPts val="213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urveillance and epidemiology capac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5000"/>
              </a:lnSpc>
              <a:spcAft>
                <a:spcPts val="213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aboratory capacity – biologic ag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5000"/>
              </a:lnSpc>
              <a:spcAft>
                <a:spcPts val="213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ealth Alert Network communications and information technolog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5000"/>
              </a:lnSpc>
              <a:spcAft>
                <a:spcPts val="213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isk communication and health information dissemin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5000"/>
              </a:lnSpc>
              <a:spcAft>
                <a:spcPts val="213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ducation and train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Impact"/>
              </a:rPr>
              <a:t>Sustaining the Momentum</a:t>
            </a: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110800" cy="419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Aft>
                <a:spcPts val="8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a0000"/>
                </a:solidFill>
                <a:latin typeface="Arial"/>
              </a:rPr>
              <a:t>Education/Train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petency-based, standardiz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udents, residents, practicing clinicia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teractive; usual delivery channe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centives (individual; operationalized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Impact"/>
              </a:rPr>
              <a:t>Sustaining the Momentum</a:t>
            </a: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110800" cy="419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earning systems to assure competen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vidence linking enhanced workforce performance and organizational capacity to improved health outcom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search to advance early detection, medical management and surveillan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84200" y="4000680"/>
            <a:ext cx="5681880" cy="1009440"/>
          </a:xfrm>
          <a:custGeom>
            <a:avLst/>
            <a:gdLst/>
            <a:ahLst/>
            <a:rect l="l" t="t" r="r" b="b"/>
            <a:pathLst>
              <a:path w="3579" h="636">
                <a:moveTo>
                  <a:pt x="447" y="0"/>
                </a:moveTo>
                <a:lnTo>
                  <a:pt x="3120" y="0"/>
                </a:lnTo>
                <a:lnTo>
                  <a:pt x="3579" y="636"/>
                </a:lnTo>
                <a:lnTo>
                  <a:pt x="0" y="633"/>
                </a:lnTo>
                <a:lnTo>
                  <a:pt x="447" y="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81480" y="40194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40194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22040" y="4632480"/>
            <a:ext cx="125532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Surveil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54200" y="4632480"/>
            <a:ext cx="18356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Laboratory 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52760" y="4632480"/>
            <a:ext cx="13755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Epidemi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6080" y="4087080"/>
            <a:ext cx="977760" cy="49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abora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act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06040" y="4087080"/>
            <a:ext cx="1152720" cy="49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pidem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vesti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45240" y="4173840"/>
            <a:ext cx="1100880" cy="24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urveil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104920" y="1143000"/>
            <a:ext cx="4240440" cy="285588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82720" y="3236760"/>
            <a:ext cx="308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78080" y="2355840"/>
            <a:ext cx="2232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ioterror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mergency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692440" y="3362400"/>
            <a:ext cx="3066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ioterror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mergency Capac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62920" y="4267080"/>
            <a:ext cx="1752480" cy="79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7 Priority Are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rist-Kenn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orking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324480" y="3962520"/>
            <a:ext cx="2428920" cy="2057400"/>
          </a:xfrm>
          <a:custGeom>
            <a:avLst/>
            <a:gdLst/>
            <a:ahLst/>
            <a:rect l="l" t="t" r="r" b="b"/>
            <a:pathLst>
              <a:path w="1530" h="1296">
                <a:moveTo>
                  <a:pt x="0" y="0"/>
                </a:moveTo>
                <a:lnTo>
                  <a:pt x="1530" y="0"/>
                </a:lnTo>
                <a:lnTo>
                  <a:pt x="1530" y="1296"/>
                </a:lnTo>
                <a:lnTo>
                  <a:pt x="1050" y="1296"/>
                </a:ln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5000760"/>
            <a:ext cx="7229520" cy="1066680"/>
          </a:xfrm>
          <a:custGeom>
            <a:avLst/>
            <a:gdLst/>
            <a:ahLst/>
            <a:rect l="l" t="t" r="r" b="b"/>
            <a:pathLst>
              <a:path w="4554" h="672">
                <a:moveTo>
                  <a:pt x="486" y="0"/>
                </a:moveTo>
                <a:lnTo>
                  <a:pt x="4074" y="0"/>
                </a:lnTo>
                <a:lnTo>
                  <a:pt x="4554" y="666"/>
                </a:lnTo>
                <a:lnTo>
                  <a:pt x="0" y="672"/>
                </a:lnTo>
                <a:lnTo>
                  <a:pt x="486" y="0"/>
                </a:lnTo>
                <a:close/>
              </a:path>
            </a:pathLst>
          </a:custGeom>
          <a:solidFill>
            <a:srgbClr val="00008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19800" y="5562720"/>
            <a:ext cx="2419560" cy="5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4. Inform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5. Communic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82480" y="5562720"/>
            <a:ext cx="2439360" cy="5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1. Public Health Workforce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     Capacity &amp; Compet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35320" y="5562720"/>
            <a:ext cx="3248280" cy="5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 Narrow"/>
              </a:rPr>
              <a:t>6. 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Preparedness &amp; Response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7. Policy Development &amp;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37880" y="5136120"/>
            <a:ext cx="2509200" cy="4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Informatio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Communication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62920" y="5110560"/>
            <a:ext cx="1476000" cy="4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Organiz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15840" y="5110560"/>
            <a:ext cx="1220040" cy="4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Workfo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Compe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8480" y="343080"/>
            <a:ext cx="8173800" cy="74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Impact"/>
              </a:rPr>
              <a:t>Public Health Improvement Act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Preparedness and Response for Public Health Threats and Emergen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1BLUE" descr=""/>
          <p:cNvPicPr/>
          <p:nvPr/>
        </p:nvPicPr>
        <p:blipFill>
          <a:blip r:embed="rId1"/>
          <a:stretch/>
        </p:blipFill>
        <p:spPr>
          <a:xfrm>
            <a:off x="8024760" y="6172200"/>
            <a:ext cx="96696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03:24:20Z</dcterms:created>
  <dc:creator>phppo user</dc:creator>
  <dc:description/>
  <dc:language>en-US</dc:language>
  <cp:lastModifiedBy>Emily Moser</cp:lastModifiedBy>
  <cp:lastPrinted>2002-04-16T18:41:41Z</cp:lastPrinted>
  <dcterms:modified xsi:type="dcterms:W3CDTF">2009-07-23T14:38:18Z</dcterms:modified>
  <cp:revision>55</cp:revision>
  <dc:subject/>
  <dc:title>PowerPoint Presentation</dc:title>
</cp:coreProperties>
</file>