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3BB5-741E-400A-8454-96A25B552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85800" y="40402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99C6-9338-4463-8C57-F30DDCFE5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402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68480" y="40402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F077-D5B7-4412-80F6-D35561A5C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13800" y="22093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41440" y="22093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85800" y="40402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13800" y="40402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41440" y="40402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3AFC-237B-48B0-81ED-5078B3221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0CBF4-25E1-4063-8E33-20FE80FFF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8E55E-047E-428D-BB49-9A8EDA65E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65FE8-A173-472C-A460-DF93C9C99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87B0A-EA13-4690-AE31-5E15D0199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8286F-E98E-4AFE-9A02-EC88E6FB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A353A-B789-4B2C-BF07-3F844FED2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0402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64694-0345-4734-AD40-1CE9D154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7115-0C1D-4EBD-A384-CBB5A5059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8480" y="40402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BF16F-5123-4FCE-B530-0C9034BB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40402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E3749-BD2E-42A7-876F-D0B72D6E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85800" y="40402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9379F-E789-4317-86C2-57F79EE5A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40402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8480" y="40402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77069-5787-4ABC-89CE-A2FB36E9A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313800" y="22093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41440" y="22093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85800" y="40402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313800" y="40402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941440" y="40402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E76D5-50F2-44DF-AEDD-B2BFFD66E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4AE7-AD56-4763-9C22-96EE49282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225A-9A3B-4216-A4BB-3F4C20078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F1AC-AD57-4399-B278-89662D198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4156-5CB5-45C6-BE79-55519E55C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0402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DBDB-138C-4E08-8527-0C79B66C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68480" y="40402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3F7A-8940-4E87-9005-D60F8087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0402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190D-5600-4C52-8485-E57CF524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57280"/>
            <a:ext cx="9142560" cy="6516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35000" y="1676520"/>
            <a:ext cx="8856720" cy="144360"/>
          </a:xfrm>
          <a:prstGeom prst="rect">
            <a:avLst/>
          </a:prstGeom>
          <a:solidFill>
            <a:srgbClr val="8381b3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3184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0328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7328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04472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316160" y="1617840"/>
            <a:ext cx="2696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58580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85724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12868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398680" y="1617840"/>
            <a:ext cx="2732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671920" y="1617840"/>
            <a:ext cx="2696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294156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321300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348444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375444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0" y="6627960"/>
            <a:ext cx="9142560" cy="2286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22093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ccc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  <a:p>
            <a:pPr lvl="1" marL="623880" indent="-239760">
              <a:spcBef>
                <a:spcPts val="799"/>
              </a:spcBef>
              <a:buClr>
                <a:srgbClr val="eaeaea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  <a:p>
            <a:pPr lvl="2" marL="960120" indent="-191880">
              <a:spcBef>
                <a:spcPts val="799"/>
              </a:spcBef>
              <a:buClr>
                <a:srgbClr val="dddddd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  <a:p>
            <a:pPr lvl="3" marL="1343880" indent="-191880">
              <a:spcBef>
                <a:spcPts val="799"/>
              </a:spcBef>
              <a:buClr>
                <a:srgbClr val="dddddd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  <a:p>
            <a:pPr lvl="4" marL="1728000" indent="-191880">
              <a:spcBef>
                <a:spcPts val="799"/>
              </a:spcBef>
              <a:buClr>
                <a:srgbClr val="dddddd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  <a:p>
            <a:pPr lvl="5" marL="1728000" indent="-191880">
              <a:spcBef>
                <a:spcPts val="799"/>
              </a:spcBef>
              <a:buClr>
                <a:srgbClr val="cbcbcb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  <a:p>
            <a:pPr lvl="6" marL="1728000" indent="-191880">
              <a:spcBef>
                <a:spcPts val="799"/>
              </a:spcBef>
              <a:buClr>
                <a:srgbClr val="cbcbcb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bcbc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bcbc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bcbc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bcbc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bcbc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FB416-6120-44BF-A1E9-BD8CB83F8D4E}" type="slidenum">
              <a:rPr b="0" lang="en-US" sz="1400" spc="-1" strike="noStrike">
                <a:solidFill>
                  <a:srgbClr val="cbcbc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"/>
          <p:cNvSpPr/>
          <p:nvPr/>
        </p:nvSpPr>
        <p:spPr>
          <a:xfrm>
            <a:off x="0" y="1968480"/>
            <a:ext cx="9142560" cy="6516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>
            <a:off x="4027320" y="1617840"/>
            <a:ext cx="2718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4299120" y="1617840"/>
            <a:ext cx="2696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456876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484020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511164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538164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" name=""/>
          <p:cNvSpPr/>
          <p:nvPr/>
        </p:nvSpPr>
        <p:spPr>
          <a:xfrm>
            <a:off x="565308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"/>
          <p:cNvSpPr/>
          <p:nvPr/>
        </p:nvSpPr>
        <p:spPr>
          <a:xfrm>
            <a:off x="592452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"/>
          <p:cNvSpPr/>
          <p:nvPr/>
        </p:nvSpPr>
        <p:spPr>
          <a:xfrm>
            <a:off x="6194520" y="1617840"/>
            <a:ext cx="27288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" name=""/>
          <p:cNvSpPr/>
          <p:nvPr/>
        </p:nvSpPr>
        <p:spPr>
          <a:xfrm>
            <a:off x="646740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"/>
          <p:cNvSpPr/>
          <p:nvPr/>
        </p:nvSpPr>
        <p:spPr>
          <a:xfrm>
            <a:off x="673740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"/>
          <p:cNvSpPr/>
          <p:nvPr/>
        </p:nvSpPr>
        <p:spPr>
          <a:xfrm>
            <a:off x="700884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" name=""/>
          <p:cNvSpPr/>
          <p:nvPr/>
        </p:nvSpPr>
        <p:spPr>
          <a:xfrm>
            <a:off x="728028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6" name=""/>
          <p:cNvSpPr/>
          <p:nvPr/>
        </p:nvSpPr>
        <p:spPr>
          <a:xfrm>
            <a:off x="755028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" name=""/>
          <p:cNvSpPr/>
          <p:nvPr/>
        </p:nvSpPr>
        <p:spPr>
          <a:xfrm>
            <a:off x="781848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808992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836136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863136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0" y="1981080"/>
            <a:ext cx="9142560" cy="1371600"/>
            <a:chOff x="0" y="1981080"/>
            <a:chExt cx="9142560" cy="1371600"/>
          </a:xfrm>
        </p:grpSpPr>
        <p:sp>
          <p:nvSpPr>
            <p:cNvPr id="78" name=""/>
            <p:cNvSpPr/>
            <p:nvPr/>
          </p:nvSpPr>
          <p:spPr>
            <a:xfrm>
              <a:off x="0" y="3124080"/>
              <a:ext cx="9142560" cy="228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04920" y="2514600"/>
              <a:ext cx="8534160" cy="304920"/>
            </a:xfrm>
            <a:prstGeom prst="rect">
              <a:avLst/>
            </a:prstGeom>
            <a:solidFill>
              <a:srgbClr val="8381b3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0636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15840" y="2362320"/>
              <a:ext cx="60984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52568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3516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744640" y="2362320"/>
              <a:ext cx="60984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5448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96396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573440" y="2362320"/>
              <a:ext cx="60984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18328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276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402240" y="2362320"/>
              <a:ext cx="60984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01208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62156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231040" y="2362320"/>
              <a:ext cx="60984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981080"/>
              <a:ext cx="9142560" cy="228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0" y="6627960"/>
            <a:ext cx="9142560" cy="2286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D3290-44A7-4E5D-9C8D-BD2167C7E4EC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Rounded MT Bold"/>
              </a:rPr>
              <a:t>Second Outline Level</a:t>
            </a:r>
            <a:endParaRPr b="0" lang="en-US" sz="2800" spc="-1" strike="noStrike">
              <a:solidFill>
                <a:srgbClr val="dddddd"/>
              </a:solidFill>
              <a:latin typeface="Arial Rounded MT Bold"/>
            </a:endParaRPr>
          </a:p>
          <a:p>
            <a:pPr lvl="2" marL="914400" algn="ctr">
              <a:spcBef>
                <a:spcPts val="601"/>
              </a:spcBef>
              <a:buClr>
                <a:srgbClr val="dddddd"/>
              </a:buClr>
              <a:buFont typeface="Arial Rounded MT Bol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  <a:p>
            <a:pPr lvl="3" marL="1371600" algn="ctr">
              <a:spcBef>
                <a:spcPts val="499"/>
              </a:spcBef>
              <a:buClr>
                <a:srgbClr val="dddddd"/>
              </a:buClr>
              <a:buFont typeface="Arial Rounded MT Bol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 Rounded MT Bold"/>
              </a:rPr>
              <a:t>Fourth Outline Level</a:t>
            </a:r>
            <a:endParaRPr b="0" lang="en-US" sz="2000" spc="-1" strike="noStrike">
              <a:solidFill>
                <a:srgbClr val="dddddd"/>
              </a:solidFill>
              <a:latin typeface="Arial Rounded MT Bold"/>
            </a:endParaRPr>
          </a:p>
          <a:p>
            <a:pPr lvl="4" marL="1828800" algn="ctr">
              <a:spcBef>
                <a:spcPts val="499"/>
              </a:spcBef>
              <a:buClr>
                <a:srgbClr val="dddddd"/>
              </a:buClr>
              <a:buFont typeface="Arial Rounded MT Bol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 Rounded MT Bold"/>
              </a:rPr>
              <a:t>Fifth Outline Level</a:t>
            </a:r>
            <a:endParaRPr b="0" lang="en-US" sz="2000" spc="-1" strike="noStrike">
              <a:solidFill>
                <a:srgbClr val="dddddd"/>
              </a:solidFill>
              <a:latin typeface="Arial Rounded MT Bold"/>
            </a:endParaRPr>
          </a:p>
          <a:p>
            <a:pPr lvl="5" marL="1828800">
              <a:spcBef>
                <a:spcPts val="499"/>
              </a:spcBef>
              <a:buClr>
                <a:srgbClr val="cbcbcb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 Rounded MT Bold"/>
              </a:rPr>
              <a:t>Sixth Outline Level</a:t>
            </a:r>
            <a:endParaRPr b="0" lang="en-US" sz="2000" spc="-1" strike="noStrike">
              <a:solidFill>
                <a:srgbClr val="dddddd"/>
              </a:solidFill>
              <a:latin typeface="Arial Rounded MT Bold"/>
            </a:endParaRPr>
          </a:p>
          <a:p>
            <a:pPr lvl="6" marL="1828800">
              <a:spcBef>
                <a:spcPts val="499"/>
              </a:spcBef>
              <a:buClr>
                <a:srgbClr val="cbcbcb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 Rounded MT Bold"/>
              </a:rPr>
              <a:t>Seventh Outline Level</a:t>
            </a:r>
            <a:endParaRPr b="0" lang="en-US" sz="2000" spc="-1" strike="noStrike">
              <a:solidFill>
                <a:srgbClr val="dddddd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Promoting Clinician Readines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533160" y="3809520"/>
            <a:ext cx="51814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 Rounded MT Bold"/>
              </a:rPr>
              <a:t>Leslie Beitsch, M.D., J.D.</a:t>
            </a: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 Rounded MT Bold"/>
              </a:rPr>
              <a:t>Commissioner and State Health Officer</a:t>
            </a:r>
            <a:endParaRPr b="0" lang="en-US" sz="1800" spc="-1" strike="noStrike">
              <a:solidFill>
                <a:srgbClr val="dddddd"/>
              </a:solidFill>
              <a:latin typeface="Arial Rounded MT Bold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 Rounded MT Bold"/>
              </a:rPr>
              <a:t>Oklahoma State Department of Health</a:t>
            </a:r>
            <a:endParaRPr b="0" lang="en-US" sz="1800" spc="-1" strike="noStrike">
              <a:solidFill>
                <a:srgbClr val="dddddd"/>
              </a:solidFill>
              <a:latin typeface="Arial Rounded MT Bold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dddd"/>
              </a:solidFill>
              <a:latin typeface="Arial Rounded MT Bol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dddd"/>
              </a:solidFill>
              <a:latin typeface="Arial Rounded MT Bold"/>
            </a:endParaRPr>
          </a:p>
        </p:txBody>
      </p:sp>
      <p:pic>
        <p:nvPicPr>
          <p:cNvPr id="139" name="Beitsch_photo" descr=""/>
          <p:cNvPicPr/>
          <p:nvPr/>
        </p:nvPicPr>
        <p:blipFill>
          <a:blip r:embed="rId1"/>
          <a:srcRect l="2584" t="0" r="1778" b="13738"/>
          <a:stretch/>
        </p:blipFill>
        <p:spPr>
          <a:xfrm>
            <a:off x="5791320" y="3352680"/>
            <a:ext cx="28191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Model Emergency Health Powers Ac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Rounded MT Bold"/>
              </a:rPr>
              <a:t>Act is attempt to codify the various powers and authorities needed to respond to the most catastrophic public health events (BT)</a:t>
            </a: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Rounded MT Bold"/>
              </a:rPr>
              <a:t>Private sector may  be called upon to assist governmental public health</a:t>
            </a: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Rounded MT Bold"/>
              </a:rPr>
              <a:t>Hospitals and other facilities may be “statecized”</a:t>
            </a: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Rounded MT Bold"/>
              </a:rPr>
              <a:t>Conceivably clinicians could be asked to practice in adjacent jurisdictions</a:t>
            </a: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oordination with Tribal Government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792468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Rounded MT Bold"/>
              </a:rPr>
              <a:t>Coordination required under the terms of the new CDC grant</a:t>
            </a: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Rounded MT Bold"/>
              </a:rPr>
              <a:t>Oklahoma example: 39 federally recognized tribes  </a:t>
            </a: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Rounded MT Bold"/>
              </a:rPr>
              <a:t>Short-term approach:  include Bureau of Indian Health (BIH) in advisory group</a:t>
            </a: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Rounded MT Bold"/>
              </a:rPr>
              <a:t>Expand to all interested participants in the long-term planning process</a:t>
            </a: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Available Tool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Rounded MT Bold"/>
              </a:rPr>
              <a:t>All States recently completed a Department of Justice (DOJ) survey, with results now available</a:t>
            </a: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Rounded MT Bold"/>
              </a:rPr>
              <a:t>National Public Health Performance Standards look at broad public health systems capabilities</a:t>
            </a: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Rounded MT Bold"/>
              </a:rPr>
              <a:t>Reconcile laws in jurisdiction with Model Emergency Health Powers Act</a:t>
            </a: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Lessons Learned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c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Rounded MT Bold"/>
              </a:rPr>
              <a:t>Build close working relationships with clinical colleagues before threatened BT events</a:t>
            </a: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  <a:p>
            <a:pPr marL="339480" indent="-339480">
              <a:spcBef>
                <a:spcPts val="601"/>
              </a:spcBef>
              <a:buClr>
                <a:srgbClr val="ccc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Rounded MT Bold"/>
              </a:rPr>
              <a:t>Use HAN resources to tie clinicians into public health network</a:t>
            </a: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  <a:p>
            <a:pPr marL="339480" indent="-339480">
              <a:spcBef>
                <a:spcPts val="601"/>
              </a:spcBef>
              <a:buClr>
                <a:srgbClr val="ccc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Rounded MT Bold"/>
              </a:rPr>
              <a:t>Examine disease reporting and surveillance systems from perspective of the “user” and lower barriers to easy accessibility</a:t>
            </a: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  <a:p>
            <a:pPr marL="339480" indent="-339480">
              <a:spcBef>
                <a:spcPts val="601"/>
              </a:spcBef>
              <a:buClr>
                <a:srgbClr val="ccc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Rounded MT Bold"/>
              </a:rPr>
              <a:t>Improve web sites so that clinicians seeking information can obtain it rapidly</a:t>
            </a: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  <a:p>
            <a:pPr marL="339480" indent="-339480">
              <a:spcBef>
                <a:spcPts val="601"/>
              </a:spcBef>
              <a:buClr>
                <a:srgbClr val="ccc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Rounded MT Bold"/>
              </a:rPr>
              <a:t>Anticipate ongoing educational needs, and use CME as a carrot</a:t>
            </a: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 Black"/>
              </a:rPr>
              <a:t>Efforts by Health Department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271240"/>
            <a:ext cx="7772400" cy="33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"/>
              </a:rPr>
              <a:t>Over the past 3 years, many State health departments were recipients of CDC sponsored bioterrorism (BT) grants</a:t>
            </a: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"/>
              </a:rPr>
              <a:t>Grantees made concerted outreach efforts to clinical practitioners</a:t>
            </a: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"/>
              </a:rPr>
              <a:t>Strengthening the Health Alert Network (HAN) included coordination with local and State medical societies </a:t>
            </a: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"/>
              </a:rPr>
              <a:t>Establishing ties with Metropolitan Medical Response System (MMRS)</a:t>
            </a: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 Black"/>
              </a:rPr>
              <a:t>Clinician Needs after 9/11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 Rounded MT Bold"/>
              </a:rPr>
              <a:t>Definitive information on BT</a:t>
            </a: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 Rounded MT Bold"/>
              </a:rPr>
              <a:t>Diagnostic criteria</a:t>
            </a: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 Rounded MT Bold"/>
              </a:rPr>
              <a:t>Surveillance and reporting primer</a:t>
            </a: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 Rounded MT Bold"/>
              </a:rPr>
              <a:t>State and local medical societies wanted greater participation in the BT planning and advisory processes</a:t>
            </a: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 Black"/>
              </a:rPr>
              <a:t>Engaging Clinician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ccc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ddddd"/>
                </a:solidFill>
                <a:latin typeface="Arial Rounded MT Bold"/>
              </a:rPr>
              <a:t>Have a BT event… it creates the teachable moment</a:t>
            </a:r>
            <a:endParaRPr b="0" lang="en-US" sz="2200" spc="-1" strike="noStrike">
              <a:solidFill>
                <a:srgbClr val="dddddd"/>
              </a:solidFill>
              <a:latin typeface="Arial Rounded MT Bold"/>
            </a:endParaRPr>
          </a:p>
          <a:p>
            <a:pPr marL="332640" indent="-332640">
              <a:spcBef>
                <a:spcPts val="550"/>
              </a:spcBef>
              <a:buClr>
                <a:srgbClr val="ccc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ddddd"/>
                </a:solidFill>
                <a:latin typeface="Arial Rounded MT Bold"/>
              </a:rPr>
              <a:t>Clinicians without further prodding will seek to enhance their competency in diagnosing BT related illnesses</a:t>
            </a:r>
            <a:endParaRPr b="0" lang="en-US" sz="2200" spc="-1" strike="noStrike">
              <a:solidFill>
                <a:srgbClr val="dddddd"/>
              </a:solidFill>
              <a:latin typeface="Arial Rounded MT Bold"/>
            </a:endParaRPr>
          </a:p>
          <a:p>
            <a:pPr marL="332640" indent="-332640">
              <a:spcBef>
                <a:spcPts val="550"/>
              </a:spcBef>
              <a:buClr>
                <a:srgbClr val="ccc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ddddd"/>
                </a:solidFill>
                <a:latin typeface="Arial Rounded MT Bold"/>
              </a:rPr>
              <a:t>Modest educational efforts will pay immediate dividends by raising the clinical  index of suspicion</a:t>
            </a:r>
            <a:endParaRPr b="0" lang="en-US" sz="2200" spc="-1" strike="noStrike">
              <a:solidFill>
                <a:srgbClr val="dddddd"/>
              </a:solidFill>
              <a:latin typeface="Arial Rounded MT Bold"/>
            </a:endParaRPr>
          </a:p>
          <a:p>
            <a:pPr marL="332640" indent="-332640">
              <a:spcBef>
                <a:spcPts val="550"/>
              </a:spcBef>
              <a:buClr>
                <a:srgbClr val="ccc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ddddd"/>
                </a:solidFill>
                <a:latin typeface="Arial Rounded MT Bold"/>
              </a:rPr>
              <a:t>Reminding medical societies and individual physicians of legal duty to report diseases (e.g., anthrax, etc.)</a:t>
            </a:r>
            <a:endParaRPr b="0" lang="en-US" sz="2200" spc="-1" strike="noStrike">
              <a:solidFill>
                <a:srgbClr val="dddddd"/>
              </a:solidFill>
              <a:latin typeface="Arial Rounded MT Bold"/>
            </a:endParaRPr>
          </a:p>
          <a:p>
            <a:pPr marL="332640" indent="-332640">
              <a:spcBef>
                <a:spcPts val="550"/>
              </a:spcBef>
              <a:buClr>
                <a:srgbClr val="ccc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ddddd"/>
                </a:solidFill>
                <a:latin typeface="Arial Rounded MT Bold"/>
              </a:rPr>
              <a:t>Reducing barriers to simplified reporting (e.g., electronic disease reporting) </a:t>
            </a:r>
            <a:endParaRPr b="0" lang="en-US" sz="2200" spc="-1" strike="noStrike">
              <a:solidFill>
                <a:srgbClr val="dddddd"/>
              </a:solidFill>
              <a:latin typeface="Arial Rounded MT Bold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ddddd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 Black"/>
              </a:rPr>
              <a:t>Steps for State and Local Health Departments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ccc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 Rounded MT Bold"/>
              </a:rPr>
              <a:t>Build a systemic response to BT events</a:t>
            </a: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  <a:p>
            <a:pPr marL="329040" indent="-329040">
              <a:spcBef>
                <a:spcPts val="601"/>
              </a:spcBef>
              <a:buClr>
                <a:srgbClr val="ccc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 Rounded MT Bold"/>
              </a:rPr>
              <a:t>Provide education and training to the entire public health workforce, not only staff with day-to-day BT responsibilities</a:t>
            </a: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  <a:p>
            <a:pPr marL="329040" indent="-329040">
              <a:spcBef>
                <a:spcPts val="601"/>
              </a:spcBef>
              <a:buClr>
                <a:srgbClr val="ccc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 Rounded MT Bold"/>
              </a:rPr>
              <a:t>Enhance epidemiology, biostatistics, microbiology, and communication skills through core courses, seminars, and distance learning technologies</a:t>
            </a: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  <a:p>
            <a:pPr marL="329040" indent="-329040">
              <a:spcBef>
                <a:spcPts val="601"/>
              </a:spcBef>
              <a:buClr>
                <a:srgbClr val="ccc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 Rounded MT Bold"/>
              </a:rPr>
              <a:t>Offer graduate education for selected staff who demonstrate potential for future leadership roles</a:t>
            </a: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Role for Clinician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Rounded MT Bold"/>
              </a:rPr>
              <a:t>Physicians are now engaged</a:t>
            </a: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Rounded MT Bold"/>
              </a:rPr>
              <a:t>New BT grant requires planning and advisory committees</a:t>
            </a: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Rounded MT Bold"/>
              </a:rPr>
              <a:t>Coordination with local and State medical societies requires further strengthening</a:t>
            </a: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Rounded MT Bold"/>
              </a:rPr>
              <a:t>Recruitment/involvement with MMRS</a:t>
            </a: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Testing the System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Rounded MT Bold"/>
              </a:rPr>
              <a:t>April 12 and 13, the Oklahoma State Department of Health (OSDH) staged largest BT exercise ever</a:t>
            </a: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Rounded MT Bold"/>
              </a:rPr>
              <a:t>Blueprint and lessons will be available for others to use across the country</a:t>
            </a: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Rounded MT Bold"/>
              </a:rPr>
              <a:t>Planning activities and exercises are the best methods to test systems responsiveness</a:t>
            </a: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Rounded MT Bold"/>
              </a:rPr>
              <a:t>Employ hackers to test security</a:t>
            </a: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Rounded MT Bold"/>
              </a:rPr>
              <a:t>IT system redundancy test</a:t>
            </a: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 Black"/>
              </a:rPr>
              <a:t>Preparing for Bioterrorism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 Rounded MT Bold"/>
              </a:rPr>
              <a:t>State and local task forces in virtually every health jurisdiction</a:t>
            </a: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 Rounded MT Bold"/>
              </a:rPr>
              <a:t>Involvement with Gubernatorial and Legislative task forces</a:t>
            </a: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 Rounded MT Bold"/>
              </a:rPr>
              <a:t>ASTHO and NACCHO have provided tools, recommendations, and enhanced Web sites</a:t>
            </a: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 Rounded MT Bold"/>
              </a:rPr>
              <a:t>CDC BT grants</a:t>
            </a: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 Rounded MT Bold"/>
              </a:rPr>
              <a:t>Enhanced surveillance</a:t>
            </a: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 Black"/>
              </a:rPr>
              <a:t>Public Health and Clinical Medicin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 Rounded MT Bold"/>
              </a:rPr>
              <a:t>Renewed appreciation of the importance the public health system plays in protecting our communities</a:t>
            </a: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 Rounded MT Bold"/>
              </a:rPr>
              <a:t>Better understanding of the need for disease surveillance and reporting systems</a:t>
            </a: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 Rounded MT Bold"/>
              </a:rPr>
              <a:t>Willing participant now in BT and other related advisory groups</a:t>
            </a: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2T16:59:04Z</dcterms:created>
  <dc:creator>LMBeitsch</dc:creator>
  <dc:description/>
  <dc:language>en-US</dc:language>
  <cp:lastModifiedBy>Steve Seitz</cp:lastModifiedBy>
  <cp:lastPrinted>2002-04-16T16:48:35Z</cp:lastPrinted>
  <dcterms:modified xsi:type="dcterms:W3CDTF">2002-05-31T20:01:59Z</dcterms:modified>
  <cp:revision>18</cp:revision>
  <dc:subject/>
  <dc:title>Before Sept 11, what efforts had the health departments made to reach the medical commuhnity on BT related issues?</dc:title>
</cp:coreProperties>
</file>