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702-08D7-478C-8FFB-2BDE59C1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402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3F3-AB75-4FC9-8925-83CD4ED4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402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402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F85-C5ED-46A6-B7EA-C5B644F6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402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402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402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A80-2CE0-4571-8253-1BFA58E8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ED50-D0F1-4256-8061-E3068B5A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0F6C-0425-4465-9899-7B8BB1E2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9730-AEB0-4482-B844-C5F0BFCA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00AC-3B45-46F7-9475-581CE159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028B-740B-4BF4-8448-7BC6772A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66B7-D0B9-463C-AA54-BA8B7ACF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0402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FFD7-4D2E-46A7-AC92-DB5D448F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B85D-61B7-4631-AED4-0201615E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0402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A967-5234-46EC-A965-61A4F1B2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0402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3F77-6407-439F-8D44-FC224F44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0402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E59A-92D6-47FC-9366-F583EB6C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0402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0402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8AC7-5E75-42B0-B91A-8622DEFF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0402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0402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0402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97AF-078F-4DEC-B9B1-901FEC58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C7DC-E405-403D-B704-4F226F91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C84-AE5A-46CB-922E-19D33997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DDA8-5BF0-4BDB-80F1-19825F06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A31F-B658-4786-8563-304A7DF6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402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4FC-0254-496B-844A-3214DAC6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402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793-6591-4095-9251-0F620D4B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402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356A-C732-422C-A2B1-558743DC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57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5000" y="1676520"/>
            <a:ext cx="8856720" cy="144360"/>
          </a:xfrm>
          <a:prstGeom prst="rect">
            <a:avLst/>
          </a:prstGeom>
          <a:solidFill>
            <a:srgbClr val="8381b3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31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3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73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447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31616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858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572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1286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98680" y="1617840"/>
            <a:ext cx="2732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6719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9415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2130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4844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7544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  <a:p>
            <a:pPr lvl="1" marL="623880" indent="-239760">
              <a:spcBef>
                <a:spcPts val="799"/>
              </a:spcBef>
              <a:buClr>
                <a:srgbClr val="eaeaea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  <a:p>
            <a:pPr lvl="2" marL="960120" indent="-191880">
              <a:spcBef>
                <a:spcPts val="799"/>
              </a:spcBef>
              <a:buClr>
                <a:srgbClr val="dddddd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  <a:p>
            <a:pPr lvl="3" marL="1343880" indent="-191880">
              <a:spcBef>
                <a:spcPts val="799"/>
              </a:spcBef>
              <a:buClr>
                <a:srgbClr val="dddddd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  <a:p>
            <a:pPr lvl="4" marL="1728000" indent="-191880">
              <a:spcBef>
                <a:spcPts val="799"/>
              </a:spcBef>
              <a:buClr>
                <a:srgbClr val="dddddd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  <a:p>
            <a:pPr lvl="5" marL="1728000" indent="-191880">
              <a:spcBef>
                <a:spcPts val="799"/>
              </a:spcBef>
              <a:buClr>
                <a:srgbClr val="cbcbcb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  <a:p>
            <a:pPr lvl="6" marL="1728000" indent="-191880">
              <a:spcBef>
                <a:spcPts val="799"/>
              </a:spcBef>
              <a:buClr>
                <a:srgbClr val="cbcbcb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499F-39F6-45DF-A67C-3D07E3D9D4FB}" type="slidenum"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0" y="19684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4027320" y="1617840"/>
            <a:ext cx="2718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4299120" y="1617840"/>
            <a:ext cx="2696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45687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48402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511164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3816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56530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592452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6194520" y="1617840"/>
            <a:ext cx="27288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46740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73740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700884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28028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75502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781848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08992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361360" y="1617840"/>
            <a:ext cx="27000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631360" y="1617840"/>
            <a:ext cx="271440" cy="269640"/>
          </a:xfrm>
          <a:prstGeom prst="diamond">
            <a:avLst/>
          </a:prstGeom>
          <a:solidFill>
            <a:srgbClr val="5b6192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1981080"/>
            <a:ext cx="9142560" cy="1371600"/>
            <a:chOff x="0" y="1981080"/>
            <a:chExt cx="9142560" cy="1371600"/>
          </a:xfrm>
        </p:grpSpPr>
        <p:sp>
          <p:nvSpPr>
            <p:cNvPr id="78" name=""/>
            <p:cNvSpPr/>
            <p:nvPr/>
          </p:nvSpPr>
          <p:spPr>
            <a:xfrm>
              <a:off x="0" y="3124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981080"/>
              <a:ext cx="9142560" cy="228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C766-39DF-43DB-9015-B951CDDDAC37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Arial Rounded MT Bold"/>
            </a:endParaRPr>
          </a:p>
          <a:p>
            <a:pPr lvl="2" marL="914400" algn="ctr">
              <a:spcBef>
                <a:spcPts val="601"/>
              </a:spcBef>
              <a:buClr>
                <a:srgbClr val="dddddd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dddddd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dddddd"/>
              </a:buClr>
              <a:buFont typeface="Arial Rounded MT Bol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cbcbcb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cbcbcb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Promoting Clinician Readines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33160" y="3809520"/>
            <a:ext cx="5181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Leslie Beitsch, M.D., J.D.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 Rounded MT Bold"/>
              </a:rPr>
              <a:t>Commissioner and State Health Officer</a:t>
            </a:r>
            <a:endParaRPr b="0" lang="en-US" sz="1800" spc="-1" strike="noStrike">
              <a:solidFill>
                <a:srgbClr val="dddddd"/>
              </a:solidFill>
              <a:latin typeface="Arial Rounded MT Bold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 Rounded MT Bold"/>
              </a:rPr>
              <a:t>Oklahoma State Department of Health</a:t>
            </a:r>
            <a:endParaRPr b="0" lang="en-US" sz="1800" spc="-1" strike="noStrike">
              <a:solidFill>
                <a:srgbClr val="dddddd"/>
              </a:solidFill>
              <a:latin typeface="Arial Rounded MT Bold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 Rounded MT Bol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ddddd"/>
              </a:solidFill>
              <a:latin typeface="Arial Rounded MT Bold"/>
            </a:endParaRPr>
          </a:p>
        </p:txBody>
      </p:sp>
      <p:pic>
        <p:nvPicPr>
          <p:cNvPr id="139" name="Beitsch_photo" descr=""/>
          <p:cNvPicPr/>
          <p:nvPr/>
        </p:nvPicPr>
        <p:blipFill>
          <a:blip r:embed="rId1"/>
          <a:srcRect l="2584" t="0" r="1778" b="13738"/>
          <a:stretch/>
        </p:blipFill>
        <p:spPr>
          <a:xfrm>
            <a:off x="5791320" y="3352680"/>
            <a:ext cx="2819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Model Emergency Health Powers Ac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Act is attempt to codify the various powers and authorities needed to respond to the most catastrophic public health events (BT)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Private sector may  be called upon to assist governmental public health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Hospitals and other facilities may be “statecized”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Conceivably clinicians could be asked to practice in adjacent jurisdiction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oordination with Tribal Government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Coordination required under the terms of the new CDC grant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Oklahoma example: 39 federally recognized tribes  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Short-term approach:  include Bureau of Indian Health (BIH) in advisory group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Expand to all interested participants in the long-term planning proces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vailable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All States recently completed a Department of Justice (DOJ) survey, with results now available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National Public Health Performance Standards look at broad public health systems capabiliti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Reconcile laws in jurisdiction with Model Emergency Health Powers Act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Lessons Learne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Build close working relationships with clinical colleagues before threatened BT event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39480" indent="-3394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Use HAN resources to tie clinicians into public health network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39480" indent="-3394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Examine disease reporting and surveillance systems from perspective of the “user” and lower barriers to easy accessibility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39480" indent="-3394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Improve web sites so that clinicians seeking information can obtain it rapidly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39480" indent="-3394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Anticipate ongoing educational needs, and use CME as a carrot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Efforts by Health Department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271240"/>
            <a:ext cx="7772400" cy="33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Over the past 3 years, many State health departments were recipients of CDC sponsored bioterrorism (BT) grant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Grantees made concerted outreach efforts to clinical practitioner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Strengthening the Health Alert Network (HAN) included coordination with local and State medical societies 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"/>
              </a:rPr>
              <a:t>Establishing ties with Metropolitan Medical Response System (MMRS)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 Black"/>
              </a:rPr>
              <a:t>Clinician Needs after 9/11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Definitive information on BT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Diagnostic criteria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Surveillance and reporting primer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State and local medical societies wanted greater participation in the BT planning and advisory process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Engaging Clinicia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 Rounded MT Bold"/>
              </a:rPr>
              <a:t>Have a BT event… it creates the teachable moment</a:t>
            </a:r>
            <a:endParaRPr b="0" lang="en-US" sz="2200" spc="-1" strike="noStrike">
              <a:solidFill>
                <a:srgbClr val="dddddd"/>
              </a:solidFill>
              <a:latin typeface="Arial Rounded MT Bold"/>
            </a:endParaRPr>
          </a:p>
          <a:p>
            <a:pPr marL="332640" indent="-332640">
              <a:spcBef>
                <a:spcPts val="550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 Rounded MT Bold"/>
              </a:rPr>
              <a:t>Clinicians without further prodding will seek to enhance their competency in diagnosing BT related illnesses</a:t>
            </a:r>
            <a:endParaRPr b="0" lang="en-US" sz="2200" spc="-1" strike="noStrike">
              <a:solidFill>
                <a:srgbClr val="dddddd"/>
              </a:solidFill>
              <a:latin typeface="Arial Rounded MT Bold"/>
            </a:endParaRPr>
          </a:p>
          <a:p>
            <a:pPr marL="332640" indent="-332640">
              <a:spcBef>
                <a:spcPts val="550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 Rounded MT Bold"/>
              </a:rPr>
              <a:t>Modest educational efforts will pay immediate dividends by raising the clinical  index of suspicion</a:t>
            </a:r>
            <a:endParaRPr b="0" lang="en-US" sz="2200" spc="-1" strike="noStrike">
              <a:solidFill>
                <a:srgbClr val="dddddd"/>
              </a:solidFill>
              <a:latin typeface="Arial Rounded MT Bold"/>
            </a:endParaRPr>
          </a:p>
          <a:p>
            <a:pPr marL="332640" indent="-332640">
              <a:spcBef>
                <a:spcPts val="550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 Rounded MT Bold"/>
              </a:rPr>
              <a:t>Reminding medical societies and individual physicians of legal duty to report diseases (e.g., anthrax, etc.)</a:t>
            </a:r>
            <a:endParaRPr b="0" lang="en-US" sz="2200" spc="-1" strike="noStrike">
              <a:solidFill>
                <a:srgbClr val="dddddd"/>
              </a:solidFill>
              <a:latin typeface="Arial Rounded MT Bold"/>
            </a:endParaRPr>
          </a:p>
          <a:p>
            <a:pPr marL="332640" indent="-332640">
              <a:spcBef>
                <a:spcPts val="550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ddddd"/>
                </a:solidFill>
                <a:latin typeface="Arial Rounded MT Bold"/>
              </a:rPr>
              <a:t>Reducing barriers to simplified reporting (e.g., electronic disease reporting) </a:t>
            </a:r>
            <a:endParaRPr b="0" lang="en-US" sz="2200" spc="-1" strike="noStrike">
              <a:solidFill>
                <a:srgbClr val="dddddd"/>
              </a:solidFill>
              <a:latin typeface="Arial Rounded MT Bold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 Black"/>
              </a:rPr>
              <a:t>Steps for State and Local Health Department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Build a systemic response to BT event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Provide education and training to the entire public health workforce, not only staff with day-to-day BT responsibiliti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Enhance epidemiology, biostatistics, microbiology, and communication skills through core courses, seminars, and distance learning technologi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Offer graduate education for selected staff who demonstrate potential for future leadership rol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Role for Clinicia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Physicians are now engaged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New BT grant requires planning and advisory committe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Coordination with local and State medical societies requires further strengthening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Recruitment/involvement with MMR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Testing the System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April 12 and 13, the Oklahoma State Department of Health (OSDH) staged largest BT exercise ever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Blueprint and lessons will be available for others to use across the country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Planning activities and exercises are the best methods to test systems responsivenes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Employ hackers to test security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Rounded MT Bold"/>
              </a:rPr>
              <a:t>IT system redundancy test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Preparing for Bioterrorism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State and local task forces in virtually every health jurisdiction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Involvement with Gubernatorial and Legislative task forc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ASTHO and NACCHO have provided tools, recommendations, and enhanced Web sit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CDC BT grant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Enhanced surveillance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 Black"/>
              </a:rPr>
              <a:t>Public Health and Clinical Medic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Renewed appreciation of the importance the public health system plays in protecting our communitie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Better understanding of the need for disease surveillance and reporting system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ddd"/>
                </a:solidFill>
                <a:latin typeface="Arial Rounded MT Bold"/>
              </a:rPr>
              <a:t>Willing participant now in BT and other related advisory groups</a:t>
            </a:r>
            <a:endParaRPr b="0" lang="en-US" sz="2400" spc="-1" strike="noStrike">
              <a:solidFill>
                <a:srgbClr val="dddddd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16:59:04Z</dcterms:created>
  <dc:creator>LMBeitsch</dc:creator>
  <dc:description/>
  <dc:language>en-US</dc:language>
  <cp:lastModifiedBy>Steve Seitz</cp:lastModifiedBy>
  <cp:lastPrinted>2002-04-16T16:48:35Z</cp:lastPrinted>
  <dcterms:modified xsi:type="dcterms:W3CDTF">2002-05-31T20:01:59Z</dcterms:modified>
  <cp:revision>18</cp:revision>
  <dc:subject/>
  <dc:title>Before Sept 11, what efforts had the health departments made to reach the medical commuhnity on BT related issues?</dc:title>
</cp:coreProperties>
</file>