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9A6E-955B-4E5B-99BD-6E8C2C05E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F84D-BB25-40FC-83F2-CC95CA21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C44C-C016-4F8F-B737-EA832731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973F-EACE-4B90-A60D-35DE75C3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8FC2-323A-4737-8C52-A57CEADD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784C-397C-4C16-ABB2-7B8070D0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960F-6A28-4AB1-9970-4D2EF1A0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90BF-FCF3-4DF2-9C94-B9DE5A94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2E52-624F-4E1F-A1AA-66D6C023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F471-2EF7-41E4-A97F-5DEC900E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66C5-62F9-4F35-A941-5F58EEEE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4C77-2DBD-4C83-BF23-DE44EB1D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4F1C-A26E-436F-8C93-AE963C69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326B-D01A-411E-9851-9428F4EC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61E0-CD41-4CE4-8210-A168B6F1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9AEA-467C-4785-BB38-9881703A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6367-0AB3-4EDB-B0D6-1ECCABE4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74BF-6D2F-4DAA-BE1E-BA1097BB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2A23-EE99-4337-BD78-0AEB5053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E1A3-7E78-42AF-9E3A-762644BD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94E5-D934-4672-B8B7-2AD2B6F4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6A83-9B61-47B7-9BE8-E10A18DC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0E51-C26C-42F1-AE77-B6B2DA0A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59B7-3176-4D90-A995-4773A546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6378-237C-4591-9A36-AFDE1688BB8E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4CC3-D2E8-4ECB-A5A9-50E6312D42A7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1760" y="480600"/>
            <a:ext cx="85341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Tahoma"/>
              </a:rPr>
              <a:t>Enhancing Public Health, Health Care System, and Clinician Preparedness:  Strategies to Promote Coordination and Communication</a:t>
            </a:r>
            <a:endParaRPr b="0" lang="en-US" sz="40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17160" y="3013200"/>
            <a:ext cx="5638680" cy="175248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rc Overhage, M.D., Ph.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Associate Professor of Medicine and Investigator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Regenstrief Institute for Health Care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ahoma"/>
              </a:rPr>
              <a:t>Indiana University School of Medicine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overhage" descr=""/>
          <p:cNvPicPr/>
          <p:nvPr/>
        </p:nvPicPr>
        <p:blipFill>
          <a:blip r:embed="rId1"/>
          <a:stretch/>
        </p:blipFill>
        <p:spPr>
          <a:xfrm>
            <a:off x="5651640" y="2998800"/>
            <a:ext cx="2941560" cy="3408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2520" y="4646520"/>
            <a:ext cx="484812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Indiana Network for Patient Car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600"/>
            </a:br>
            <a:r>
              <a:rPr b="1" lang="en-US" sz="2000" spc="-1" strike="noStrike">
                <a:solidFill>
                  <a:srgbClr val="cc9900"/>
                </a:solidFill>
                <a:latin typeface="Tahoma"/>
              </a:rPr>
              <a:t>An </a:t>
            </a:r>
            <a:r>
              <a:rPr b="1" lang="en-US" sz="2000" spc="-1" strike="noStrike" u="sng">
                <a:solidFill>
                  <a:srgbClr val="cc9900"/>
                </a:solidFill>
                <a:uFillTx/>
                <a:latin typeface="Tahoma"/>
              </a:rPr>
              <a:t>operational</a:t>
            </a:r>
            <a:r>
              <a:rPr b="1" lang="en-US" sz="2000" spc="-1" strike="noStrike">
                <a:solidFill>
                  <a:srgbClr val="cc9900"/>
                </a:solidFill>
                <a:latin typeface="Tahoma"/>
              </a:rPr>
              <a:t> community-wide electronic medical record</a:t>
            </a:r>
            <a:r>
              <a:rPr b="1" lang="en-US" sz="1600" spc="-1" strike="noStrike">
                <a:solidFill>
                  <a:srgbClr val="cc9900"/>
                </a:solidFill>
                <a:latin typeface="Tahoma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nical Information Standard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ealth Level 7 (HL7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igital Imaging and Communications in Medicine (DICOM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ogical Object Identifier and Numerical Code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(LONIC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9900"/>
                </a:solidFill>
                <a:latin typeface="Tahoma"/>
              </a:rPr>
              <a:t>Public health to provider communication</a:t>
            </a:r>
            <a:endParaRPr b="0" lang="en-US" sz="3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creening reminder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yphillis screening for high-risk patien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tool cultures for patients with diarrhea during outbreak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utbreak alerti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Barriers encountered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btaining cooper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ustaining focu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consistency of data representation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odifying workflow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INPC timelin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65040" y="2428920"/>
            <a:ext cx="8097840" cy="3502440"/>
            <a:chOff x="365040" y="2428920"/>
            <a:chExt cx="8097840" cy="3502440"/>
          </a:xfrm>
        </p:grpSpPr>
        <p:sp>
          <p:nvSpPr>
            <p:cNvPr id="164" name=""/>
            <p:cNvSpPr/>
            <p:nvPr/>
          </p:nvSpPr>
          <p:spPr>
            <a:xfrm>
              <a:off x="365040" y="5023080"/>
              <a:ext cx="7586640" cy="671400"/>
            </a:xfrm>
            <a:prstGeom prst="rightArrow">
              <a:avLst>
                <a:gd name="adj1" fmla="val 44583"/>
                <a:gd name="adj2" fmla="val 10755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1560" y="5665320"/>
              <a:ext cx="50184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854400" y="5662440"/>
              <a:ext cx="50184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8040" y="5665320"/>
              <a:ext cx="50184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17280" y="3295440"/>
              <a:ext cx="819720" cy="94824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680" rIns="6768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ivate WAN in place to all sit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34800" y="2428920"/>
              <a:ext cx="819720" cy="81648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680" rIns="6768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sent forms in plac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99160" y="3318120"/>
              <a:ext cx="819720" cy="9255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680" rIns="6768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l EDs receiving printed abstra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31160" y="3304440"/>
              <a:ext cx="956880" cy="93924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680" rIns="6768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lobal INQ software complet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99000" y="3295440"/>
              <a:ext cx="819720" cy="53712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680" rIns="6768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CT started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41280" y="3336840"/>
              <a:ext cx="921600" cy="99864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7680" rIns="67680" tIns="33840" bIns="338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nimum dataset from everyon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reating cooperation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hared vis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rus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Neutral part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Security/Confidentiality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22160" y="1557360"/>
            <a:ext cx="784224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gent of State Department of Health under Memorandum of Understanding (MOU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rivate network (moving to Virtual Private Network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ncrypted file transfe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ntrolled database acces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ocation linked IP addres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User name/passwor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Suppor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69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unding from Federal agenci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ational Library of Medicin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gency for Healthcare Research and Qualit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-kind support from hospital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308240" y="174600"/>
            <a:ext cx="6573600" cy="6573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INPC database organization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719280" y="1424160"/>
            <a:ext cx="7696080" cy="46717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90760" y="1811160"/>
            <a:ext cx="890640" cy="1030320"/>
          </a:xfrm>
          <a:prstGeom prst="flowChartMagneticDisk">
            <a:avLst/>
          </a:prstGeom>
          <a:solidFill>
            <a:srgbClr val="cc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ncent’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05680" y="2112840"/>
            <a:ext cx="890280" cy="1030320"/>
          </a:xfrm>
          <a:prstGeom prst="flowChartMagneticDisk">
            <a:avLst/>
          </a:prstGeom>
          <a:solidFill>
            <a:srgbClr val="cc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spit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92280" y="4651200"/>
            <a:ext cx="890640" cy="1030320"/>
          </a:xfrm>
          <a:prstGeom prst="flowChartMagneticDisk">
            <a:avLst/>
          </a:prstGeom>
          <a:solidFill>
            <a:srgbClr val="cc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sha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35240" y="3984480"/>
            <a:ext cx="890280" cy="1030320"/>
          </a:xfrm>
          <a:prstGeom prst="flowChartMagneticDisk">
            <a:avLst/>
          </a:prstGeom>
          <a:solidFill>
            <a:srgbClr val="cc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ri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al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681960" y="1068120"/>
            <a:ext cx="823680" cy="1236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2182680" y="885960"/>
            <a:ext cx="641520" cy="1100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00120" y="5022720"/>
            <a:ext cx="1100160" cy="1168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843160" y="5702400"/>
            <a:ext cx="755640" cy="869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89480" y="2770200"/>
            <a:ext cx="1649160" cy="1649520"/>
          </a:xfrm>
          <a:prstGeom prst="flowChartMagneticDisk">
            <a:avLst/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lob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t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de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63680" y="3084480"/>
            <a:ext cx="890640" cy="1030320"/>
          </a:xfrm>
          <a:prstGeom prst="flowChartMagneticDisk">
            <a:avLst/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ictiona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11800" y="4672080"/>
            <a:ext cx="890640" cy="1030320"/>
          </a:xfrm>
          <a:prstGeom prst="flowChartMagneticDisk">
            <a:avLst/>
          </a:prstGeom>
          <a:solidFill>
            <a:srgbClr val="cc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CH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88120" y="3046320"/>
            <a:ext cx="890280" cy="1030320"/>
          </a:xfrm>
          <a:prstGeom prst="flowChartMagneticDisk">
            <a:avLst/>
          </a:prstGeom>
          <a:solidFill>
            <a:srgbClr val="8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Glob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oc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032680" y="4622760"/>
            <a:ext cx="890640" cy="1030320"/>
          </a:xfrm>
          <a:prstGeom prst="flowChartMagneticDisk">
            <a:avLst/>
          </a:prstGeom>
          <a:solidFill>
            <a:srgbClr val="cc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porta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305080" y="5692320"/>
            <a:ext cx="619200" cy="893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0200" y="4309920"/>
            <a:ext cx="890280" cy="1030320"/>
          </a:xfrm>
          <a:prstGeom prst="flowChartMagneticDisk">
            <a:avLst/>
          </a:prstGeom>
          <a:solidFill>
            <a:srgbClr val="cc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anc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09920" y="5326200"/>
            <a:ext cx="755640" cy="869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77840" y="2727360"/>
            <a:ext cx="890640" cy="1030320"/>
          </a:xfrm>
          <a:prstGeom prst="flowChartMagneticDisk">
            <a:avLst/>
          </a:prstGeom>
          <a:solidFill>
            <a:srgbClr val="cc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790560" y="2244600"/>
            <a:ext cx="720720" cy="657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29600" y="3073320"/>
            <a:ext cx="890640" cy="1030320"/>
          </a:xfrm>
          <a:prstGeom prst="flowChartMagneticDisk">
            <a:avLst/>
          </a:prstGeom>
          <a:solidFill>
            <a:srgbClr val="cc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no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7763040" y="2360160"/>
            <a:ext cx="342720" cy="887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98880" y="4751280"/>
            <a:ext cx="890640" cy="1030320"/>
          </a:xfrm>
          <a:prstGeom prst="flowChartMagneticDisk">
            <a:avLst/>
          </a:prstGeom>
          <a:solidFill>
            <a:srgbClr val="cc99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bCor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67240" y="5796000"/>
            <a:ext cx="42840" cy="657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Minimum data se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Emergency Department visi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ospital Discharg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aboratory Resul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Expanded data se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28440" y="168444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inimum data set plus: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dmission notes/Discharge summari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Operative Repor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adiology Repor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urgical Pathology Repor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patient Medica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umor Registr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Electronic reporting flow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03120" y="2571480"/>
            <a:ext cx="1532160" cy="825480"/>
          </a:xfrm>
          <a:prstGeom prst="flowChartProcess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L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56000" y="2552400"/>
            <a:ext cx="1519200" cy="825480"/>
          </a:xfrm>
          <a:prstGeom prst="flowChartProcess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terface 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1440" y="2481480"/>
            <a:ext cx="1670040" cy="1008720"/>
          </a:xfrm>
          <a:prstGeom prst="flowChartProcess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Reportable Cond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Process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22" idx="2"/>
          </p:cNvCxnSpPr>
          <p:nvPr/>
        </p:nvCxnSpPr>
        <p:spPr>
          <a:xfrm>
            <a:off x="3315960" y="3414240"/>
            <a:ext cx="1080" cy="3135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125" name=""/>
          <p:cNvSpPr/>
          <p:nvPr/>
        </p:nvSpPr>
        <p:spPr>
          <a:xfrm>
            <a:off x="2656800" y="3716280"/>
            <a:ext cx="1239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Hospi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104240" y="2481480"/>
            <a:ext cx="1670040" cy="1008720"/>
          </a:xfrm>
          <a:prstGeom prst="flowChartProcess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Report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Cond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Datab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3" idx="3"/>
            <a:endCxn id="126" idx="1"/>
          </p:cNvCxnSpPr>
          <p:nvPr/>
        </p:nvCxnSpPr>
        <p:spPr>
          <a:xfrm>
            <a:off x="6640200" y="2985840"/>
            <a:ext cx="44532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</p:cxnSp>
      <p:grpSp>
        <p:nvGrpSpPr>
          <p:cNvPr id="128" name=""/>
          <p:cNvGrpSpPr/>
          <p:nvPr/>
        </p:nvGrpSpPr>
        <p:grpSpPr>
          <a:xfrm>
            <a:off x="3753000" y="2714760"/>
            <a:ext cx="1626840" cy="620640"/>
            <a:chOff x="3753000" y="2714760"/>
            <a:chExt cx="1626840" cy="620640"/>
          </a:xfrm>
        </p:grpSpPr>
        <p:cxnSp>
          <p:nvCxnSpPr>
            <p:cNvPr id="129" name=""/>
            <p:cNvCxnSpPr>
              <a:stCxn id="122" idx="3"/>
              <a:endCxn id="123" idx="1"/>
            </p:cNvCxnSpPr>
            <p:nvPr/>
          </p:nvCxnSpPr>
          <p:spPr>
            <a:xfrm>
              <a:off x="4103280" y="2984040"/>
              <a:ext cx="860760" cy="252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130" name=""/>
            <p:cNvSpPr/>
            <p:nvPr/>
          </p:nvSpPr>
          <p:spPr>
            <a:xfrm>
              <a:off x="3757320" y="2714760"/>
              <a:ext cx="162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HL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53000" y="2967120"/>
              <a:ext cx="162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Intra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38120" y="2697120"/>
            <a:ext cx="1746360" cy="633600"/>
            <a:chOff x="1338120" y="2697120"/>
            <a:chExt cx="1746360" cy="633600"/>
          </a:xfrm>
        </p:grpSpPr>
        <p:cxnSp>
          <p:nvCxnSpPr>
            <p:cNvPr id="133" name=""/>
            <p:cNvCxnSpPr>
              <a:stCxn id="121" idx="3"/>
              <a:endCxn id="122" idx="1"/>
            </p:cNvCxnSpPr>
            <p:nvPr/>
          </p:nvCxnSpPr>
          <p:spPr>
            <a:xfrm>
              <a:off x="1854360" y="2984040"/>
              <a:ext cx="68292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134" name=""/>
            <p:cNvSpPr/>
            <p:nvPr/>
          </p:nvSpPr>
          <p:spPr>
            <a:xfrm>
              <a:off x="1484280" y="2697120"/>
              <a:ext cx="145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HL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38120" y="2962440"/>
              <a:ext cx="174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L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4322880" y="1749600"/>
            <a:ext cx="0" cy="244944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88080" y="4811760"/>
            <a:ext cx="1320480" cy="750960"/>
          </a:xfr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ospi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Fire W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71520" y="2162160"/>
            <a:ext cx="7564320" cy="3763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99120" y="3965400"/>
            <a:ext cx="2082960" cy="1284120"/>
          </a:xfrm>
          <a:prstGeom prst="rightArrow">
            <a:avLst>
              <a:gd name="adj1" fmla="val 50000"/>
              <a:gd name="adj2" fmla="val 40552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To Infe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Cont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Reportable condition processor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65160" y="3245760"/>
            <a:ext cx="1685160" cy="1650240"/>
          </a:xfrm>
          <a:prstGeom prst="rightArrow">
            <a:avLst>
              <a:gd name="adj1" fmla="val 50000"/>
              <a:gd name="adj2" fmla="val 25529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b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HL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86840" y="3245760"/>
            <a:ext cx="2132640" cy="1650240"/>
          </a:xfrm>
          <a:prstGeom prst="rightArrow">
            <a:avLst>
              <a:gd name="adj1" fmla="val 50000"/>
              <a:gd name="adj2" fmla="val 32308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otentia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Repor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7320" y="3245760"/>
            <a:ext cx="2132640" cy="1650240"/>
          </a:xfrm>
          <a:prstGeom prst="rightArrow">
            <a:avLst>
              <a:gd name="adj1" fmla="val 50000"/>
              <a:gd name="adj2" fmla="val 32308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Repor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n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88320" y="2552040"/>
            <a:ext cx="2066760" cy="1284480"/>
          </a:xfrm>
          <a:prstGeom prst="rightArrow">
            <a:avLst>
              <a:gd name="adj1" fmla="val 50000"/>
              <a:gd name="adj2" fmla="val 40226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To Publ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Heal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01840" y="3054960"/>
            <a:ext cx="1445760" cy="1737000"/>
          </a:xfrm>
          <a:prstGeom prst="flowChartMagneticDisk">
            <a:avLst/>
          </a:prstGeom>
          <a:solidFill>
            <a:srgbClr val="cc9900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Book Antiqua"/>
              </a:rPr>
              <a:t>Repor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Book Antiqua"/>
              </a:rPr>
              <a:t>Cond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Book Antiqua"/>
              </a:rPr>
              <a:t>Databa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81400" y="2238480"/>
            <a:ext cx="1898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Abnormal flag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Organism nam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in Dwyer II, Value above threshol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27440" y="2424240"/>
            <a:ext cx="219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Compare to Dwyer 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25080" y="5192640"/>
            <a:ext cx="178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Record Cou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as denomina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41840" y="1260720"/>
            <a:ext cx="2205000" cy="1128600"/>
          </a:xfrm>
          <a:prstGeom prst="upArrow">
            <a:avLst>
              <a:gd name="adj1" fmla="val 48306"/>
              <a:gd name="adj2" fmla="val 5599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E-ma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Summa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25880" y="1590840"/>
            <a:ext cx="0" cy="4600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9080" y="242424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Realti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77320" y="246852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Daily Bat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55800" y="5540040"/>
            <a:ext cx="2236320" cy="817920"/>
          </a:xfrm>
          <a:prstGeom prst="downArrow">
            <a:avLst>
              <a:gd name="adj1" fmla="val 47880"/>
              <a:gd name="adj2" fmla="val 44769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Pr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Repor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9900"/>
                </a:solidFill>
                <a:latin typeface="Tahoma"/>
              </a:rPr>
              <a:t>Provider to Public Health Communications</a:t>
            </a:r>
            <a:endParaRPr b="0" lang="en-US" sz="3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Doubled reporting completenes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educed reporting time lag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otential for syndromic surveillanc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03:41:07Z</dcterms:created>
  <dc:creator>J. Marc Overhage</dc:creator>
  <dc:description/>
  <dc:language>en-US</dc:language>
  <cp:lastModifiedBy>Steve Seitz</cp:lastModifiedBy>
  <cp:lastPrinted>2002-04-15T18:07:08Z</cp:lastPrinted>
  <dcterms:modified xsi:type="dcterms:W3CDTF">2002-05-31T19:59:02Z</dcterms:modified>
  <cp:revision>97</cp:revision>
  <dc:subject/>
  <dc:title>INPC: Public Health</dc:title>
</cp:coreProperties>
</file>