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E27-6307-45D5-A001-627B63BE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387-64AC-4269-979A-0B92B0AA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B8C-D0CA-403E-9811-F8B4842C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DAE-2D61-4B45-B54B-06928835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173-6E7A-467E-A118-03D2A7D5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3998-3E3D-43F1-90FE-8BB329E2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D34-3FE7-46F0-8C97-F080ECD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0F9B-9B76-49DC-B264-9538A3DA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A6F-7341-4FAD-8D1D-1949B7D8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BF72-97D1-4541-8589-12EA4123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311A-0C25-435C-8ADE-C6C1710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2FE-4A98-497A-B566-6B4106F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1095-D762-48ED-8AC2-7CB15D50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AD7-5998-4B68-9BE2-81D679D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567-C273-4C4B-BE01-26565A6E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3FB5-DF16-4437-8AB8-C3A441C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1AD-507F-4369-AB56-A6B57478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FA3-7AE1-4C30-ACDB-B53A571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7C1-0345-40F4-A850-34A5C204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0C1-D1CA-4097-A161-563A72A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7E5-7DFD-4B89-8201-78F086D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1CD-3AAB-4A3F-B1C0-7E4A549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0E0-D33C-4500-8BF1-7202161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3BA-D540-416D-814A-62974FB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D71B-6AD0-4661-819B-A388C20E1AA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018-F600-4A6C-9681-3B0F0124C6A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1760" y="48060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Enhancing Public Health, Health Care System, and Clinician Preparedness:  Strategies to Promote Coordination and Communication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17160" y="3013200"/>
            <a:ext cx="563868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c Overhage, M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ssociate Professor of Medicine and Investigato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egenstrief Institute for Health Car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ndiana University School of Medic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overhage" descr=""/>
          <p:cNvPicPr/>
          <p:nvPr/>
        </p:nvPicPr>
        <p:blipFill>
          <a:blip r:embed="rId1"/>
          <a:stretch/>
        </p:blipFill>
        <p:spPr>
          <a:xfrm>
            <a:off x="5651640" y="2998800"/>
            <a:ext cx="2941560" cy="340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2520" y="4646520"/>
            <a:ext cx="48481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Indiana Network for Patient Car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Tahoma"/>
              </a:rPr>
              <a:t>operational</a:t>
            </a: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 community-wide electronic medical record</a:t>
            </a:r>
            <a:r>
              <a:rPr b="1" lang="en-US" sz="1600" spc="-1" strike="noStrike">
                <a:solidFill>
                  <a:srgbClr val="cc9900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nical Information Standar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alth Level 7 (HL7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gital Imaging and Communications in Medicine (DICO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gical Object Identifier and Numerical Cod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LONIC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Public health to provider communication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reening remind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phillis screening for high-risk pati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ool cultures for patients with diarrhea during outbrea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utbreak aler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arriers encounter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btaining coope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staining foc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onsistency of data represent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difying work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PC timelin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5040" y="2428920"/>
            <a:ext cx="8097840" cy="3502440"/>
            <a:chOff x="365040" y="2428920"/>
            <a:chExt cx="8097840" cy="3502440"/>
          </a:xfrm>
        </p:grpSpPr>
        <p:sp>
          <p:nvSpPr>
            <p:cNvPr id="164" name=""/>
            <p:cNvSpPr/>
            <p:nvPr/>
          </p:nvSpPr>
          <p:spPr>
            <a:xfrm>
              <a:off x="365040" y="5023080"/>
              <a:ext cx="7586640" cy="671400"/>
            </a:xfrm>
            <a:prstGeom prst="rightArrow">
              <a:avLst>
                <a:gd name="adj1" fmla="val 44583"/>
                <a:gd name="adj2" fmla="val 1075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1560" y="566532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4400" y="566244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040" y="566532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7280" y="3295440"/>
              <a:ext cx="819720" cy="948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vate WAN in place to all s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34800" y="2428920"/>
              <a:ext cx="819720" cy="816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ent forms in pl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9160" y="3318120"/>
              <a:ext cx="819720" cy="9255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 EDs receiving printed 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31160" y="3304440"/>
              <a:ext cx="956880" cy="939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 INQ software comple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99000" y="3295440"/>
              <a:ext cx="819720" cy="537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CT starte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1280" y="3336840"/>
              <a:ext cx="921600" cy="9986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imum dataset from every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reating cooper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ared v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u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utral par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ecurity/Confidentialit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1557360"/>
            <a:ext cx="7842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gent of State Department of Health under Memorandum of Understanding (MOU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vate network (moving to Virtual Private Network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crypted file transf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trolled database a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cation linked IP addr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r name/passw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uppor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unding from Federal agenc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ational Library of Medic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gency for Healthcare Research and Qua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-kind support from hospit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08240" y="174600"/>
            <a:ext cx="6573600" cy="657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PC database organiz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19280" y="1424160"/>
            <a:ext cx="7696080" cy="4671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90760" y="18111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ncent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211284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2280" y="465120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sh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5240" y="398448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r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81960" y="1068120"/>
            <a:ext cx="823680" cy="12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182680" y="885960"/>
            <a:ext cx="641520" cy="11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0120" y="5022720"/>
            <a:ext cx="1100160" cy="116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843160" y="5702400"/>
            <a:ext cx="75564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9480" y="2770200"/>
            <a:ext cx="1649160" cy="16495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3680" y="3084480"/>
            <a:ext cx="890640" cy="10303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ction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1800" y="467208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8120" y="3046320"/>
            <a:ext cx="890280" cy="10303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32680" y="46227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or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305080" y="5692320"/>
            <a:ext cx="619200" cy="89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0200" y="430992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nc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09920" y="5326200"/>
            <a:ext cx="75564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77840" y="27273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790560" y="2244600"/>
            <a:ext cx="720720" cy="65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29600" y="307332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763040" y="2360160"/>
            <a:ext cx="342720" cy="88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8880" y="475128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bCo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67240" y="5796000"/>
            <a:ext cx="42840" cy="65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inimum data se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mergency Department visi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spital Discharg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boratory Resul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Expanded data se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8440" y="16844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nimum data set plus: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mission notes/Discharge summar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perative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adiology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rgical Pathology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atient Medic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umor Regist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Electronic reporting flow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03120" y="2571480"/>
            <a:ext cx="1532160" cy="82548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2552400"/>
            <a:ext cx="1519200" cy="82548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face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1440" y="2481480"/>
            <a:ext cx="1670040" cy="100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portable Con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roc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2"/>
          </p:cNvCxnSpPr>
          <p:nvPr/>
        </p:nvCxnSpPr>
        <p:spPr>
          <a:xfrm>
            <a:off x="3315960" y="3414240"/>
            <a:ext cx="1080" cy="313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2656800" y="3716280"/>
            <a:ext cx="123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04240" y="2481480"/>
            <a:ext cx="1670040" cy="100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3"/>
            <a:endCxn id="126" idx="1"/>
          </p:cNvCxnSpPr>
          <p:nvPr/>
        </p:nvCxnSpPr>
        <p:spPr>
          <a:xfrm>
            <a:off x="6640200" y="2985840"/>
            <a:ext cx="4453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grpSp>
        <p:nvGrpSpPr>
          <p:cNvPr id="128" name=""/>
          <p:cNvGrpSpPr/>
          <p:nvPr/>
        </p:nvGrpSpPr>
        <p:grpSpPr>
          <a:xfrm>
            <a:off x="3753000" y="2714760"/>
            <a:ext cx="1626840" cy="620640"/>
            <a:chOff x="3753000" y="2714760"/>
            <a:chExt cx="1626840" cy="620640"/>
          </a:xfrm>
        </p:grpSpPr>
        <p:cxnSp>
          <p:nvCxnSpPr>
            <p:cNvPr id="129" name=""/>
            <p:cNvCxnSpPr>
              <a:stCxn id="122" idx="3"/>
              <a:endCxn id="123" idx="1"/>
            </p:cNvCxnSpPr>
            <p:nvPr/>
          </p:nvCxnSpPr>
          <p:spPr>
            <a:xfrm>
              <a:off x="4103280" y="2984040"/>
              <a:ext cx="8607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30" name=""/>
            <p:cNvSpPr/>
            <p:nvPr/>
          </p:nvSpPr>
          <p:spPr>
            <a:xfrm>
              <a:off x="3757320" y="271476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L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53000" y="296712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Intra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38120" y="2697120"/>
            <a:ext cx="1746360" cy="633600"/>
            <a:chOff x="1338120" y="2697120"/>
            <a:chExt cx="1746360" cy="633600"/>
          </a:xfrm>
        </p:grpSpPr>
        <p:cxnSp>
          <p:nvCxnSpPr>
            <p:cNvPr id="133" name=""/>
            <p:cNvCxnSpPr>
              <a:stCxn id="121" idx="3"/>
              <a:endCxn id="122" idx="1"/>
            </p:cNvCxnSpPr>
            <p:nvPr/>
          </p:nvCxnSpPr>
          <p:spPr>
            <a:xfrm>
              <a:off x="1854360" y="2984040"/>
              <a:ext cx="68292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34" name=""/>
            <p:cNvSpPr/>
            <p:nvPr/>
          </p:nvSpPr>
          <p:spPr>
            <a:xfrm>
              <a:off x="1484280" y="2697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L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38120" y="2962440"/>
              <a:ext cx="174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322880" y="174960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8080" y="4811760"/>
            <a:ext cx="1320480" cy="750960"/>
          </a:xfr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ire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1520" y="2162160"/>
            <a:ext cx="7564320" cy="376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9120" y="3965400"/>
            <a:ext cx="2082960" cy="1284120"/>
          </a:xfrm>
          <a:prstGeom prst="rightArrow">
            <a:avLst>
              <a:gd name="adj1" fmla="val 50000"/>
              <a:gd name="adj2" fmla="val 40552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portable condition process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5160" y="3245760"/>
            <a:ext cx="1685160" cy="1650240"/>
          </a:xfrm>
          <a:prstGeom prst="rightArrow">
            <a:avLst>
              <a:gd name="adj1" fmla="val 50000"/>
              <a:gd name="adj2" fmla="val 2552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L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6840" y="3245760"/>
            <a:ext cx="2132640" cy="1650240"/>
          </a:xfrm>
          <a:prstGeom prst="rightArrow">
            <a:avLst>
              <a:gd name="adj1" fmla="val 50000"/>
              <a:gd name="adj2" fmla="val 32308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otenti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7320" y="3245760"/>
            <a:ext cx="2132640" cy="1650240"/>
          </a:xfrm>
          <a:prstGeom prst="rightArrow">
            <a:avLst>
              <a:gd name="adj1" fmla="val 50000"/>
              <a:gd name="adj2" fmla="val 32308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88320" y="2552040"/>
            <a:ext cx="2066760" cy="1284480"/>
          </a:xfrm>
          <a:prstGeom prst="rightArrow">
            <a:avLst>
              <a:gd name="adj1" fmla="val 50000"/>
              <a:gd name="adj2" fmla="val 40226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Publ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01840" y="3054960"/>
            <a:ext cx="1445760" cy="1737000"/>
          </a:xfrm>
          <a:prstGeom prst="flowChartMagneticDisk">
            <a:avLst/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Repor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1400" y="2238480"/>
            <a:ext cx="189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bnormal flag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rganism n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 Dwyer II, Value above thresho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27440" y="2424240"/>
            <a:ext cx="219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mpare to Dwyer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5080" y="5192640"/>
            <a:ext cx="178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Record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s denomin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1840" y="1260720"/>
            <a:ext cx="2205000" cy="1128600"/>
          </a:xfrm>
          <a:prstGeom prst="upArrow">
            <a:avLst>
              <a:gd name="adj1" fmla="val 48306"/>
              <a:gd name="adj2" fmla="val 5599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-m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umm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5880" y="1590840"/>
            <a:ext cx="0" cy="460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080" y="242424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Real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77320" y="246852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aily B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5800" y="5540040"/>
            <a:ext cx="2236320" cy="817920"/>
          </a:xfrm>
          <a:prstGeom prst="downArrow">
            <a:avLst>
              <a:gd name="adj1" fmla="val 47880"/>
              <a:gd name="adj2" fmla="val 4476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Repo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Provider to Public Health Communications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ubled reporting completen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reporting time la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otential for syndromic surveilla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03:41:07Z</dcterms:created>
  <dc:creator>J. Marc Overhage</dc:creator>
  <dc:description/>
  <dc:language>en-US</dc:language>
  <cp:lastModifiedBy>Steve Seitz</cp:lastModifiedBy>
  <cp:lastPrinted>2002-04-15T18:07:08Z</cp:lastPrinted>
  <dcterms:modified xsi:type="dcterms:W3CDTF">2002-05-31T19:59:02Z</dcterms:modified>
  <cp:revision>97</cp:revision>
  <dc:subject/>
  <dc:title>INPC: Public Health</dc:title>
</cp:coreProperties>
</file>