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59560" y="5819760"/>
            <a:ext cx="1481040" cy="782280"/>
            <a:chOff x="7459560" y="5819760"/>
            <a:chExt cx="1481040" cy="782280"/>
          </a:xfrm>
        </p:grpSpPr>
        <p:sp>
          <p:nvSpPr>
            <p:cNvPr id="1" name=""/>
            <p:cNvSpPr/>
            <p:nvPr/>
          </p:nvSpPr>
          <p:spPr>
            <a:xfrm>
              <a:off x="7601400" y="5819760"/>
              <a:ext cx="1174320" cy="5774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82200" y="6219360"/>
              <a:ext cx="349920" cy="34956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504920" y="6122880"/>
              <a:ext cx="40752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12200" y="6243480"/>
              <a:ext cx="14616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577280" y="6299280"/>
              <a:ext cx="151200" cy="435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59560" y="6505920"/>
              <a:ext cx="162000" cy="676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4200" y="6219360"/>
              <a:ext cx="327240" cy="352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97960" y="6421320"/>
              <a:ext cx="242640" cy="18072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38120" y="6194880"/>
              <a:ext cx="372960" cy="39636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450200" y="6110280"/>
            <a:ext cx="1482840" cy="479520"/>
            <a:chOff x="7450200" y="6110280"/>
            <a:chExt cx="1482840" cy="479520"/>
          </a:xfrm>
        </p:grpSpPr>
        <p:sp>
          <p:nvSpPr>
            <p:cNvPr id="11" name=""/>
            <p:cNvSpPr/>
            <p:nvPr/>
          </p:nvSpPr>
          <p:spPr>
            <a:xfrm>
              <a:off x="7873560" y="6207120"/>
              <a:ext cx="35028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495200" y="6110280"/>
              <a:ext cx="40824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02840" y="6230880"/>
              <a:ext cx="14652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568640" y="6286680"/>
              <a:ext cx="15084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50200" y="6492960"/>
              <a:ext cx="16200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215200" y="6207120"/>
              <a:ext cx="32724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408720"/>
              <a:ext cx="24300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530560" y="6183360"/>
              <a:ext cx="37260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7593120" y="5807160"/>
            <a:ext cx="117468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2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97280" y="198360"/>
            <a:ext cx="3164760" cy="1671120"/>
            <a:chOff x="2897280" y="198360"/>
            <a:chExt cx="3164760" cy="1671120"/>
          </a:xfrm>
        </p:grpSpPr>
        <p:sp>
          <p:nvSpPr>
            <p:cNvPr id="63" name=""/>
            <p:cNvSpPr/>
            <p:nvPr/>
          </p:nvSpPr>
          <p:spPr>
            <a:xfrm>
              <a:off x="3200760" y="198360"/>
              <a:ext cx="2508840" cy="123300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160" y="1051920"/>
              <a:ext cx="748080" cy="7470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94480" y="846000"/>
              <a:ext cx="871200" cy="95292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23440" y="1103760"/>
              <a:ext cx="312480" cy="6696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9280" y="1222560"/>
              <a:ext cx="323640" cy="932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7280" y="1663560"/>
              <a:ext cx="346320" cy="1443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0960" y="1051920"/>
              <a:ext cx="699480" cy="75348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43280" y="1483200"/>
              <a:ext cx="51876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02000" y="1000080"/>
              <a:ext cx="797040" cy="8467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182760" y="171360"/>
            <a:ext cx="2508480" cy="123372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78200" y="819000"/>
            <a:ext cx="3164760" cy="1023120"/>
            <a:chOff x="2878200" y="819000"/>
            <a:chExt cx="3164760" cy="1023120"/>
          </a:xfrm>
        </p:grpSpPr>
        <p:sp>
          <p:nvSpPr>
            <p:cNvPr id="74" name=""/>
            <p:cNvSpPr/>
            <p:nvPr/>
          </p:nvSpPr>
          <p:spPr>
            <a:xfrm>
              <a:off x="3782160" y="1025640"/>
              <a:ext cx="747360" cy="745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4320" y="819000"/>
              <a:ext cx="871200" cy="95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4000" y="1076400"/>
              <a:ext cx="312840" cy="67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31640" y="1195560"/>
              <a:ext cx="322560" cy="9432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78200" y="1635840"/>
              <a:ext cx="346320" cy="1450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11520" y="1025640"/>
              <a:ext cx="699120" cy="7524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24560" y="1455840"/>
              <a:ext cx="51840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4000" y="974880"/>
              <a:ext cx="795240" cy="84384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2876400"/>
            <a:ext cx="7986240" cy="19080"/>
            <a:chOff x="0" y="2876400"/>
            <a:chExt cx="7986240" cy="19080"/>
          </a:xfrm>
        </p:grpSpPr>
        <p:sp>
          <p:nvSpPr>
            <p:cNvPr id="83" name=""/>
            <p:cNvSpPr/>
            <p:nvPr/>
          </p:nvSpPr>
          <p:spPr>
            <a:xfrm>
              <a:off x="5400" y="289548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287640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nhancing Public Health, Health Care System, and Clinician Preparedness: Strategies to Promote Coordination and Communic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en Burstin, M.D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 for Primary Care Resear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Burstin_photo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2590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we hope to accomplish with telecon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departmental plans related to State and local preparedness for bioterror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 new research findings that may be useful to State and loc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y for us to hear your needs and concerns related to bioterrorism prepared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7880" y="1219320"/>
            <a:ext cx="8077320" cy="5181480"/>
          </a:xfrm>
          <a:prstGeom prst="ellipse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partment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lth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uman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70720" y="4343400"/>
            <a:ext cx="2209680" cy="22096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us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419720"/>
            <a:ext cx="198144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part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f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14400"/>
            <a:ext cx="20574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dera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eau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vestig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838080"/>
            <a:ext cx="22096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retary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mel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133720"/>
            <a:ext cx="6858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66840" y="3276720"/>
            <a:ext cx="685800" cy="380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D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73280" y="4267080"/>
            <a:ext cx="68580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I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95288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HR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4952880"/>
            <a:ext cx="838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HR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962520"/>
            <a:ext cx="9903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AMH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70720" y="2819520"/>
            <a:ext cx="838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O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3960" y="196560"/>
            <a:ext cx="63676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ganization for Bioterrorism Preparedn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HHS Funding Initiatives for State and Local Preparednes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1440" y="1752120"/>
            <a:ext cx="81136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DC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pport bioterrorism, infectious diseases and public health emergency preparedness providing a base award with a supplemental based on popu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RS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ates create regional hospital plans for bioterrorist attack based on formula funding used by CD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HS to Metropolitan Medical Response System (MMRS)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ll add 25 new cities to cover 80% of the U.S. population for local response to chemical and biological disease ag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’s Role in Bioterrorism Preparedness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 and examine the evidence on effective models of training and use of decision support for front-line clinici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o develop models (e.g., regional plans, prophylaxis and immunization systems) that work and can be exported to State and local areas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inforce effective linkages between the health care system and the public health infra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Assess health care systems preparedness and the impact on cost, quality and outcom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93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d  Coordin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1440" y="1447920"/>
            <a:ext cx="3521160" cy="94716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nt-line clinical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8040" y="2895480"/>
            <a:ext cx="4876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care cli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mary care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nity health cen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d care 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ergency Depart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429000"/>
            <a:ext cx="2979720" cy="1068840"/>
          </a:xfrm>
          <a:prstGeom prst="rect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blic Health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32440" y="1905120"/>
            <a:ext cx="1066680" cy="144756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538520" y="1828800"/>
            <a:ext cx="990720" cy="1447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1280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HHS Bioterrorism Preparedness: Addressing At Risk Popul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ral and frontier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served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Steve Seitz</cp:lastModifiedBy>
  <cp:lastPrinted>2002-04-19T16:10:35Z</cp:lastPrinted>
  <dcterms:modified xsi:type="dcterms:W3CDTF">2002-05-31T19:31:45Z</dcterms:modified>
  <cp:revision>12</cp:revision>
  <dc:subject/>
  <dc:title>No Slide Title</dc:title>
</cp:coreProperties>
</file>