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AB7C-43B7-43D2-9452-63866D32B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most surprising result was a disturbing 4% drop in childhood immunization rates among private plans that primarily serve kids in middle-class famili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did not happen in Medicaid plans that serve low-income kids, where we saw a 3% rise, continuing the steady improvement they’ve been making.</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E36D-5FD1-4A46-AC09-0965FBE17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are also seeing big gains in chlamydia screening, especially in Medicaid plan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common and often silent STD that, left untreated, can cause irreversible damage, including infertilit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re also seeing better scores for diabetic care, prenatal and postpartum care, controlling high blood pressure and other measures.</a:t>
            </a:r>
            <a:endParaRPr b="0" lang="en-US" sz="13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1318-ACBC-4833-A16B-0001B2243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4F377-048B-4EC6-99B4-679065B39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D357-9E5E-4D66-9937-6EDDAE7DC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57EB-C7DB-46BF-9C50-5A9AF9F59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5F681-1510-421C-B699-5FE0FEE6C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E64E7-2979-4342-B171-B194AA31D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3D08-B4DE-4BBF-9C90-42F3586D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565B-5DC3-4071-AC14-CCEFF3B6C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426BD-3EEB-426F-94E3-ECE06427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8F9A-D58C-4FBF-9AFC-4CDA79AEC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C52B-A3D4-462E-ACAF-B541F16F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B650-A8A8-4915-9561-B4A74CF5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382B-99AE-44AC-83F7-D5AD116F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13B8-A0A9-45D2-84F7-0E6FB579D58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5DB3-E075-4BE7-893A-D4922DE43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for Measurement Selection: Landscape of Measures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ah Hudson Scholl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heen Byro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F9C5-5806-442D-9BBF-751FE0213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CS Report: Performance Measurement in FFS Medicaid</a:t>
            </a:r>
            <a:endParaRPr b="0" lang="en-US" sz="4400" spc="-1" strike="noStrike">
              <a:solidFill>
                <a:srgbClr val="000000"/>
              </a:solidFill>
              <a:latin typeface="Calibri"/>
            </a:endParaRPr>
          </a:p>
        </p:txBody>
      </p:sp>
      <p:sp>
        <p:nvSpPr>
          <p:cNvPr id="76" name=""/>
          <p:cNvSpPr txBox="1"/>
          <p:nvPr/>
        </p:nvSpPr>
        <p:spPr>
          <a:xfrm>
            <a:off x="457200" y="179856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i="1" lang="en-US" sz="3600" spc="-1" strike="noStrike">
                <a:solidFill>
                  <a:srgbClr val="000000"/>
                </a:solidFill>
                <a:latin typeface="Calibri"/>
              </a:rPr>
              <a:t>“</a:t>
            </a:r>
            <a:r>
              <a:rPr b="0" i="1" lang="en-US" sz="3600" spc="-1" strike="noStrike">
                <a:solidFill>
                  <a:srgbClr val="000000"/>
                </a:solidFill>
                <a:latin typeface="Calibri"/>
              </a:rPr>
              <a:t>Just do 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Themes</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s </a:t>
            </a:r>
            <a:endParaRPr b="0" lang="en-US" sz="28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0B84-3BD9-4F38-8CDC-476C8F88B9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a:t>
            </a:r>
            <a:endParaRPr b="0" lang="en-US" sz="4400" spc="-1" strike="noStrike">
              <a:solidFill>
                <a:srgbClr val="000000"/>
              </a:solidFill>
              <a:latin typeface="Calibri"/>
            </a:endParaRPr>
          </a:p>
        </p:txBody>
      </p:sp>
      <p:sp>
        <p:nvSpPr>
          <p:cNvPr id="79"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volve providers and other relevant stakeholders</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rify the purpose of measurement </a:t>
            </a:r>
            <a:endParaRPr b="0" lang="en-US" sz="36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comparisons among delivery system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improvement </a:t>
            </a:r>
            <a:endParaRPr b="0" lang="en-US" sz="32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clear goals for public reporting</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lue the role of leadership in the process</a:t>
            </a:r>
            <a:endParaRPr b="0" lang="en-US" sz="3600" spc="-1" strike="noStrike">
              <a:solidFill>
                <a:srgbClr val="000000"/>
              </a:solidFill>
              <a:latin typeface="Calibri"/>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536A-5126-411E-BAED-9457EDC690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and Data Sources </a:t>
            </a:r>
            <a:endParaRPr b="0" lang="en-US" sz="4400" spc="-1" strike="noStrike">
              <a:solidFill>
                <a:srgbClr val="000000"/>
              </a:solidFill>
              <a:latin typeface="Calibri"/>
            </a:endParaRPr>
          </a:p>
        </p:txBody>
      </p:sp>
      <p:sp>
        <p:nvSpPr>
          <p:cNvPr id="82" name=""/>
          <p:cNvSpPr txBox="1"/>
          <p:nvPr/>
        </p:nvSpPr>
        <p:spPr>
          <a:xfrm>
            <a:off x="457200" y="1142640"/>
            <a:ext cx="8229600" cy="57913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measures that rely on administrative data for ease of captur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business case with focus on overuse measures, such as hospital readmission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 HEDIS measures to fit the FFS environment</a:t>
            </a:r>
            <a:endParaRPr b="0" lang="en-US" sz="3200" spc="-1" strike="noStrike">
              <a:solidFill>
                <a:srgbClr val="000000"/>
              </a:solidFill>
              <a:latin typeface="Calibri"/>
            </a:endParaRPr>
          </a:p>
          <a:p>
            <a:pPr lvl="1" marL="743040" indent="-28584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Look outside HEDIS for special populations like mental health</a:t>
            </a:r>
            <a:endParaRPr b="0" lang="en-US" sz="29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other data sources </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family surveys, Registries, Lab test results, Chronic disease and obstetrics assessment forms, Health information technolog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Slide Number Placeholder 3"/>
          <p:cNvSpPr/>
          <p:nvPr/>
        </p:nvSpPr>
        <p:spPr>
          <a:xfrm>
            <a:off x="6400800" y="59436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D9B3-A379-4984-9F21-5A48F75958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 and Time </a:t>
            </a:r>
            <a:endParaRPr b="0" lang="en-US" sz="4400" spc="-1" strike="noStrike">
              <a:solidFill>
                <a:srgbClr val="000000"/>
              </a:solidFill>
              <a:latin typeface="Calibri"/>
            </a:endParaRPr>
          </a:p>
        </p:txBody>
      </p:sp>
      <p:sp>
        <p:nvSpPr>
          <p:cNvPr id="85" name=""/>
          <p:cNvSpPr txBox="1"/>
          <p:nvPr/>
        </p:nvSpPr>
        <p:spPr>
          <a:xfrm>
            <a:off x="457200" y="175248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resources needed for development and implementation of the measurement system </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variations exist depending on structures and resources available within states</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patient</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ct it to take a year from the start of developing a new measure to reporting it, depending on the complexity of the measure and the availability of analytic capacity.</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ote resources to auditing measur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8890-C86B-41C5-A7DE-72DF121EF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IN MEDICAID</a:t>
            </a:r>
            <a:endParaRPr b="0" lang="en-US" sz="4000" spc="-1" strike="noStrike">
              <a:solidFill>
                <a:srgbClr val="000000"/>
              </a:solidFill>
              <a:latin typeface="Calibri"/>
            </a:endParaRPr>
          </a:p>
        </p:txBody>
      </p:sp>
      <p:sp>
        <p:nvSpPr>
          <p:cNvPr id="8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0293-B567-48BC-9741-B11F1B5823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us of Health Care Quality in Medicaid</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9 HEDIS provides window on national performance among managed care organizations (M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DIS performance rates for Medicaid MCOs are often lower than for Commercial and/or Medicare M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 few exce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FE2C-2B83-4C82-881C-92BF47E5F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009 HEDIS Performance for</a:t>
            </a:r>
            <a:br>
              <a:rPr sz="4000"/>
            </a:br>
            <a:r>
              <a:rPr b="0" lang="en-US" sz="4000" spc="-1" strike="noStrike">
                <a:solidFill>
                  <a:srgbClr val="000000"/>
                </a:solidFill>
                <a:latin typeface="Calibri"/>
              </a:rPr>
              <a:t>Medicaid vs Other MCOs</a:t>
            </a:r>
            <a:endParaRPr b="0" lang="en-US" sz="4000" spc="-1" strike="noStrike">
              <a:solidFill>
                <a:srgbClr val="000000"/>
              </a:solidFill>
              <a:latin typeface="Calibri"/>
            </a:endParaRPr>
          </a:p>
        </p:txBody>
      </p:sp>
      <p:graphicFrame>
        <p:nvGraphicFramePr>
          <p:cNvPr id="94" name=""/>
          <p:cNvGraphicFramePr/>
          <p:nvPr/>
        </p:nvGraphicFramePr>
        <p:xfrm>
          <a:off x="152280" y="1362240"/>
          <a:ext cx="8839440" cy="5190840"/>
        </p:xfrm>
        <a:graphic>
          <a:graphicData uri="http://schemas.openxmlformats.org/drawingml/2006/table">
            <a:tbl>
              <a:tblPr/>
              <a:tblGrid>
                <a:gridCol w="4892760"/>
                <a:gridCol w="1341360"/>
                <a:gridCol w="1179720"/>
                <a:gridCol w="142560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aid</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are</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ercial</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BMI Assessmen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st Cancer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4</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9.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1.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vical Cancer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partum Visi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1</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tion of Alcohol/Drug Treatmen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After Mental Health Hosp  (30 day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8</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t Beta Blocker Use After Heart Attack</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4</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A1c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2</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Poor A1c Control (&gt;9.0%) (lower=better) </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9</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0</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Cholesterol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5.0</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Cholesterol &lt;100</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0</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pertension: Blood Pressure &lt;140/90</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9.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1</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  Appropriate Medication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8.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7</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bl>
          </a:graphicData>
        </a:graphic>
      </p:graphicFrame>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4063-C707-4DDC-8AF3-5CB01B371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4760"/>
            <a:ext cx="82296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647e"/>
                </a:solidFill>
                <a:latin typeface="Calibri"/>
                <a:ea typeface="ＭＳ Ｐゴシック"/>
              </a:rPr>
              <a:t>Childhood Immunization Retreat </a:t>
            </a:r>
            <a:br>
              <a:rPr sz="4000"/>
            </a:br>
            <a:r>
              <a:rPr b="1" lang="en-US" sz="4000" spc="-1" strike="noStrike">
                <a:solidFill>
                  <a:srgbClr val="3e647e"/>
                </a:solidFill>
                <a:latin typeface="Calibri"/>
                <a:ea typeface="ＭＳ Ｐゴシック"/>
              </a:rPr>
              <a:t>in Private Plans, But Not in Medicaid</a:t>
            </a:r>
            <a:endParaRPr b="0" lang="en-US" sz="4000" spc="-1" strike="noStrike">
              <a:solidFill>
                <a:srgbClr val="000000"/>
              </a:solidFill>
              <a:latin typeface="Calibri"/>
            </a:endParaRPr>
          </a:p>
        </p:txBody>
      </p:sp>
      <p:pic>
        <p:nvPicPr>
          <p:cNvPr id="97" name="Chart 6" descr="Graph: This line graph indicates steady increases in childhood immunization rates in both private health insurance plans and Medicaid from 1999 to 2008.  Childhood immunization rates increased by 3 percent in 2009, while rates in private plans dropped 4 percent."/>
          <p:cNvPicPr/>
          <p:nvPr/>
        </p:nvPicPr>
        <p:blipFill>
          <a:blip r:embed="rId1"/>
          <a:stretch/>
        </p:blipFill>
        <p:spPr>
          <a:xfrm>
            <a:off x="450720" y="1517760"/>
            <a:ext cx="8242560" cy="4736880"/>
          </a:xfrm>
          <a:prstGeom prst="rect">
            <a:avLst/>
          </a:prstGeom>
          <a:ln w="0">
            <a:noFill/>
          </a:ln>
        </p:spPr>
      </p:pic>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5856-B9B4-4A92-AFE2-374412CCC7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647e"/>
                </a:solidFill>
                <a:latin typeface="Calibri"/>
              </a:rPr>
              <a:t>Big Gains in Chlamydia Screening – with Medicaid Plans Leading</a:t>
            </a:r>
            <a:endParaRPr b="0" lang="en-US" sz="4000" spc="-1" strike="noStrike">
              <a:solidFill>
                <a:srgbClr val="000000"/>
              </a:solidFill>
              <a:latin typeface="Calibri"/>
            </a:endParaRPr>
          </a:p>
        </p:txBody>
      </p:sp>
      <p:pic>
        <p:nvPicPr>
          <p:cNvPr id="100" name="Picture 2" descr="Graph: This line graph depicts increases in chlamydia screening from 2001 to 2009 in both private health insurance plans and Medicaid."/>
          <p:cNvPicPr/>
          <p:nvPr/>
        </p:nvPicPr>
        <p:blipFill>
          <a:blip r:embed="rId1"/>
          <a:stretch/>
        </p:blipFill>
        <p:spPr>
          <a:xfrm>
            <a:off x="685800" y="1333440"/>
            <a:ext cx="7772400" cy="4853160"/>
          </a:xfrm>
          <a:prstGeom prst="rect">
            <a:avLst/>
          </a:prstGeom>
          <a:ln w="0">
            <a:noFill/>
          </a:ln>
        </p:spPr>
      </p:pic>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3090-DEDE-4D9C-9968-5CCE400C14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SING THE INVENTORY TO IDENTIFY POTENTIAL MEASURES</a:t>
            </a:r>
            <a:endParaRPr b="0" lang="en-US" sz="4000" spc="-1" strike="noStrike">
              <a:solidFill>
                <a:srgbClr val="000000"/>
              </a:solidFill>
              <a:latin typeface="Calibri"/>
            </a:endParaRPr>
          </a:p>
        </p:txBody>
      </p:sp>
      <p:sp>
        <p:nvSpPr>
          <p:cNvPr id="10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299D-1924-4B6F-926B-1B4C6BDA8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 Measurement in Medic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lity of Care for Adults in Medic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s Inven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Challe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82E1-5C1E-4E76-AF5F-28C1726CD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Measures Invent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measures</a:t>
            </a:r>
            <a:endParaRPr b="0" lang="en-US" sz="32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endorsed by National Quality Forum</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nominated by CMS</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submitted by 15 Medicaid medical directors</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suggested by Panel co-chairs and members</a:t>
            </a:r>
            <a:endParaRPr b="0" lang="en-US" sz="28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attempted to “de-duplicate” the lis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1E3D-5898-4136-9E2B-CCC7D97C1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 of Measure Inventor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vot Table  (allows identifying groups of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descri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r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A81A-ADB7-45C2-B219-84ECE6D20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List</a:t>
            </a:r>
            <a:endParaRPr b="0" lang="en-US" sz="4400" spc="-1" strike="noStrike">
              <a:solidFill>
                <a:srgbClr val="000000"/>
              </a:solidFill>
              <a:latin typeface="Calibri"/>
            </a:endParaRPr>
          </a:p>
        </p:txBody>
      </p:sp>
      <p:sp>
        <p:nvSpPr>
          <p:cNvPr id="112" name=""/>
          <p:cNvSpPr txBox="1"/>
          <p:nvPr/>
        </p:nvSpPr>
        <p:spPr>
          <a:xfrm>
            <a:off x="457200" y="1295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su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rted by Measure Stewa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measures have unique “ID number” for searching (NQF ID provided if relev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s characterist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current 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egory in Revised IOM frame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pulation of interes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cel makes sorting and filtering of measures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2D1E-B418-445C-A229-64CFA5E401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Each Measure</a:t>
            </a:r>
            <a:endParaRPr b="0" lang="en-US" sz="4400" spc="-1" strike="noStrike">
              <a:solidFill>
                <a:srgbClr val="000000"/>
              </a:solidFill>
              <a:latin typeface="Calibri"/>
            </a:endParaRPr>
          </a:p>
        </p:txBody>
      </p:sp>
      <p:sp>
        <p:nvSpPr>
          <p:cNvPr id="11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I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QF I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owner/stewar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nam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descrip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condit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 typ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typ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of measurement</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4BB6-50EB-40FB-AA85-EE0AF43912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
          <p:cNvSpPr txBox="1"/>
          <p:nvPr/>
        </p:nvSpPr>
        <p:spPr>
          <a:xfrm>
            <a:off x="6245280" y="2174760"/>
            <a:ext cx="289872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Legislation….</a:t>
            </a:r>
            <a:endParaRPr b="0" lang="en-US" sz="4400" spc="-1" strike="noStrike">
              <a:solidFill>
                <a:srgbClr val="000000"/>
              </a:solidFill>
              <a:latin typeface="Calibri"/>
            </a:endParaRPr>
          </a:p>
        </p:txBody>
      </p:sp>
      <p:sp>
        <p:nvSpPr>
          <p:cNvPr id="119"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retary shall identify and publish a recommended core set of adult health quality measures for Medicaid eligible adults in the same manner as the Secretary identifies and publishes a core set of child health quality measures under section 1139A, including with respect to identifying and publishing </a:t>
            </a:r>
            <a:r>
              <a:rPr b="1" i="1" lang="en-US" sz="2400" spc="-1" strike="noStrike">
                <a:solidFill>
                  <a:srgbClr val="000000"/>
                </a:solidFill>
                <a:latin typeface="Calibri"/>
              </a:rPr>
              <a:t>existing adult health quality measures that are in use under public and privately sponsored health care coverage arrangements, or that are part of reporting systems that measure both the presence and duration of health insurance coverage over time, that may be applicable to Medicaid eligible adul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Slide Number Placeholder 6"/>
          <p:cNvSpPr/>
          <p:nvPr/>
        </p:nvSpPr>
        <p:spPr>
          <a:xfrm>
            <a:off x="62485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B13A-309D-4F33-BC0D-AC01FF798D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ptors of Current Use</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id:  in use by Medicaid programs or health plans in the st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 use by other federal programs (VA, Medicare Advantage, PQRI,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 in use in either Medicaid or other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list of states in which the measures are u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ED76-94E3-475A-B0B6-9AA53C07C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Framework</a:t>
            </a:r>
            <a:endParaRPr b="0" lang="en-US" sz="4400" spc="-1" strike="noStrike">
              <a:solidFill>
                <a:srgbClr val="000000"/>
              </a:solidFill>
              <a:latin typeface="Calibri"/>
            </a:endParaRPr>
          </a:p>
        </p:txBody>
      </p:sp>
      <p:sp>
        <p:nvSpPr>
          <p:cNvPr id="1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C8B-2D36-4BBA-98DC-4A66D72960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6" name=""/>
          <p:cNvGraphicFramePr/>
          <p:nvPr/>
        </p:nvGraphicFramePr>
        <p:xfrm>
          <a:off x="609480" y="1219320"/>
          <a:ext cx="8001000" cy="4906800"/>
        </p:xfrm>
        <a:graphic>
          <a:graphicData uri="http://schemas.openxmlformats.org/drawingml/2006/table">
            <a:tbl>
              <a:tblPr/>
              <a:tblGrid>
                <a:gridCol w="2362320"/>
                <a:gridCol w="1676520"/>
                <a:gridCol w="1218960"/>
                <a:gridCol w="1067040"/>
                <a:gridCol w="1676160"/>
              </a:tblGrid>
              <a:tr h="351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OPULATIONS </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2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DOMAINS</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productive Health</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dult &lt; 65 yrs</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omplex Health Needs</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ental Health and Substance Abuse</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af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Timely</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Effectiv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Efficient</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ccess</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Patient &amp; Family Centered</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Care Coordination</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Health Systems Infrastructur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for Each Measure</a:t>
            </a:r>
            <a:endParaRPr b="0" lang="en-US" sz="4400" spc="-1" strike="noStrike">
              <a:solidFill>
                <a:srgbClr val="000000"/>
              </a:solidFill>
              <a:latin typeface="Calibri"/>
            </a:endParaRPr>
          </a:p>
        </p:txBody>
      </p:sp>
      <p:sp>
        <p:nvSpPr>
          <p:cNvPr id="128" name="PlaceHolder 2"/>
          <p:cNvSpPr>
            <a:spLocks noGrp="1"/>
          </p:cNvSpPr>
          <p:nvPr>
            <p:ph/>
          </p:nvPr>
        </p:nvSpPr>
        <p:spPr>
          <a:xfrm>
            <a:off x="685440" y="1276200"/>
            <a:ext cx="404028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OM Framework</a:t>
            </a:r>
            <a:endParaRPr b="0" lang="en-US" sz="2400" spc="-1" strike="noStrike">
              <a:solidFill>
                <a:srgbClr val="000000"/>
              </a:solidFill>
              <a:latin typeface="Calibri"/>
            </a:endParaRPr>
          </a:p>
        </p:txBody>
      </p:sp>
      <p:sp>
        <p:nvSpPr>
          <p:cNvPr id="129" name=""/>
          <p:cNvSpPr txBox="1"/>
          <p:nvPr/>
        </p:nvSpPr>
        <p:spPr>
          <a:xfrm>
            <a:off x="685440" y="1915920"/>
            <a:ext cx="4040280" cy="395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amp; Family center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 coord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systems infrastructu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873320" y="1276200"/>
            <a:ext cx="404172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endParaRPr b="0" lang="en-US" sz="2400" spc="-1" strike="noStrike">
              <a:solidFill>
                <a:srgbClr val="000000"/>
              </a:solidFill>
              <a:latin typeface="Calibri"/>
            </a:endParaRPr>
          </a:p>
        </p:txBody>
      </p:sp>
      <p:sp>
        <p:nvSpPr>
          <p:cNvPr id="131" name=""/>
          <p:cNvSpPr txBox="1"/>
          <p:nvPr/>
        </p:nvSpPr>
        <p:spPr>
          <a:xfrm>
            <a:off x="4873320" y="1915920"/>
            <a:ext cx="4041720" cy="395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 Typ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ale On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roductive Healt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s &lt;65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H &amp; Sub Abuse In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stat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7022-BE10-4E27-82E3-73DBE6B49E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ing Lists for Each Workgroup</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ernal/reproductive health</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male only and in use at all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ult health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ults &lt;65 and in use in Medicai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ntal Health/Substance U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H&amp;SA and in use anywher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ondi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oss cutting measures that are in use at all:  functional status, care coordination, health system infrastructure, avoidable hospitalizations</a:t>
            </a:r>
            <a:endParaRPr b="0" lang="en-US" sz="26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1D09-297F-4554-B5E8-C1F099F19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hallenges in Measuring Quality for Adult Medicaid Populations</a:t>
            </a: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urrent measures do not address needs of complex pop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measure concepts and issues in selecting measures for the core s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able hospital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Coord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status</a:t>
            </a: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A7D6-864F-483A-864C-C81801F00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MEASUREMENT IN MEDICAID</a:t>
            </a:r>
            <a:endParaRPr b="0" lang="en-US" sz="4000" spc="-1" strike="noStrike">
              <a:solidFill>
                <a:srgbClr val="000000"/>
              </a:solidFill>
              <a:latin typeface="Calibri"/>
            </a:endParaRPr>
          </a:p>
        </p:txBody>
      </p:sp>
      <p:sp>
        <p:nvSpPr>
          <p:cNvPr id="5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10E5-31D1-486B-A999-164F40705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ble Hospitalizations</a:t>
            </a:r>
            <a:endParaRPr b="0" lang="en-US" sz="4400" spc="-1" strike="noStrike">
              <a:solidFill>
                <a:srgbClr val="000000"/>
              </a:solidFill>
              <a:latin typeface="Calibri"/>
            </a:endParaRPr>
          </a:p>
        </p:txBody>
      </p:sp>
      <p:sp>
        <p:nvSpPr>
          <p:cNvPr id="140"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voidable hospitalization measures, including hospital readmissions and admissions for ambulatory care-sensitive conditions (ACSC), are important markers of was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A209-CE44-4985-832E-95C9ECE92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Avoidable Hospitalization Measures </a:t>
            </a:r>
            <a:endParaRPr b="0" lang="en-US" sz="4000" spc="-1" strike="noStrike">
              <a:solidFill>
                <a:srgbClr val="000000"/>
              </a:solidFill>
              <a:latin typeface="Calibri"/>
            </a:endParaRPr>
          </a:p>
        </p:txBody>
      </p:sp>
      <p:graphicFrame>
        <p:nvGraphicFramePr>
          <p:cNvPr id="143" name=""/>
          <p:cNvGraphicFramePr/>
          <p:nvPr/>
        </p:nvGraphicFramePr>
        <p:xfrm>
          <a:off x="685800" y="1519200"/>
          <a:ext cx="7848720" cy="4384800"/>
        </p:xfrm>
        <a:graphic>
          <a:graphicData uri="http://schemas.openxmlformats.org/drawingml/2006/table">
            <a:tbl>
              <a:tblPr/>
              <a:tblGrid>
                <a:gridCol w="1500120"/>
                <a:gridCol w="6348600"/>
              </a:tblGrid>
              <a:tr h="45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CQ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lan All-Cause Readmission (new for 201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0-Day All-Cause Risk Standardized Readmission Rate Following Heart Failure Hospitalization (risk adjus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tate of CO</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umber of admissions for Ambulatory Care Sensitive Conditions for waiver and Medicaid cli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Diabetes Short-Term Complications Admission Rate/100,000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4417-226D-4BA8-B680-001DF11CA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ble Hospitalizations</a:t>
            </a:r>
            <a:endParaRPr b="0" lang="en-US" sz="4400" spc="-1" strike="noStrike">
              <a:solidFill>
                <a:srgbClr val="000000"/>
              </a:solidFill>
              <a:latin typeface="Calibri"/>
            </a:endParaRPr>
          </a:p>
        </p:txBody>
      </p:sp>
      <p:sp>
        <p:nvSpPr>
          <p:cNvPr id="146" name=""/>
          <p:cNvSpPr txBox="1"/>
          <p:nvPr/>
        </p:nvSpPr>
        <p:spPr>
          <a:xfrm>
            <a:off x="457200" y="1219320"/>
            <a:ext cx="82296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 issues for Re-admission measur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pulation:  all age groups, adults only, et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spitalizations: specific-cause discharges versus all-cause discharg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ing of readmissions: all-cause readmissions or specific-cause readmi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mission timeframe: 30 days versus 3, 7, 14, 90,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sk adjust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ous enrollme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 issues for ACSC Admission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opul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sk adjust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ous enroll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567A-BCCA-401F-B582-7FCA30493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tcome measures include mortality and functional stat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tients/families value these measures in particul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se measures may reflect the net result of care for multiple conditions and care received from multiple providers and se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2820-AA00-48B0-ACB3-5A4EE99F3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graphicFrame>
        <p:nvGraphicFramePr>
          <p:cNvPr id="152" name=""/>
          <p:cNvGraphicFramePr/>
          <p:nvPr/>
        </p:nvGraphicFramePr>
        <p:xfrm>
          <a:off x="228600" y="1295280"/>
          <a:ext cx="8458200" cy="5048280"/>
        </p:xfrm>
        <a:graphic>
          <a:graphicData uri="http://schemas.openxmlformats.org/drawingml/2006/table">
            <a:tbl>
              <a:tblPr/>
              <a:tblGrid>
                <a:gridCol w="2133720"/>
                <a:gridCol w="6324480"/>
              </a:tblGrid>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provement in bathing among home-based care recipi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ocus on Therapeutic Outcomes, In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unctional status change for patients with knee impair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ca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hange in Basic Mobility as Measured by the AM-P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 NCQ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dicare Health Outcomes Survey (HO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QI 11: Abdominal Aortic Artery (AAA) Repair Mortality Rate  (risk adjus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QI 17: Acute Stroke Mortality Rate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7027-8CFB-41DB-8B7B-C85D91BC4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Site of care/Population 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ss section versus longitudinal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adjust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 and complet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2C0D-7889-41A2-8DD3-312603159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a:t>
            </a:r>
            <a:endParaRPr b="0" lang="en-US" sz="4400" spc="-1" strike="noStrike">
              <a:solidFill>
                <a:srgbClr val="000000"/>
              </a:solidFill>
              <a:latin typeface="Calibri"/>
            </a:endParaRPr>
          </a:p>
        </p:txBody>
      </p:sp>
      <p:sp>
        <p:nvSpPr>
          <p:cNvPr id="158"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QF (2006) identified dimensions of care coordination inclu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ed for a medical hom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active plan of care and follow-up, 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y for communic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ility of information systems to support care, an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for transitions or “hand-offs” (across providers and sett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82A4-BC82-43B0-BFA6-DD34299E4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 </a:t>
            </a:r>
            <a:endParaRPr b="0" lang="en-US" sz="4400" spc="-1" strike="noStrike">
              <a:solidFill>
                <a:srgbClr val="000000"/>
              </a:solidFill>
              <a:latin typeface="Calibri"/>
            </a:endParaRPr>
          </a:p>
        </p:txBody>
      </p:sp>
      <p:graphicFrame>
        <p:nvGraphicFramePr>
          <p:cNvPr id="161" name=""/>
          <p:cNvGraphicFramePr/>
          <p:nvPr/>
        </p:nvGraphicFramePr>
        <p:xfrm>
          <a:off x="380880" y="1143000"/>
          <a:ext cx="8534520" cy="5173560"/>
        </p:xfrm>
        <a:graphic>
          <a:graphicData uri="http://schemas.openxmlformats.org/drawingml/2006/table">
            <a:tbl>
              <a:tblPr/>
              <a:tblGrid>
                <a:gridCol w="1524240"/>
                <a:gridCol w="7010280"/>
              </a:tblGrid>
              <a:tr h="366120">
                <a:tc>
                  <a:txBody>
                    <a:bodyPr lIns="64800" rIns="64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0-Day Post-Hospital AMI Discharge Evaluation and Management Service Measure (In proposed IPPS rule May 2010)</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re for Older Adults (COA): Functional Status Assessment</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dication Reconciliation Post-Discharge (MRP)</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PRO</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nagement plan for people with asthm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MA-PCPI, 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dvance Care Plan</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ion and Verification of Current Medications in the Medical Record</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2998-B1BC-42FD-8C69-04DCF60C13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issu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ility and use of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complete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sibility and cost of measur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EDD4-E8E9-491B-84A0-78AF756C1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of Measurement in Medicai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no national reporting of Medicaid quality data representing all different populations enrolled (that’s why we are 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new reports shed light on current eff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d care: NCQA’s  Medicaid Benchmarking Project Repor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FS: CHCS’ Performance Measurement in Fee-for-Service Medicaid: Emerging Best Practi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D529-5C11-41C6-AF57-7717E020C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CQA Medicaid Benchmarking Report</a:t>
            </a:r>
            <a:endParaRPr b="0" lang="en-US" sz="4000" spc="-1" strike="noStrike">
              <a:solidFill>
                <a:srgbClr val="000000"/>
              </a:solidFill>
              <a:latin typeface="Calibri"/>
            </a:endParaRPr>
          </a:p>
        </p:txBody>
      </p:sp>
      <p:sp>
        <p:nvSpPr>
          <p:cNvPr id="61" name=""/>
          <p:cNvSpPr txBox="1"/>
          <p:nvPr/>
        </p:nvSpPr>
        <p:spPr>
          <a:xfrm>
            <a:off x="457200" y="1371600"/>
            <a:ext cx="82296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rpose:  Test the feasibility of collecting comparable performance measure results from state Medicaid agencies and combining these data with existing HEDIS data in NCQA’s database to develop robust benchmarks for Medica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Focus on Managed Care and HEDI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1% of the Medicaid population in  states that use managed care arrangements including PCCM and MCO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 states contract with MCOs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arly 90 percent of state Medicaid programs reported using HEDIS measures for evaluate quality of children’s ca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omparable  data available for adul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DD51-E1A1-4E8B-92BA-D689C1AE8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tates Use HEDIS?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use HEDIS measures to meet the federal requirements for performance measurement in Medicai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may use the HEDIS data plans have submitted to NCQA, require plans to submit data directly to the state or the EQRO, or calculate performance rates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enty-five Medicaid programs use or require NCQA Accreditation</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7352-B6F8-44E7-870F-293F707CA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id Programs &amp; HEDIS</a:t>
            </a:r>
            <a:endParaRPr b="0" lang="en-US" sz="4400" spc="-1" strike="noStrike">
              <a:solidFill>
                <a:srgbClr val="000000"/>
              </a:solidFill>
              <a:latin typeface="Calibri"/>
            </a:endParaRPr>
          </a:p>
        </p:txBody>
      </p:sp>
      <p:pic>
        <p:nvPicPr>
          <p:cNvPr id="67" name="Picture 3" descr=""/>
          <p:cNvPicPr/>
          <p:nvPr/>
        </p:nvPicPr>
        <p:blipFill>
          <a:blip r:embed="rId1"/>
          <a:stretch/>
        </p:blipFill>
        <p:spPr>
          <a:xfrm>
            <a:off x="228600" y="1371600"/>
            <a:ext cx="8766000" cy="441972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1527-8393-4EFE-BCFD-8A8DC1C37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mmonly Used Measures</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382680" y="1295280"/>
            <a:ext cx="8456400" cy="4419720"/>
          </a:xfrm>
          <a:prstGeom prst="rect">
            <a:avLst/>
          </a:prstGeom>
          <a:ln w="0">
            <a:noFill/>
          </a:ln>
        </p:spPr>
      </p:pic>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B44F-1093-49E4-BC15-A7FF5E36E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2282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Common Differences Between State Measures and NCQA HEDIS data</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tion chan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enroll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y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erator chan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collect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id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02FE-7726-4EF1-A20E-CAACC6BA3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2:17:54Z</dcterms:created>
  <dc:creator>scholle</dc:creator>
  <dc:description/>
  <dc:language>en-US</dc:language>
  <cp:lastModifiedBy>DHHS</cp:lastModifiedBy>
  <dcterms:modified xsi:type="dcterms:W3CDTF">2010-12-08T19:57:40Z</dcterms:modified>
  <cp:revision>8</cp:revision>
  <dc:subject/>
  <dc:title>Preparing for Measurement Selection: Landscape of  Measur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