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dt" idx="4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sldImg"/>
          </p:nvPr>
        </p:nvSpPr>
        <p:spPr>
          <a:xfrm>
            <a:off x="1158480" y="690120"/>
            <a:ext cx="4600440" cy="345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ftr" idx="5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 type="sldNum" idx="6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8D86-F5DE-4703-89DF-A8727320B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35E9-EF55-4DF2-902F-CB5826ABB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C33D9-1FA2-436C-A792-42D75BF2336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548BD-DCFD-4DAD-92E3-94422A71333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3E648-5CC0-4A32-A18C-2679FA77021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73415-2A44-4F3A-B255-C6648E67E80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0167E-B444-4F61-A80A-649AE0F99B9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F8EFD-EE0D-444C-A0DE-5969586C235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DE0B7-A63F-4D4E-94FF-DCF8F79671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5AF01-5440-40BC-968D-A5F4966E67B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00A07-C95D-4507-80D5-C9F0F7D79CD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6915D-32D8-4423-916C-35CFCBFD2C6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C1743-A496-40C8-A3D2-D73AC90A64C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EA6C3-B700-45F6-9D92-7BB0103A049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E702-BCE1-4B8D-8151-36C87F39688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1944-0305-43D0-909C-A302D406D7D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AF56-66B5-43F0-BE4B-ADB88173797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4C2E-45D3-414F-A5FA-BF044BEED97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066A-E348-4CA5-A2B4-4D94EF3521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6F8F-3F07-4958-9943-8BFD9F71B39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0C19-40FE-41D9-BFCE-D4C2BAF19D8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8AEA-31EB-4F14-BF93-FBFA470A5F5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6B8C-F779-48EB-8C8F-02BBF168807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8763-A4E7-4E87-AC64-DAC90C3E423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45F6-1857-41F6-9002-C7465DCFA39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AEC2-179E-4211-B20A-75ED3E90D3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58F2F-5280-4F16-AFC6-53539DD3359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C207D-75CF-4193-A0D1-4AECD274E4E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F4AE0-23C1-4E02-BC90-5E22078D7B4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FA8E-B6F1-423C-94ED-8BCADE84E19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638F5-6FA1-4179-964F-DB84C36792D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96E64-9A2C-4FD1-A2ED-CD0D807D169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B3990-8633-4AEE-AA65-D7652F18FD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383BA-349B-4CB1-A438-748EF27AE92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7DBD-DEF0-4EA0-92E7-D81888B5B12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E3CD7-6E1D-41A0-835A-AA4F71A9D4B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96802-5A3D-42BA-8853-1171C0DDD2B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8528E-DE86-4EA9-B9A6-9C7EE82AF0C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PCORI_PPInside.jpg"/>
          <p:cNvPicPr/>
          <p:nvPr/>
        </p:nvPicPr>
        <p:blipFill>
          <a:blip r:embed="rId2"/>
          <a:srcRect l="0" t="0" r="0" b="74426"/>
          <a:stretch/>
        </p:blipFill>
        <p:spPr>
          <a:xfrm>
            <a:off x="-17640" y="0"/>
            <a:ext cx="9161640" cy="18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585720" y="774720"/>
            <a:ext cx="7972560" cy="479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marL="119160" indent="-11916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885600" y="4756320"/>
            <a:ext cx="15994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oitte Consulting LL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9" descr="LLP logo with big space copy"/>
          <p:cNvPicPr/>
          <p:nvPr/>
        </p:nvPicPr>
        <p:blipFill>
          <a:blip r:embed="rId2"/>
          <a:srcRect l="987" t="1762" r="0" b="59819"/>
          <a:stretch/>
        </p:blipFill>
        <p:spPr>
          <a:xfrm>
            <a:off x="892080" y="1806480"/>
            <a:ext cx="1924200" cy="3654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01760" y="514080"/>
            <a:ext cx="834552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96360" y="1153800"/>
            <a:ext cx="40150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Line 35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6" descr="DEL_COL"/>
          <p:cNvPicPr/>
          <p:nvPr/>
        </p:nvPicPr>
        <p:blipFill>
          <a:blip r:embed="rId2"/>
          <a:stretch/>
        </p:blipFill>
        <p:spPr>
          <a:xfrm>
            <a:off x="8105760" y="6645240"/>
            <a:ext cx="690480" cy="13968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5"/>
          <p:cNvSpPr/>
          <p:nvPr/>
        </p:nvSpPr>
        <p:spPr>
          <a:xfrm>
            <a:off x="4240080" y="6663240"/>
            <a:ext cx="663840" cy="14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sp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E12C434-F418-4FC0-A80F-40FFED0F4A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0"/>
          <p:cNvSpPr/>
          <p:nvPr/>
        </p:nvSpPr>
        <p:spPr>
          <a:xfrm>
            <a:off x="304920" y="6477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1C5E-420B-4CB0-8AB2-E7B5BD25E96F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01760" y="514080"/>
            <a:ext cx="834552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396360" y="1153800"/>
            <a:ext cx="40150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1741320" y="2365200"/>
            <a:ext cx="5634360" cy="24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3080" bIns="73080" anchor="t">
            <a:noAutofit/>
          </a:bodyPr>
          <a:p>
            <a:pPr>
              <a:lnSpc>
                <a:spcPct val="106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2478240" y="2136600"/>
            <a:ext cx="4167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b" anchorCtr="1">
            <a:no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9"/>
          <p:cNvSpPr/>
          <p:nvPr/>
        </p:nvSpPr>
        <p:spPr>
          <a:xfrm>
            <a:off x="304920" y="6477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AE83-6BBD-4FA2-BD8D-EC29D0970E79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01760" y="514080"/>
            <a:ext cx="834552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396360" y="1153800"/>
            <a:ext cx="40150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5"/>
          <p:cNvSpPr/>
          <p:nvPr/>
        </p:nvSpPr>
        <p:spPr>
          <a:xfrm>
            <a:off x="4240080" y="6663240"/>
            <a:ext cx="663840" cy="14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sp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2CC60C4-7E5A-46E7-9B50-0F6DD5FFEE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6" descr="DEL_COL"/>
          <p:cNvPicPr/>
          <p:nvPr/>
        </p:nvPicPr>
        <p:blipFill>
          <a:blip r:embed="rId2"/>
          <a:stretch/>
        </p:blipFill>
        <p:spPr>
          <a:xfrm>
            <a:off x="8105760" y="6645240"/>
            <a:ext cx="690480" cy="139680"/>
          </a:xfrm>
          <a:prstGeom prst="rect">
            <a:avLst/>
          </a:prstGeom>
          <a:ln w="0">
            <a:noFill/>
          </a:ln>
        </p:spPr>
      </p:pic>
      <p:sp>
        <p:nvSpPr>
          <p:cNvPr id="487" name="Line 35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6"/>
          <p:cNvSpPr/>
          <p:nvPr/>
        </p:nvSpPr>
        <p:spPr>
          <a:xfrm>
            <a:off x="304920" y="6477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AF91-92AE-4C9C-81B2-168C08D79603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392040" y="1154160"/>
            <a:ext cx="4014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6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01760" y="514080"/>
            <a:ext cx="834552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396360" y="1153800"/>
            <a:ext cx="40150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5"/>
          <p:cNvSpPr/>
          <p:nvPr/>
        </p:nvSpPr>
        <p:spPr>
          <a:xfrm>
            <a:off x="4240080" y="6663240"/>
            <a:ext cx="663840" cy="14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sp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2C0914D-FAA9-4A79-AD2A-9C6A7A81E79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6" descr="DEL_COL"/>
          <p:cNvPicPr/>
          <p:nvPr/>
        </p:nvPicPr>
        <p:blipFill>
          <a:blip r:embed="rId2"/>
          <a:stretch/>
        </p:blipFill>
        <p:spPr>
          <a:xfrm>
            <a:off x="8105760" y="6645240"/>
            <a:ext cx="690480" cy="139680"/>
          </a:xfrm>
          <a:prstGeom prst="rect">
            <a:avLst/>
          </a:prstGeom>
          <a:ln w="0">
            <a:noFill/>
          </a:ln>
        </p:spPr>
      </p:pic>
      <p:sp>
        <p:nvSpPr>
          <p:cNvPr id="530" name="Line 35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6"/>
          <p:cNvSpPr/>
          <p:nvPr/>
        </p:nvSpPr>
        <p:spPr>
          <a:xfrm>
            <a:off x="304920" y="6477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E0BB-47E7-4C6A-9609-ABC1B9972480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92040" y="1154160"/>
            <a:ext cx="4014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6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1760" y="514080"/>
            <a:ext cx="834552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96360" y="1153800"/>
            <a:ext cx="40150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5"/>
          <p:cNvSpPr/>
          <p:nvPr/>
        </p:nvSpPr>
        <p:spPr>
          <a:xfrm>
            <a:off x="4240080" y="6663240"/>
            <a:ext cx="663840" cy="14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sp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8D119EB-D64B-464E-836C-30F1A72FF8D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6" descr="DEL_COL"/>
          <p:cNvPicPr/>
          <p:nvPr/>
        </p:nvPicPr>
        <p:blipFill>
          <a:blip r:embed="rId2"/>
          <a:stretch/>
        </p:blipFill>
        <p:spPr>
          <a:xfrm>
            <a:off x="8105760" y="6645240"/>
            <a:ext cx="690480" cy="139680"/>
          </a:xfrm>
          <a:prstGeom prst="rect">
            <a:avLst/>
          </a:prstGeom>
          <a:ln w="0">
            <a:noFill/>
          </a:ln>
        </p:spPr>
      </p:pic>
      <p:sp>
        <p:nvSpPr>
          <p:cNvPr id="573" name="Line 35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6"/>
          <p:cNvSpPr/>
          <p:nvPr/>
        </p:nvSpPr>
        <p:spPr>
          <a:xfrm>
            <a:off x="304920" y="6477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D780-A054-4829-89EC-E6C2FAEB03F3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392040" y="1154160"/>
            <a:ext cx="4014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6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01760" y="514080"/>
            <a:ext cx="834552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396360" y="1153800"/>
            <a:ext cx="40150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66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01760" y="514080"/>
            <a:ext cx="834552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396360" y="1153800"/>
            <a:ext cx="40150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5"/>
          <p:cNvSpPr/>
          <p:nvPr/>
        </p:nvSpPr>
        <p:spPr>
          <a:xfrm>
            <a:off x="4240080" y="6663240"/>
            <a:ext cx="663840" cy="14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sp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9B31F83-5C75-4507-96C8-5C5511D834A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6" descr="DEL_COL"/>
          <p:cNvPicPr/>
          <p:nvPr/>
        </p:nvPicPr>
        <p:blipFill>
          <a:blip r:embed="rId2"/>
          <a:stretch/>
        </p:blipFill>
        <p:spPr>
          <a:xfrm>
            <a:off x="8105760" y="6645240"/>
            <a:ext cx="690480" cy="139680"/>
          </a:xfrm>
          <a:prstGeom prst="rect">
            <a:avLst/>
          </a:prstGeom>
          <a:ln w="0">
            <a:noFill/>
          </a:ln>
        </p:spPr>
      </p:pic>
      <p:sp>
        <p:nvSpPr>
          <p:cNvPr id="654" name="Line 35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6"/>
          <p:cNvSpPr/>
          <p:nvPr/>
        </p:nvSpPr>
        <p:spPr>
          <a:xfrm>
            <a:off x="304920" y="6477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26ED-88DB-4D70-B02F-582ECA344531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01760" y="514080"/>
            <a:ext cx="834552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396360" y="1153800"/>
            <a:ext cx="40150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Num" idx="2"/>
          </p:nvPr>
        </p:nvSpPr>
        <p:spPr>
          <a:xfrm>
            <a:off x="3898800" y="6296040"/>
            <a:ext cx="59688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2411-8553-4397-B3D0-0A02F8EDF8A0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5"/>
          <p:cNvSpPr/>
          <p:nvPr/>
        </p:nvSpPr>
        <p:spPr>
          <a:xfrm>
            <a:off x="4240080" y="6663240"/>
            <a:ext cx="663840" cy="14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sp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71579B0-4595-47E4-A8DC-4582460F020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6" descr="DEL_COL"/>
          <p:cNvPicPr/>
          <p:nvPr/>
        </p:nvPicPr>
        <p:blipFill>
          <a:blip r:embed="rId2"/>
          <a:stretch/>
        </p:blipFill>
        <p:spPr>
          <a:xfrm>
            <a:off x="8105760" y="6645240"/>
            <a:ext cx="690480" cy="139680"/>
          </a:xfrm>
          <a:prstGeom prst="rect">
            <a:avLst/>
          </a:prstGeom>
          <a:ln w="0">
            <a:noFill/>
          </a:ln>
        </p:spPr>
      </p:pic>
      <p:sp>
        <p:nvSpPr>
          <p:cNvPr id="697" name="Line 35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6"/>
          <p:cNvSpPr/>
          <p:nvPr/>
        </p:nvSpPr>
        <p:spPr>
          <a:xfrm>
            <a:off x="304920" y="6477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1BD0-98C7-4C24-B997-DD70CCBEFB9E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01760" y="514080"/>
            <a:ext cx="834552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396360" y="1153800"/>
            <a:ext cx="40150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sldNum" idx="3"/>
          </p:nvPr>
        </p:nvSpPr>
        <p:spPr>
          <a:xfrm>
            <a:off x="415440" y="6636960"/>
            <a:ext cx="2826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4765-C8CC-409A-8FB0-9FB26B1345F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9" descr="PCORI_PPInside.jpg"/>
          <p:cNvPicPr/>
          <p:nvPr/>
        </p:nvPicPr>
        <p:blipFill>
          <a:blip r:embed="rId2"/>
          <a:srcRect l="0" t="0" r="0" b="73413"/>
          <a:stretch/>
        </p:blipFill>
        <p:spPr>
          <a:xfrm>
            <a:off x="0" y="0"/>
            <a:ext cx="9161640" cy="1882800"/>
          </a:xfrm>
          <a:prstGeom prst="rect">
            <a:avLst/>
          </a:prstGeom>
          <a:ln w="0">
            <a:noFill/>
          </a:ln>
        </p:spPr>
      </p:pic>
      <p:sp>
        <p:nvSpPr>
          <p:cNvPr id="38" name="TextBox 2"/>
          <p:cNvSpPr/>
          <p:nvPr/>
        </p:nvSpPr>
        <p:spPr>
          <a:xfrm>
            <a:off x="304920" y="6477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B84A-5087-4796-963A-D2038A70E9CF}" type="slidenum">
              <a:rPr b="0" lang="en-US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6934320" y="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For Discussion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9" descr="PCORI_PPInside.jpg"/>
          <p:cNvPicPr/>
          <p:nvPr/>
        </p:nvPicPr>
        <p:blipFill>
          <a:blip r:embed="rId2"/>
          <a:srcRect l="0" t="0" r="0" b="74020"/>
          <a:stretch/>
        </p:blipFill>
        <p:spPr>
          <a:xfrm>
            <a:off x="0" y="0"/>
            <a:ext cx="9161640" cy="185724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304920" y="6477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7CD3-7B2C-4635-A475-36B0A93E7E3E}" type="slidenum">
              <a:rPr b="0" lang="en-US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1760" y="514080"/>
            <a:ext cx="834552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396360" y="1153800"/>
            <a:ext cx="400860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4240080" y="6663240"/>
            <a:ext cx="663840" cy="14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sp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7BCF500-91F3-4755-AB0C-853F0C7BBCF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DEL_COL"/>
          <p:cNvPicPr/>
          <p:nvPr/>
        </p:nvPicPr>
        <p:blipFill>
          <a:blip r:embed="rId2"/>
          <a:stretch/>
        </p:blipFill>
        <p:spPr>
          <a:xfrm>
            <a:off x="395280" y="6645240"/>
            <a:ext cx="690480" cy="139680"/>
          </a:xfrm>
          <a:prstGeom prst="rect">
            <a:avLst/>
          </a:prstGeom>
          <a:ln w="0">
            <a:noFill/>
          </a:ln>
        </p:spPr>
      </p:pic>
      <p:sp>
        <p:nvSpPr>
          <p:cNvPr id="119" name="Line 11"/>
          <p:cNvSpPr/>
          <p:nvPr/>
        </p:nvSpPr>
        <p:spPr>
          <a:xfrm>
            <a:off x="469800" y="992160"/>
            <a:ext cx="8504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-73080" bIns="-730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1760" y="514080"/>
            <a:ext cx="834552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396360" y="1153800"/>
            <a:ext cx="40150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4240080" y="6663240"/>
            <a:ext cx="663840" cy="14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sp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6FFDAD7-668C-4D75-9BF8-A3403D2AB2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DEL_COL"/>
          <p:cNvPicPr/>
          <p:nvPr/>
        </p:nvPicPr>
        <p:blipFill>
          <a:blip r:embed="rId2"/>
          <a:stretch/>
        </p:blipFill>
        <p:spPr>
          <a:xfrm>
            <a:off x="8105760" y="6645240"/>
            <a:ext cx="690480" cy="139680"/>
          </a:xfrm>
          <a:prstGeom prst="rect">
            <a:avLst/>
          </a:prstGeom>
          <a:ln w="0">
            <a:noFill/>
          </a:ln>
        </p:spPr>
      </p:pic>
      <p:sp>
        <p:nvSpPr>
          <p:cNvPr id="160" name="Line 35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304920" y="6477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5ADF-5804-4D05-963D-6ADC10C672E8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9" descr="PCORI_PPInside.jpg"/>
          <p:cNvPicPr/>
          <p:nvPr/>
        </p:nvPicPr>
        <p:blipFill>
          <a:blip r:embed="rId2"/>
          <a:srcRect l="0" t="0" r="0" b="74426"/>
          <a:stretch/>
        </p:blipFill>
        <p:spPr>
          <a:xfrm>
            <a:off x="-17640" y="0"/>
            <a:ext cx="9161640" cy="18097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2"/>
          <p:cNvSpPr/>
          <p:nvPr/>
        </p:nvSpPr>
        <p:spPr>
          <a:xfrm>
            <a:off x="304920" y="6477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9005-FA69-4DEC-99C1-CD6F42369DC5}" type="slidenum">
              <a:rPr b="0" lang="en-US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9" descr="PCORI_PPInside.jpg"/>
          <p:cNvPicPr/>
          <p:nvPr/>
        </p:nvPicPr>
        <p:blipFill>
          <a:blip r:embed="rId2"/>
          <a:srcRect l="0" t="0" r="0" b="74020"/>
          <a:stretch/>
        </p:blipFill>
        <p:spPr>
          <a:xfrm>
            <a:off x="0" y="0"/>
            <a:ext cx="9161640" cy="1857240"/>
          </a:xfrm>
          <a:prstGeom prst="rect">
            <a:avLst/>
          </a:prstGeom>
          <a:ln w="0">
            <a:noFill/>
          </a:ln>
        </p:spPr>
      </p:pic>
      <p:sp>
        <p:nvSpPr>
          <p:cNvPr id="237" name="TextBox 4"/>
          <p:cNvSpPr/>
          <p:nvPr/>
        </p:nvSpPr>
        <p:spPr>
          <a:xfrm>
            <a:off x="304920" y="6477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A042-59F9-4842-86FB-6268E1A97E1F}" type="slidenum">
              <a:rPr b="0" lang="en-US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32D7-473F-4032-90E9-2EC52A37F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585720" y="774720"/>
            <a:ext cx="7972560" cy="479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marL="119160" indent="-11916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7" descr="Untitled-1"/>
          <p:cNvPicPr/>
          <p:nvPr/>
        </p:nvPicPr>
        <p:blipFill>
          <a:blip r:embed="rId2"/>
          <a:stretch/>
        </p:blipFill>
        <p:spPr>
          <a:xfrm>
            <a:off x="250920" y="6326280"/>
            <a:ext cx="4552920" cy="3524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2" descr="LLP logo with big space copy"/>
          <p:cNvPicPr/>
          <p:nvPr/>
        </p:nvPicPr>
        <p:blipFill>
          <a:blip r:embed="rId3"/>
          <a:srcRect l="987" t="0" r="0" b="57805"/>
          <a:stretch/>
        </p:blipFill>
        <p:spPr>
          <a:xfrm>
            <a:off x="596880" y="5875200"/>
            <a:ext cx="1444680" cy="3016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1760" y="514080"/>
            <a:ext cx="834552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396360" y="1153800"/>
            <a:ext cx="400860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Line 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4240080" y="6663240"/>
            <a:ext cx="663840" cy="14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sp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0D9B90-5F1A-4E46-8EFE-3AD0B10483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6" descr="DEL_COL"/>
          <p:cNvPicPr/>
          <p:nvPr/>
        </p:nvPicPr>
        <p:blipFill>
          <a:blip r:embed="rId2"/>
          <a:stretch/>
        </p:blipFill>
        <p:spPr>
          <a:xfrm>
            <a:off x="395280" y="6645240"/>
            <a:ext cx="690480" cy="139680"/>
          </a:xfrm>
          <a:prstGeom prst="rect">
            <a:avLst/>
          </a:prstGeom>
          <a:ln w="0">
            <a:noFill/>
          </a:ln>
        </p:spPr>
      </p:pic>
      <p:sp>
        <p:nvSpPr>
          <p:cNvPr id="321" name="Line 11"/>
          <p:cNvSpPr/>
          <p:nvPr/>
        </p:nvSpPr>
        <p:spPr>
          <a:xfrm>
            <a:off x="469800" y="992160"/>
            <a:ext cx="8504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-73080" bIns="-730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392040" y="1154160"/>
            <a:ext cx="4014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6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1760" y="514080"/>
            <a:ext cx="834552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396360" y="1153800"/>
            <a:ext cx="400860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7" descr="PCORI_PPcover.jpg"/>
          <p:cNvPicPr/>
          <p:nvPr/>
        </p:nvPicPr>
        <p:blipFill>
          <a:blip r:embed="rId1"/>
          <a:stretch/>
        </p:blipFill>
        <p:spPr>
          <a:xfrm>
            <a:off x="-209520" y="-369720"/>
            <a:ext cx="9353520" cy="7227720"/>
          </a:xfrm>
          <a:prstGeom prst="rect">
            <a:avLst/>
          </a:prstGeom>
          <a:ln w="0">
            <a:noFill/>
          </a:ln>
        </p:spPr>
      </p:pic>
      <p:sp>
        <p:nvSpPr>
          <p:cNvPr id="746" name="TextBox 5"/>
          <p:cNvSpPr/>
          <p:nvPr/>
        </p:nvSpPr>
        <p:spPr>
          <a:xfrm>
            <a:off x="533520" y="304920"/>
            <a:ext cx="8610480" cy="68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CORI’s Role in Disse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atient-Centered Outcomes Resear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t “From the Ground 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Box 7"/>
          <p:cNvSpPr/>
          <p:nvPr/>
        </p:nvSpPr>
        <p:spPr>
          <a:xfrm>
            <a:off x="304920" y="144288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ssemination Accelerating Components: Proposed Checklist (cont’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9753120" y="2217600"/>
            <a:ext cx="838440" cy="7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097000" y="2514240"/>
            <a:ext cx="6742080" cy="15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escribe how you will convey study results to stakeholders and study participan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2097000" y="3622320"/>
            <a:ext cx="6742080" cy="15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escribe how you will identify facilitators and barriers to dissemination of results, and incorporation of results into practice, including but not limited to the process of engaging stakeholder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380880" y="2332080"/>
            <a:ext cx="1552680" cy="1020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 anchorCtr="1">
            <a:no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Verdana"/>
              </a:rPr>
              <a:t>Study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8"/>
          <p:cNvSpPr/>
          <p:nvPr/>
        </p:nvSpPr>
        <p:spPr>
          <a:xfrm>
            <a:off x="380880" y="3505320"/>
            <a:ext cx="1552680" cy="9144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 anchorCtr="1">
            <a:no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  <a:ea typeface="Verdana"/>
              </a:rPr>
              <a:t>Barriers Assess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9"/>
          <p:cNvSpPr/>
          <p:nvPr/>
        </p:nvSpPr>
        <p:spPr>
          <a:xfrm>
            <a:off x="380880" y="4724280"/>
            <a:ext cx="1552680" cy="11430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 anchorCtr="1">
            <a:no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  <a:ea typeface="Verdana"/>
              </a:rPr>
              <a:t>Resource Shar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2097000" y="4952520"/>
            <a:ext cx="6742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escribe how you will allocate and share resources with stakeholde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Box 5"/>
          <p:cNvSpPr/>
          <p:nvPr/>
        </p:nvSpPr>
        <p:spPr>
          <a:xfrm>
            <a:off x="609480" y="2895480"/>
            <a:ext cx="27036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olyn Clancy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-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ron Levine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-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wrence Bec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en Dou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ard Hol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il H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6"/>
          <p:cNvSpPr/>
          <p:nvPr/>
        </p:nvSpPr>
        <p:spPr>
          <a:xfrm>
            <a:off x="4714920" y="2971800"/>
            <a:ext cx="1990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eda Lewis-H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ve Lip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ian Mitt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bin New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yson Norqu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an Slut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7"/>
          <p:cNvSpPr/>
          <p:nvPr/>
        </p:nvSpPr>
        <p:spPr>
          <a:xfrm>
            <a:off x="228600" y="1442880"/>
            <a:ext cx="784872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mbers of the Joint AHRQ/PCORI Dissemination   Work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Placeholder 2"/>
          <p:cNvSpPr/>
          <p:nvPr/>
        </p:nvSpPr>
        <p:spPr>
          <a:xfrm>
            <a:off x="533520" y="6459480"/>
            <a:ext cx="8102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ource: Affordable Care Act. Subtitle D—Patient-Centered Outcomes Research. PUBLIC LAW 111–148—MAR. 23, 2010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25"/>
          <p:cNvGrpSpPr/>
          <p:nvPr/>
        </p:nvGrpSpPr>
        <p:grpSpPr>
          <a:xfrm>
            <a:off x="387360" y="2730600"/>
            <a:ext cx="1812960" cy="2663640"/>
            <a:chOff x="387360" y="2730600"/>
            <a:chExt cx="1812960" cy="2663640"/>
          </a:xfrm>
        </p:grpSpPr>
        <p:pic>
          <p:nvPicPr>
            <p:cNvPr id="752" name="Picture 2" descr=""/>
            <p:cNvPicPr/>
            <p:nvPr/>
          </p:nvPicPr>
          <p:blipFill>
            <a:blip r:embed="rId1"/>
            <a:srcRect l="21797" t="12552" r="10377" b="0"/>
            <a:stretch/>
          </p:blipFill>
          <p:spPr>
            <a:xfrm>
              <a:off x="477720" y="2730600"/>
              <a:ext cx="1722600" cy="2571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53" name="Picture 2" descr=""/>
            <p:cNvPicPr/>
            <p:nvPr/>
          </p:nvPicPr>
          <p:blipFill>
            <a:blip r:embed="rId2"/>
            <a:srcRect l="21797" t="12552" r="10377" b="0"/>
            <a:stretch/>
          </p:blipFill>
          <p:spPr>
            <a:xfrm>
              <a:off x="432360" y="2776680"/>
              <a:ext cx="1722600" cy="2571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54" name="Picture 2" descr=""/>
            <p:cNvPicPr/>
            <p:nvPr/>
          </p:nvPicPr>
          <p:blipFill>
            <a:blip r:embed="rId3"/>
            <a:srcRect l="21797" t="12552" r="10377" b="0"/>
            <a:stretch/>
          </p:blipFill>
          <p:spPr>
            <a:xfrm>
              <a:off x="387360" y="2822760"/>
              <a:ext cx="1722600" cy="2571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755" name="TextBox 12"/>
          <p:cNvSpPr/>
          <p:nvPr/>
        </p:nvSpPr>
        <p:spPr>
          <a:xfrm>
            <a:off x="2666880" y="2104920"/>
            <a:ext cx="63248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‘‘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c) PURPOSE.—The purpose of the Institute is to assist patients, clinicians, purchasers, and policy-makers in making informed health decisions ….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and the dissemination of research findings with respect to the relative health outcomes, clinical effectiveness, and appropriateness of the medical treatments, services, and items described in subsection (a)(2)(B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‘‘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1) DISSEMINATION.—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he Office of Communication and  Knowledge Transfer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referred to in this section as the ‘Office’)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t the Agency for Healthcare Research and Quality (or any other relevant offi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designated by Agency for Healthcare Research and Quality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), in consultation with the National Institutes of Health, shall broadly disseminate the research findings that are published by the Patient Centered Outcomes Research Institut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established under section 1181(b) of the Social Security Act (referred to in this section as the ‘Institute’)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d other government-funded research relevant to comparative clinical effectiveness researc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The Office shall create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formational tools that organize and disseminate research findings for physicians, health care providers, patients, payers, and policy maker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he Office shall also develop a publicly available resource database that collects and contains government-funded evidence and research from public, private, not-for profit, and academic sources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3"/>
          <p:cNvSpPr/>
          <p:nvPr/>
        </p:nvSpPr>
        <p:spPr>
          <a:xfrm>
            <a:off x="2133720" y="3889440"/>
            <a:ext cx="121896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6000"/>
              </a:lnSpc>
              <a:spcBef>
                <a:spcPts val="539"/>
              </a:spcBef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urp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14"/>
          <p:cNvSpPr/>
          <p:nvPr/>
        </p:nvSpPr>
        <p:spPr>
          <a:xfrm>
            <a:off x="393480" y="14428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egi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380880" y="20570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ccess” for PCORI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HRQ =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mpac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n practice and patient outco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CORI will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sseminate results of PCORI-funded and conducted research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PCORI will also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nd research on dissemina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but will complement and supplement what AHRQ/NIH are doing, not duplicate eff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CORI has unique opportunities – and legislative 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semination is essential and requires investment, which could occur in multiple way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courage / require “dissemination accelerating components” in all PF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vide rapid follow-on funding for dissemination for selected stud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Box 4"/>
          <p:cNvSpPr/>
          <p:nvPr/>
        </p:nvSpPr>
        <p:spPr>
          <a:xfrm>
            <a:off x="304920" y="14479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CORI Dissemination 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380880" y="20570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CORI has a related role and opportunity in creating demand for, and receptivity to, PCOR in anticipation of evidence/research finding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t a one-size fits all endeavor—translating results, and influencing behavior,  is context-depend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CORI will be most effective by establishing partnerships early (with AHRQ, NIH, NGO’s and private sector actors) and clarifying what PCORI will and will not 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ffective patient and stakeholder engagement, early on in the research endeavor, is the first step in planning and executing dissemination, and facilitating uptak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Box 4"/>
          <p:cNvSpPr/>
          <p:nvPr/>
        </p:nvSpPr>
        <p:spPr>
          <a:xfrm>
            <a:off x="304920" y="14479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CORI Dissemination Assumptions (cont’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Box 4"/>
          <p:cNvSpPr/>
          <p:nvPr/>
        </p:nvSpPr>
        <p:spPr>
          <a:xfrm>
            <a:off x="721440" y="1447920"/>
            <a:ext cx="59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rst Steps: Learning from the Work of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380880" y="20570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ining “successful dissemination” and potential obstacles/barriers to succes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ntifying dissemination activities of other organizations, including AHRQ, to determine potential gaps PCORI might fi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ssons from dissemination studies that may be relevant to PCO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velop a Dissemination Framework and Strategy to guide PCORI’s work, and to reflect the opportunities for partnership and collabo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685440" y="1371600"/>
            <a:ext cx="8102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13307a"/>
                </a:solidFill>
                <a:latin typeface="Verdana"/>
              </a:rPr>
              <a:t>Learning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102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800"/>
              </a:spcBef>
              <a:buClr>
                <a:srgbClr val="5b6f7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b6f7c"/>
                </a:solidFill>
                <a:latin typeface="Verdana"/>
              </a:rPr>
              <a:t>Programs are most successful when they are audience-centered and use the audiences’ preferred formats, channels and trusted sources of inform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800"/>
              </a:spcBef>
              <a:buClr>
                <a:srgbClr val="5b6f7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b6f7c"/>
                </a:solidFill>
                <a:latin typeface="Verdana"/>
              </a:rPr>
              <a:t>Credentials are important in gaining access to healthcare provi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800"/>
              </a:spcBef>
              <a:buClr>
                <a:srgbClr val="5b6f7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b6f7c"/>
                </a:solidFill>
                <a:latin typeface="Verdana"/>
              </a:rPr>
              <a:t>Health plans, health systems, and large medical groups can provide valuable  and systematic  access to clinici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800"/>
              </a:spcBef>
              <a:buClr>
                <a:srgbClr val="5b6f7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b6f7c"/>
                </a:solidFill>
                <a:latin typeface="Verdana"/>
              </a:rPr>
              <a:t>Clinicians and Patients each want unbiased and balanced information  from a trusted and credible sour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800"/>
              </a:spcBef>
              <a:buClr>
                <a:srgbClr val="5b6f7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b6f7c"/>
                </a:solidFill>
                <a:latin typeface="Verdana"/>
              </a:rPr>
              <a:t>Disseminating new research differs from disseminating systematic revie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800"/>
              </a:spcBef>
              <a:buClr>
                <a:srgbClr val="5b6f7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b6f7c"/>
                </a:solidFill>
                <a:latin typeface="Verdana"/>
              </a:rPr>
              <a:t>Potential for CER results to influence practice not yet realized – where the opportunity l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FE2E-0C39-4DC3-8C58-FEFE2B8E6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685440" y="1371600"/>
            <a:ext cx="810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13307a"/>
                </a:solidFill>
                <a:latin typeface="Verdana"/>
              </a:rPr>
              <a:t>Learnings (cont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102520" cy="41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5b6f7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b6f7c"/>
                </a:solidFill>
                <a:latin typeface="Verdana"/>
              </a:rPr>
              <a:t>Current under-appreciation for the roles of specialty societies in changing clinical practice: </a:t>
            </a:r>
            <a:r>
              <a:rPr b="0" i="1" lang="en-US" sz="1800" spc="-1" strike="noStrike">
                <a:solidFill>
                  <a:srgbClr val="5b6f7c"/>
                </a:solidFill>
                <a:latin typeface="Verdana"/>
              </a:rPr>
              <a:t>ChoosingWisely </a:t>
            </a:r>
            <a:r>
              <a:rPr b="0" lang="en-US" sz="1800" spc="-1" strike="noStrike">
                <a:solidFill>
                  <a:srgbClr val="5b6f7c"/>
                </a:solidFill>
                <a:latin typeface="Verdana"/>
              </a:rPr>
              <a:t>campaign, and its impact on prasctice, bears watc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5b6f7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b6f7c"/>
                </a:solidFill>
                <a:latin typeface="Verdana"/>
              </a:rPr>
              <a:t>Information on successful practices, and the rate of diffusion, is nee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5b6f7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b6f7c"/>
                </a:solidFill>
                <a:latin typeface="Verdana"/>
              </a:rPr>
              <a:t>Need to create demand on the front end—this could be written into PCORI solicitations: “Dissemination Accelerating Components” in PFA’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4A8C-C89F-4E99-83B1-23308C379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Box 7"/>
          <p:cNvSpPr/>
          <p:nvPr/>
        </p:nvSpPr>
        <p:spPr>
          <a:xfrm>
            <a:off x="304920" y="144288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ssemination Accelerating Components: Proposed Check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2097000" y="2217600"/>
            <a:ext cx="6742080" cy="7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dentify stakeholders (including patients, caregivers, clinicians, communities, policy makers and institutions) for whom the results of the research will be relevant and meaningfu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2097000" y="3355920"/>
            <a:ext cx="6742080" cy="7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escribe the points in the research processs at which key stakeholders will be engaged, from the early planning process and throughout the stud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2097000" y="4464000"/>
            <a:ext cx="6742080" cy="7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escribe how you will engage stakeholders at each identified point during the study and at its conclusion, including sharing and discussing research resul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380880" y="2209680"/>
            <a:ext cx="1552680" cy="8953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 anchorCtr="1">
            <a:no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  <a:ea typeface="Verdana"/>
              </a:rPr>
              <a:t>Stakehold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7"/>
          <p:cNvSpPr/>
          <p:nvPr/>
        </p:nvSpPr>
        <p:spPr>
          <a:xfrm>
            <a:off x="380880" y="3338640"/>
            <a:ext cx="1552680" cy="8953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 anchorCtr="1">
            <a:no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  <a:ea typeface="Verdana"/>
              </a:rPr>
              <a:t>Engagement Poi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8"/>
          <p:cNvSpPr/>
          <p:nvPr/>
        </p:nvSpPr>
        <p:spPr>
          <a:xfrm>
            <a:off x="380880" y="4456080"/>
            <a:ext cx="1552680" cy="8953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 anchorCtr="1">
            <a:no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  <a:ea typeface="Verdana"/>
              </a:rPr>
              <a:t>Engagement Typ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9"/>
          <p:cNvSpPr/>
          <p:nvPr/>
        </p:nvSpPr>
        <p:spPr>
          <a:xfrm>
            <a:off x="380880" y="5584680"/>
            <a:ext cx="1552680" cy="8953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 anchorCtr="1">
            <a:no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  <a:ea typeface="Verdana"/>
              </a:rPr>
              <a:t>Governance Pl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Placeholder 27"/>
          <p:cNvSpPr/>
          <p:nvPr/>
        </p:nvSpPr>
        <p:spPr>
          <a:xfrm>
            <a:off x="2058840" y="5592600"/>
            <a:ext cx="674244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Arial"/>
              </a:rPr>
              <a:t>Describe how you will develop a governance plan for the project that articulates specific roles and responsibilities for the research team and stakeholder groups, and defines rules for decision making and conflict resolution/resolution of differenc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19:42:53Z</dcterms:created>
  <dc:creator>SModi</dc:creator>
  <dc:description/>
  <dc:language>en-US</dc:language>
  <cp:lastModifiedBy>DHHS</cp:lastModifiedBy>
  <dcterms:modified xsi:type="dcterms:W3CDTF">2012-04-18T16:00:30Z</dcterms:modified>
  <cp:revision>760</cp:revision>
  <dc:subject/>
  <dc:title>Slide 1</dc:title>
</cp:coreProperties>
</file>