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dt" idx="4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ftr" idx="5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 type="sldNum" idx="6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3047-22C4-4C3B-8F0A-A9B4F3CB8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229A-AEAD-47EA-B9CC-23831D759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4DB40-98BE-4B6D-AE0A-525D3519427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487F-78B9-4164-90E7-298E78C04FF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09B23-1AE0-465E-8703-F18EE0A5E5B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61B8C-0B4B-4F45-B22A-B5E87174BDF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750F-1100-4588-BC1A-8D438CB9644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AE734-B420-430A-B2AA-FDF6ED42EF1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409EF-666E-4927-A672-E832AF5E5F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9924-CF6D-43A2-A220-725AF11D492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15FE-6776-4CD7-BBBA-BF0A9807CFB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226B6-4631-4F97-84DF-8DA8B66F7C4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DD6B-18C1-453A-899D-8B2A2B27442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B4F1A-5734-4CEB-B20A-2C9573488B1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385-9B97-4325-A263-6980F4AD048A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0D3-BF13-49BA-B470-81601A25177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140-961E-4916-BD48-A36FD13DD40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93E-741F-4234-A6B3-490599553B4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778-72A2-4D77-B3B8-4F7FBEF7D1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9A8-C9C8-4606-996A-120374A438D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66F-1EFF-4301-92BE-E0C11552B0D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143-E94E-467A-B8C0-A95DD1670E7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80A-5E80-40F4-A0E8-C0C93C67C9E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00F-970A-4230-89F9-25881B6C480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C11-F839-4F0F-B4DB-636CB277D60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279-8DD0-49DE-89D1-9A62E2EE4B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3E97-7FA7-411B-8DE0-A852BAD3567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11D9-6050-49A5-8B8C-2B0B33FC7E4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BF9A-73DF-45CA-88F2-21BAC52DC74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7F9B-31DB-4F6D-88F4-B8C5EA87BED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D7DA-11CA-4221-804D-B2FEC33895A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6405-1764-4BBC-913D-281EF9B8832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4994-89A1-4E8A-A6EA-0E5014A75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CBF82-6234-419B-BB82-800F2DC7774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5EFF-BBE9-40AD-BD07-5B358B0627B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8CC1-554F-41EC-A0E3-89B0DF4E031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038D-0128-41D9-A487-C6717CF5094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98FA-10E5-4E72-B560-CCE7AA9F6CF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PCORI_PPInside.jpg"/>
          <p:cNvPicPr/>
          <p:nvPr/>
        </p:nvPicPr>
        <p:blipFill>
          <a:blip r:embed="rId2"/>
          <a:srcRect l="0" t="0" r="0" b="74426"/>
          <a:stretch/>
        </p:blipFill>
        <p:spPr>
          <a:xfrm>
            <a:off x="-17640" y="0"/>
            <a:ext cx="9161640" cy="18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585720" y="774720"/>
            <a:ext cx="7972560" cy="479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119160" indent="-11916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885600" y="4756320"/>
            <a:ext cx="15994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oitte Consulting L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9" descr="LLP logo with big space copy"/>
          <p:cNvPicPr/>
          <p:nvPr/>
        </p:nvPicPr>
        <p:blipFill>
          <a:blip r:embed="rId2"/>
          <a:srcRect l="987" t="1762" r="0" b="59819"/>
          <a:stretch/>
        </p:blipFill>
        <p:spPr>
          <a:xfrm>
            <a:off x="892080" y="1806480"/>
            <a:ext cx="1924200" cy="3654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1AA2E8-F90C-4477-9CDD-E89F0C455F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0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146B-2589-4019-BFD0-B5975F934125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1741320" y="2365200"/>
            <a:ext cx="5634360" cy="24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3080" bIns="73080" anchor="t">
            <a:noAutofit/>
          </a:bodyPr>
          <a:p>
            <a:pPr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2478240" y="2136600"/>
            <a:ext cx="4167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0" bIns="0" anchor="b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9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DAB3-743B-46F1-9FED-102F9931C56A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EA1F9B-BAB2-450C-BF20-78740EABDB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487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EA2F-FB48-44F3-97ED-9F34505C2282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392040" y="1154160"/>
            <a:ext cx="4014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DD30ED-E962-43D7-91CB-518C27AA59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530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6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A6A1-8B5A-4C4D-93CC-D395489FFA3A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92040" y="1154160"/>
            <a:ext cx="4014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A5D457-F223-4223-8B3A-9941A935F4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573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6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37D0-65E3-4C3A-92DE-C65228806365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92040" y="1154160"/>
            <a:ext cx="4014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66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B0495A-1AF0-4BFA-A706-E9223FCE04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654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6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91CB-3766-44CE-BCD3-5655EEE7DF9C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sldNum" idx="2"/>
          </p:nvPr>
        </p:nvSpPr>
        <p:spPr>
          <a:xfrm>
            <a:off x="3898800" y="6296040"/>
            <a:ext cx="59688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9E13-994F-4549-945B-9741DA23CE44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EFAA34-1E7B-442D-88D2-72AB5A10D5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697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6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FED7-F1A2-476B-A027-5F26AA41DBFF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3"/>
          </p:nvPr>
        </p:nvSpPr>
        <p:spPr>
          <a:xfrm>
            <a:off x="415440" y="6636960"/>
            <a:ext cx="282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38D5-E50B-4AD1-9A04-462298E422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9" descr="PCORI_PPInside.jpg"/>
          <p:cNvPicPr/>
          <p:nvPr/>
        </p:nvPicPr>
        <p:blipFill>
          <a:blip r:embed="rId2"/>
          <a:srcRect l="0" t="0" r="0" b="73413"/>
          <a:stretch/>
        </p:blipFill>
        <p:spPr>
          <a:xfrm>
            <a:off x="0" y="0"/>
            <a:ext cx="9161640" cy="1882800"/>
          </a:xfrm>
          <a:prstGeom prst="rect">
            <a:avLst/>
          </a:prstGeom>
          <a:ln w="0">
            <a:noFill/>
          </a:ln>
        </p:spPr>
      </p:pic>
      <p:sp>
        <p:nvSpPr>
          <p:cNvPr id="38" name="TextBox 2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90ED-E65A-4874-BC15-B2751F6CF996}" type="slidenum">
              <a:rPr b="0" lang="en-US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6934320" y="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or Discussio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PCORI_PPInside.jpg"/>
          <p:cNvPicPr/>
          <p:nvPr/>
        </p:nvPicPr>
        <p:blipFill>
          <a:blip r:embed="rId2"/>
          <a:srcRect l="0" t="0" r="0" b="74020"/>
          <a:stretch/>
        </p:blipFill>
        <p:spPr>
          <a:xfrm>
            <a:off x="0" y="0"/>
            <a:ext cx="9161640" cy="1857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26B9-44CF-4364-B75A-561761189E64}" type="slidenum">
              <a:rPr b="0" lang="en-US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08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72051A-1455-4721-853A-0D7A7D4A4F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DEL_COL"/>
          <p:cNvPicPr/>
          <p:nvPr/>
        </p:nvPicPr>
        <p:blipFill>
          <a:blip r:embed="rId2"/>
          <a:stretch/>
        </p:blipFill>
        <p:spPr>
          <a:xfrm>
            <a:off x="39528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119" name="Line 11"/>
          <p:cNvSpPr/>
          <p:nvPr/>
        </p:nvSpPr>
        <p:spPr>
          <a:xfrm>
            <a:off x="469800" y="992160"/>
            <a:ext cx="8504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-73080" bIns="-730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15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93501C-43BC-4ED5-80AA-E9C760752C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DEL_COL"/>
          <p:cNvPicPr/>
          <p:nvPr/>
        </p:nvPicPr>
        <p:blipFill>
          <a:blip r:embed="rId2"/>
          <a:stretch/>
        </p:blipFill>
        <p:spPr>
          <a:xfrm>
            <a:off x="810576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160" name="Line 35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6F77-E8AC-4B4F-BE07-E372F8145AC2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9" descr="PCORI_PPInside.jpg"/>
          <p:cNvPicPr/>
          <p:nvPr/>
        </p:nvPicPr>
        <p:blipFill>
          <a:blip r:embed="rId2"/>
          <a:srcRect l="0" t="0" r="0" b="74426"/>
          <a:stretch/>
        </p:blipFill>
        <p:spPr>
          <a:xfrm>
            <a:off x="-17640" y="0"/>
            <a:ext cx="9161640" cy="1809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7DFE-1406-4389-A22C-3DD99E933A2E}" type="slidenum">
              <a:rPr b="0" lang="en-US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9" descr="PCORI_PPInside.jpg"/>
          <p:cNvPicPr/>
          <p:nvPr/>
        </p:nvPicPr>
        <p:blipFill>
          <a:blip r:embed="rId2"/>
          <a:srcRect l="0" t="0" r="0" b="74020"/>
          <a:stretch/>
        </p:blipFill>
        <p:spPr>
          <a:xfrm>
            <a:off x="0" y="0"/>
            <a:ext cx="9161640" cy="18572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4"/>
          <p:cNvSpPr/>
          <p:nvPr/>
        </p:nvSpPr>
        <p:spPr>
          <a:xfrm>
            <a:off x="304920" y="6477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7957-5E1E-434C-A87B-9D8C54956913}" type="slidenum">
              <a:rPr b="0" lang="en-US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7A17-AE67-4D1D-9F72-8961174D0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585720" y="774720"/>
            <a:ext cx="7972560" cy="479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119160" indent="-11916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Untitled-1"/>
          <p:cNvPicPr/>
          <p:nvPr/>
        </p:nvPicPr>
        <p:blipFill>
          <a:blip r:embed="rId2"/>
          <a:stretch/>
        </p:blipFill>
        <p:spPr>
          <a:xfrm>
            <a:off x="250920" y="6326280"/>
            <a:ext cx="4552920" cy="352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LLP logo with big space copy"/>
          <p:cNvPicPr/>
          <p:nvPr/>
        </p:nvPicPr>
        <p:blipFill>
          <a:blip r:embed="rId3"/>
          <a:srcRect l="987" t="0" r="0" b="57805"/>
          <a:stretch/>
        </p:blipFill>
        <p:spPr>
          <a:xfrm>
            <a:off x="596880" y="5875200"/>
            <a:ext cx="1444680" cy="3016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08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Line 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4240080" y="6663240"/>
            <a:ext cx="663840" cy="1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sp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7BE5A2-EC99-46E0-836B-C32BF7D654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DEL_COL"/>
          <p:cNvPicPr/>
          <p:nvPr/>
        </p:nvPicPr>
        <p:blipFill>
          <a:blip r:embed="rId2"/>
          <a:stretch/>
        </p:blipFill>
        <p:spPr>
          <a:xfrm>
            <a:off x="395280" y="6645240"/>
            <a:ext cx="690480" cy="139680"/>
          </a:xfrm>
          <a:prstGeom prst="rect">
            <a:avLst/>
          </a:prstGeom>
          <a:ln w="0">
            <a:noFill/>
          </a:ln>
        </p:spPr>
      </p:pic>
      <p:sp>
        <p:nvSpPr>
          <p:cNvPr id="321" name="Line 11"/>
          <p:cNvSpPr/>
          <p:nvPr/>
        </p:nvSpPr>
        <p:spPr>
          <a:xfrm>
            <a:off x="469800" y="992160"/>
            <a:ext cx="8504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-73080" bIns="-7308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392040" y="1154160"/>
            <a:ext cx="401472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6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1760" y="514080"/>
            <a:ext cx="8345520" cy="2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96360" y="1153800"/>
            <a:ext cx="400860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6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6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7" descr="PCORI_PPcover.jpg"/>
          <p:cNvPicPr/>
          <p:nvPr/>
        </p:nvPicPr>
        <p:blipFill>
          <a:blip r:embed="rId1"/>
          <a:stretch/>
        </p:blipFill>
        <p:spPr>
          <a:xfrm>
            <a:off x="-209520" y="-369720"/>
            <a:ext cx="9353520" cy="7227720"/>
          </a:xfrm>
          <a:prstGeom prst="rect">
            <a:avLst/>
          </a:prstGeom>
          <a:ln w="0">
            <a:noFill/>
          </a:ln>
        </p:spPr>
      </p:pic>
      <p:sp>
        <p:nvSpPr>
          <p:cNvPr id="746" name="TextBox 5"/>
          <p:cNvSpPr/>
          <p:nvPr/>
        </p:nvSpPr>
        <p:spPr>
          <a:xfrm>
            <a:off x="533520" y="304920"/>
            <a:ext cx="8610480" cy="68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CORI’s Role in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atient-Centered Outcomes Resear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t “From the Ground 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Box 7"/>
          <p:cNvSpPr/>
          <p:nvPr/>
        </p:nvSpPr>
        <p:spPr>
          <a:xfrm>
            <a:off x="304920" y="14428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semination Accelerating Components: Proposed Checklist 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9753120" y="2217600"/>
            <a:ext cx="83844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097000" y="2514240"/>
            <a:ext cx="6742080" cy="15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scribe how you will convey study results to stakeholders and study participa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2097000" y="3622320"/>
            <a:ext cx="6742080" cy="15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scribe how you will identify facilitators and barriers to dissemination of results, and incorporation of results into practice, including but not limited to the process of engaging stakeholder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380880" y="2332080"/>
            <a:ext cx="1552680" cy="1020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Verdana"/>
              </a:rPr>
              <a:t>Study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8"/>
          <p:cNvSpPr/>
          <p:nvPr/>
        </p:nvSpPr>
        <p:spPr>
          <a:xfrm>
            <a:off x="380880" y="3505320"/>
            <a:ext cx="1552680" cy="9144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Barriers Assess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9"/>
          <p:cNvSpPr/>
          <p:nvPr/>
        </p:nvSpPr>
        <p:spPr>
          <a:xfrm>
            <a:off x="380880" y="4724280"/>
            <a:ext cx="1552680" cy="11430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Resource Sha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097000" y="4952520"/>
            <a:ext cx="674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scribe how you will allocate and share resources with stakehold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5"/>
          <p:cNvSpPr/>
          <p:nvPr/>
        </p:nvSpPr>
        <p:spPr>
          <a:xfrm>
            <a:off x="609480" y="2895480"/>
            <a:ext cx="27036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olyn Clancy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on Levine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wrence Be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en Do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ard Hol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il H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4714920" y="2971800"/>
            <a:ext cx="1990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da Lewis-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ve Lip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ian Mit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bin New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yson Norqu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an Slut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7"/>
          <p:cNvSpPr/>
          <p:nvPr/>
        </p:nvSpPr>
        <p:spPr>
          <a:xfrm>
            <a:off x="228600" y="1442880"/>
            <a:ext cx="78487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ers of the Joint AHRQ/PCORI Dissemination   Work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Placeholder 2"/>
          <p:cNvSpPr/>
          <p:nvPr/>
        </p:nvSpPr>
        <p:spPr>
          <a:xfrm>
            <a:off x="533520" y="6459480"/>
            <a:ext cx="8102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ource: Affordable Care Act. Subtitle D—Patient-Centered Outcomes Research. PUBLIC LAW 111–148—MAR. 23, 2010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25"/>
          <p:cNvGrpSpPr/>
          <p:nvPr/>
        </p:nvGrpSpPr>
        <p:grpSpPr>
          <a:xfrm>
            <a:off x="387360" y="2730600"/>
            <a:ext cx="1812960" cy="2663640"/>
            <a:chOff x="387360" y="2730600"/>
            <a:chExt cx="1812960" cy="2663640"/>
          </a:xfrm>
        </p:grpSpPr>
        <p:pic>
          <p:nvPicPr>
            <p:cNvPr id="752" name="Picture 2" descr=""/>
            <p:cNvPicPr/>
            <p:nvPr/>
          </p:nvPicPr>
          <p:blipFill>
            <a:blip r:embed="rId1"/>
            <a:srcRect l="21797" t="12552" r="10377" b="0"/>
            <a:stretch/>
          </p:blipFill>
          <p:spPr>
            <a:xfrm>
              <a:off x="477720" y="2730600"/>
              <a:ext cx="172260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3" name="Picture 2" descr=""/>
            <p:cNvPicPr/>
            <p:nvPr/>
          </p:nvPicPr>
          <p:blipFill>
            <a:blip r:embed="rId2"/>
            <a:srcRect l="21797" t="12552" r="10377" b="0"/>
            <a:stretch/>
          </p:blipFill>
          <p:spPr>
            <a:xfrm>
              <a:off x="432360" y="2776680"/>
              <a:ext cx="172260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54" name="Picture 2" descr=""/>
            <p:cNvPicPr/>
            <p:nvPr/>
          </p:nvPicPr>
          <p:blipFill>
            <a:blip r:embed="rId3"/>
            <a:srcRect l="21797" t="12552" r="10377" b="0"/>
            <a:stretch/>
          </p:blipFill>
          <p:spPr>
            <a:xfrm>
              <a:off x="387360" y="2822760"/>
              <a:ext cx="1722600" cy="2571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755" name="TextBox 12"/>
          <p:cNvSpPr/>
          <p:nvPr/>
        </p:nvSpPr>
        <p:spPr>
          <a:xfrm>
            <a:off x="2666880" y="2104920"/>
            <a:ext cx="63248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c) PURPOSE.—The purpose of the Institute is to assist patients, clinicians, purchasers, and policy-makers in making informed health decisions ….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and the dissemination of research findings with respect to the relative health outcomes, clinical effectiveness, and appropriateness of the medical treatments, services, and items described in subsection (a)(2)(B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) DISSEMINATION.—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e Office of Communication and  Knowledge Transfer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referred to in this section as the ‘Office’)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t the Agency for Healthcare Research and Quality (or any other relevant offi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designated by Agency for Healthcare Research and Qualit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), in consultation with the National Institutes of Health, shall broadly disseminate the research findings that are published by the Patient Centered Outcomes Research Institut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established under section 1181(b) of the Social Security Act (referred to in this section as the ‘Institute’)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d other government-funded research relevant to comparative clinical effectiveness researc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The Office shall creat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ormational tools that organize and disseminate research findings for physicians, health care providers, patients, payers, and policy maker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he Office shall also develop a publicly available resource database that collects and contains government-funded evidence and research from public, private, not-for profit, and academic sources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3"/>
          <p:cNvSpPr/>
          <p:nvPr/>
        </p:nvSpPr>
        <p:spPr>
          <a:xfrm>
            <a:off x="2133720" y="3889440"/>
            <a:ext cx="121896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6000"/>
              </a:lnSpc>
              <a:spcBef>
                <a:spcPts val="539"/>
              </a:spcBef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14"/>
          <p:cNvSpPr/>
          <p:nvPr/>
        </p:nvSpPr>
        <p:spPr>
          <a:xfrm>
            <a:off x="393480" y="14428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ccess” for PCORI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HRQ =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ac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n practice and patient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ORI wil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sseminate results of PCORI-funded and conducted research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PCORI will also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d research on dissemin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but will complement and supplement what AHRQ/NIH are doing, not duplicate eff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ORI has unique opportunities – and legislative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semination is essential and requires investment, which could occur in multiple way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courage / require “dissemination accelerating components” in all PF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Verdana"/>
              <a:buChar char="‒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de rapid follow-on funding for dissemination for selected stud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4"/>
          <p:cNvSpPr/>
          <p:nvPr/>
        </p:nvSpPr>
        <p:spPr>
          <a:xfrm>
            <a:off x="304920" y="14479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CORI Dissemination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ORI has a related role and opportunity in creating demand for, and receptivity to, PCOR in anticipation of evidence/research find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 a one-size fits all endeavor—translating results, and influencing behavior,  is context-depend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ORI will be most effective by establishing partnerships early (with AHRQ, NIH, NGO’s and private sector actors) and clarifying what PCORI will and will not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ffective patient and stakeholder engagement, early on in the research endeavor, is the first step in planning and executing dissemination, and facilitating upta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4"/>
          <p:cNvSpPr/>
          <p:nvPr/>
        </p:nvSpPr>
        <p:spPr>
          <a:xfrm>
            <a:off x="304920" y="14479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CORI Dissemination Assumptions (cont’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Box 4"/>
          <p:cNvSpPr/>
          <p:nvPr/>
        </p:nvSpPr>
        <p:spPr>
          <a:xfrm>
            <a:off x="721440" y="144792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st Steps: Learning from the Work of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fining “successful dissemination” and potential obstacles/barriers to succes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dentifying dissemination activities of other organizations, including AHRQ, to determine potential gaps PCORI might f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ssons from dissemination studies that may be relevant to PCO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 a Dissemination Framework and Strategy to guide PCORI’s work, and to reflect the opportunities for partnership and collabo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102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13307a"/>
                </a:solidFill>
                <a:latin typeface="Verdana"/>
              </a:rPr>
              <a:t>Learning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1025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Programs are most successful when they are audience-centered and use the audiences’ preferred formats, channels and trusted sources of inform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Credentials are important in gaining access to healthcare provi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Health plans, health systems, and large medical groups can provide valuable  and systematic  access to clinici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Clinicians and Patients each want unbiased and balanced information  from a trusted and credible sou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Disseminating new research differs from disseminating systematic re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Potential for CER results to influence practice not yet realized – where the opportunity l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F750-5BFB-49A1-8FB2-13FF27212A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10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13307a"/>
                </a:solidFill>
                <a:latin typeface="Verdana"/>
              </a:rPr>
              <a:t>Learnings (con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102520" cy="41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Current under-appreciation for the roles of specialty societies in changing clinical practice: </a:t>
            </a:r>
            <a:r>
              <a:rPr b="0" i="1" lang="en-US" sz="1800" spc="-1" strike="noStrike">
                <a:solidFill>
                  <a:srgbClr val="5b6f7c"/>
                </a:solidFill>
                <a:latin typeface="Verdana"/>
              </a:rPr>
              <a:t>ChoosingWisely </a:t>
            </a: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campaign, and its impact on prasctice, bears wat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Information on successful practices, and the rate of diffusion, i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5b6f7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6f7c"/>
                </a:solidFill>
                <a:latin typeface="Verdana"/>
              </a:rPr>
              <a:t>Need to create demand on the front end—this could be written into PCORI solicitations: “Dissemination Accelerating Components” in PFA’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CC51-D8C6-47AB-B703-094B26C2C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Box 7"/>
          <p:cNvSpPr/>
          <p:nvPr/>
        </p:nvSpPr>
        <p:spPr>
          <a:xfrm>
            <a:off x="304920" y="14428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ssemination Accelerating Components: Proposed Check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2097000" y="2217600"/>
            <a:ext cx="674208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dentify stakeholders (including patients, caregivers, clinicians, communities, policy makers and institutions) for whom the results of the research will be relevant and meaningfu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097000" y="3355920"/>
            <a:ext cx="674208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scribe the points in the research processs at which key stakeholders will be engaged, from the early planning process and throughout the stud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2097000" y="4464000"/>
            <a:ext cx="6742080" cy="7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Describe how you will engage stakeholders at each identified point during the study and at its conclusion, including sharing and discussing research resul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380880" y="2209680"/>
            <a:ext cx="1552680" cy="895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Stakehold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380880" y="3338640"/>
            <a:ext cx="1552680" cy="895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Engagement Poi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8"/>
          <p:cNvSpPr/>
          <p:nvPr/>
        </p:nvSpPr>
        <p:spPr>
          <a:xfrm>
            <a:off x="380880" y="4456080"/>
            <a:ext cx="1552680" cy="895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Engagement Ty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9"/>
          <p:cNvSpPr/>
          <p:nvPr/>
        </p:nvSpPr>
        <p:spPr>
          <a:xfrm>
            <a:off x="380880" y="5584680"/>
            <a:ext cx="1552680" cy="8953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 anchorCtr="1">
            <a:noAutofit/>
          </a:bodyPr>
          <a:p>
            <a:pPr algn="ctr"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Governance Pl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Placeholder 27"/>
          <p:cNvSpPr/>
          <p:nvPr/>
        </p:nvSpPr>
        <p:spPr>
          <a:xfrm>
            <a:off x="2058840" y="5592600"/>
            <a:ext cx="674244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  <a:ea typeface="Arial"/>
              </a:rPr>
              <a:t>Describe how you will develop a governance plan for the project that articulates specific roles and responsibilities for the research team and stakeholder groups, and defines rules for decision making and conflict resolution/resolution of differenc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9:42:53Z</dcterms:created>
  <dc:creator>SModi</dc:creator>
  <dc:description/>
  <dc:language>en-US</dc:language>
  <cp:lastModifiedBy>DHHS</cp:lastModifiedBy>
  <dcterms:modified xsi:type="dcterms:W3CDTF">2012-04-18T16:00:30Z</dcterms:modified>
  <cp:revision>760</cp:revision>
  <dc:subject/>
  <dc:title>Slide 1</dc:title>
</cp:coreProperties>
</file>