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wmf" ContentType="image/x-wmf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5969AD5-E951-443F-9D9E-BA666BA07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97F8055-5A19-4D80-82F7-4473BC8DEE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9E90-5019-47AE-AAF7-75E4C7926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3E2D-BEDD-41AD-8A9C-B545514C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5AE6-69B5-4C75-BF32-CF71528AE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A345-D5A4-43BB-BC08-4D3F9E463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3308-FBE0-477C-BCF2-0F40EAF7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DFDF-9693-423C-B28B-6CF33FD1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311D-F2D8-4EE5-87E5-CA95B6F0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99AB-1CD4-45AA-A09D-EAC628FA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62A9-3D87-4732-A763-9016ACE8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A9AC-8567-48BF-8F1E-E09D9FB2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4F43-7D86-4300-AA48-9352E649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7EF8-5E89-4514-8D44-A5837229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AEC2-D369-4F74-9600-F73DCB1519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kcofrinallen@utah.gov" TargetMode="Externa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Utah’s Hospital Comparison Reports</a:t>
            </a:r>
            <a:br>
              <a:rPr sz="36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Using MONAHRQ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505320" y="4343400"/>
            <a:ext cx="5029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ely Cofrin Allen, Ph.D., Direct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HRQ National Advisory Committee Meet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2 July 20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" name="Picture 9" descr="HDC_"/>
          <p:cNvPicPr/>
          <p:nvPr/>
        </p:nvPicPr>
        <p:blipFill>
          <a:blip r:embed="rId1"/>
          <a:stretch/>
        </p:blipFill>
        <p:spPr>
          <a:xfrm>
            <a:off x="304920" y="4557600"/>
            <a:ext cx="2514600" cy="1995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0A99-7E5D-4077-932C-A9F6CDCEF3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MONAHRQ Benefits 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Utah Citize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 staff time to produce reports = more time on other important projects such as cost containment in health car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e quality and cost data accessible from MONAHRQ = a better informed patient in Ut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F412-488A-482A-BEAD-ECC3DDE285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228600" y="1868400"/>
            <a:ext cx="4267080" cy="990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4800600" y="1909800"/>
            <a:ext cx="4091040" cy="949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3"/>
          <a:stretch/>
        </p:blipFill>
        <p:spPr>
          <a:xfrm>
            <a:off x="228600" y="4653000"/>
            <a:ext cx="4038480" cy="762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4"/>
          <a:stretch/>
        </p:blipFill>
        <p:spPr>
          <a:xfrm>
            <a:off x="228600" y="3281400"/>
            <a:ext cx="4114800" cy="914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5"/>
          <a:stretch/>
        </p:blipFill>
        <p:spPr>
          <a:xfrm>
            <a:off x="4800600" y="3281400"/>
            <a:ext cx="4114800" cy="914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6"/>
          <a:stretch/>
        </p:blipFill>
        <p:spPr>
          <a:xfrm>
            <a:off x="4724280" y="4653000"/>
            <a:ext cx="4191120" cy="9907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9"/>
          <p:cNvSpPr/>
          <p:nvPr/>
        </p:nvSpPr>
        <p:spPr>
          <a:xfrm>
            <a:off x="-27000" y="65556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ahoma"/>
              </a:rPr>
              <a:t>Instead of creating separate reports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0" y="5791320"/>
            <a:ext cx="914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we can present this…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64EB-E274-42D6-9B31-D1E60D0D11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9" name="Group 6"/>
          <p:cNvGrpSpPr/>
          <p:nvPr/>
        </p:nvGrpSpPr>
        <p:grpSpPr>
          <a:xfrm>
            <a:off x="76320" y="76320"/>
            <a:ext cx="9042120" cy="6743520"/>
            <a:chOff x="76320" y="76320"/>
            <a:chExt cx="9042120" cy="6743520"/>
          </a:xfrm>
        </p:grpSpPr>
        <p:pic>
          <p:nvPicPr>
            <p:cNvPr id="90" name="Picture 3" descr=""/>
            <p:cNvPicPr/>
            <p:nvPr/>
          </p:nvPicPr>
          <p:blipFill>
            <a:blip r:embed="rId1"/>
            <a:srcRect l="1454" t="5836" r="1355" b="11784"/>
            <a:stretch/>
          </p:blipFill>
          <p:spPr>
            <a:xfrm>
              <a:off x="76320" y="76320"/>
              <a:ext cx="9042120" cy="674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Rectangle 4"/>
            <p:cNvSpPr/>
            <p:nvPr/>
          </p:nvSpPr>
          <p:spPr>
            <a:xfrm>
              <a:off x="228600" y="104760"/>
              <a:ext cx="1142640" cy="1066680"/>
            </a:xfrm>
            <a:prstGeom prst="rect">
              <a:avLst/>
            </a:prstGeom>
            <a:solidFill>
              <a:srgbClr val="9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2" name="TextBox 1"/>
          <p:cNvSpPr/>
          <p:nvPr/>
        </p:nvSpPr>
        <p:spPr>
          <a:xfrm>
            <a:off x="5638680" y="50292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2a40"/>
                </a:solidFill>
                <a:latin typeface="Tahoma"/>
              </a:rPr>
              <a:t>New for Utah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69D6-57BA-4128-91C2-82CD3253A2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447920" y="76320"/>
            <a:ext cx="5906880" cy="655308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2743200" y="48229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2a40"/>
                </a:solidFill>
                <a:latin typeface="Tahoma"/>
              </a:rPr>
              <a:t>Why report like thi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AC86-487F-4DA8-850F-18492DEAA1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rcRect l="1743" t="6277" r="3197" b="19497"/>
          <a:stretch/>
        </p:blipFill>
        <p:spPr>
          <a:xfrm>
            <a:off x="0" y="152280"/>
            <a:ext cx="9121680" cy="626760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1981080" y="1219320"/>
            <a:ext cx="698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2a40"/>
                </a:solidFill>
                <a:latin typeface="Tahoma"/>
              </a:rPr>
              <a:t>When MONAHRQ allows this?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382C-C7CC-4337-A3B1-329A256BDE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rcRect l="1842" t="5948" r="3296" b="18173"/>
          <a:stretch/>
        </p:blipFill>
        <p:spPr>
          <a:xfrm>
            <a:off x="28440" y="223920"/>
            <a:ext cx="9115560" cy="64148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4"/>
          <p:cNvSpPr/>
          <p:nvPr/>
        </p:nvSpPr>
        <p:spPr>
          <a:xfrm>
            <a:off x="4595760" y="1290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2a40"/>
                </a:solidFill>
                <a:latin typeface="Tahoma"/>
              </a:rPr>
              <a:t>And even more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BB44-AE0D-401D-A6E2-FD8DB1679B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3" name="Group 4"/>
          <p:cNvGrpSpPr/>
          <p:nvPr/>
        </p:nvGrpSpPr>
        <p:grpSpPr>
          <a:xfrm>
            <a:off x="0" y="76320"/>
            <a:ext cx="9085320" cy="7238880"/>
            <a:chOff x="0" y="76320"/>
            <a:chExt cx="9085320" cy="7238880"/>
          </a:xfrm>
        </p:grpSpPr>
        <p:pic>
          <p:nvPicPr>
            <p:cNvPr id="104" name="Picture 2" descr=""/>
            <p:cNvPicPr/>
            <p:nvPr/>
          </p:nvPicPr>
          <p:blipFill>
            <a:blip r:embed="rId1"/>
            <a:srcRect l="1747" t="6498" r="1937" b="6277"/>
            <a:stretch/>
          </p:blipFill>
          <p:spPr>
            <a:xfrm>
              <a:off x="0" y="76320"/>
              <a:ext cx="9085320" cy="723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Rectangle 6"/>
            <p:cNvSpPr/>
            <p:nvPr/>
          </p:nvSpPr>
          <p:spPr>
            <a:xfrm>
              <a:off x="75960" y="76320"/>
              <a:ext cx="1218960" cy="1066680"/>
            </a:xfrm>
            <a:prstGeom prst="rect">
              <a:avLst/>
            </a:prstGeom>
            <a:solidFill>
              <a:srgbClr val="9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6" name="TextBox 5"/>
          <p:cNvSpPr/>
          <p:nvPr/>
        </p:nvSpPr>
        <p:spPr>
          <a:xfrm>
            <a:off x="4343400" y="325116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2a40"/>
                </a:solidFill>
                <a:latin typeface="Tahoma"/>
              </a:rPr>
              <a:t>Enhanc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58E7-EC1C-4B56-B7C2-FEAC02C7E6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rcRect l="1743" t="6389" r="3197" b="0"/>
          <a:stretch/>
        </p:blipFill>
        <p:spPr>
          <a:xfrm>
            <a:off x="304920" y="0"/>
            <a:ext cx="7696080" cy="66690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4"/>
          <p:cNvSpPr/>
          <p:nvPr/>
        </p:nvSpPr>
        <p:spPr>
          <a:xfrm>
            <a:off x="4437000" y="1371600"/>
            <a:ext cx="318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2a40"/>
                </a:solidFill>
                <a:latin typeface="Tahoma"/>
              </a:rPr>
              <a:t>Enhanc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B301-14FA-4DA1-A5C1-CF556780F2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1" name="Group 4"/>
          <p:cNvGrpSpPr/>
          <p:nvPr/>
        </p:nvGrpSpPr>
        <p:grpSpPr>
          <a:xfrm>
            <a:off x="76320" y="76320"/>
            <a:ext cx="8902440" cy="6476760"/>
            <a:chOff x="76320" y="76320"/>
            <a:chExt cx="8902440" cy="6476760"/>
          </a:xfrm>
        </p:grpSpPr>
        <p:pic>
          <p:nvPicPr>
            <p:cNvPr id="112" name="Picture 2" descr=""/>
            <p:cNvPicPr/>
            <p:nvPr/>
          </p:nvPicPr>
          <p:blipFill>
            <a:blip r:embed="rId1"/>
            <a:srcRect l="1648" t="6169" r="3391" b="15310"/>
            <a:stretch/>
          </p:blipFill>
          <p:spPr>
            <a:xfrm>
              <a:off x="76320" y="76320"/>
              <a:ext cx="8902440" cy="647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Rectangle 6"/>
            <p:cNvSpPr/>
            <p:nvPr/>
          </p:nvSpPr>
          <p:spPr>
            <a:xfrm>
              <a:off x="152280" y="76320"/>
              <a:ext cx="1066680" cy="1095120"/>
            </a:xfrm>
            <a:prstGeom prst="rect">
              <a:avLst/>
            </a:prstGeom>
            <a:solidFill>
              <a:srgbClr val="9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4" name="TextBox 5"/>
          <p:cNvSpPr/>
          <p:nvPr/>
        </p:nvSpPr>
        <p:spPr>
          <a:xfrm>
            <a:off x="5562720" y="3313080"/>
            <a:ext cx="3124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2a40"/>
                </a:solidFill>
                <a:latin typeface="Tahoma"/>
              </a:rPr>
              <a:t>A great tool for consumers and researchers in Uta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4902-70AE-49D2-A48F-05F78005C6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3581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800000"/>
                </a:solidFill>
                <a:uFillTx/>
                <a:latin typeface="Tahoma"/>
              </a:rPr>
              <a:t>MONAHRQ is a Win-Wi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for the state of Utah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and its citizens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91C3-C4B0-4418-984A-35859CCECD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Office of Health Care Statistic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ablished in 1990 as staff to the Health Data Committ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ff of ei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onsible for reporting 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cil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alth Pl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te-wide episodes of care (all payer claims databas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ank You!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6002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ly Cofrin All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kcofrinallen@utah.go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4" descr="HDC_"/>
          <p:cNvPicPr/>
          <p:nvPr/>
        </p:nvPicPr>
        <p:blipFill>
          <a:blip r:embed="rId2"/>
          <a:stretch/>
        </p:blipFill>
        <p:spPr>
          <a:xfrm>
            <a:off x="7162920" y="4648320"/>
            <a:ext cx="1752480" cy="1665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3E89-471F-48AC-BF13-5FD694E74B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Reporting Activit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ennial report to the legisla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cility utilization and charge profi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MO/PPO Performance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spital Comparison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tah Atlas of Healthc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5" descr="MCBS01094_0000[1]"/>
          <p:cNvPicPr/>
          <p:nvPr/>
        </p:nvPicPr>
        <p:blipFill>
          <a:blip r:embed="rId1"/>
          <a:stretch/>
        </p:blipFill>
        <p:spPr>
          <a:xfrm>
            <a:off x="6553080" y="3733920"/>
            <a:ext cx="2389320" cy="2590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2F58-BEA7-4AD0-8FAA-FE1EE7542F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Hospital Comparison Repor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dated in 2005 by SB13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orts cost, quality and patient safe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quired to use nationally-recognized meas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e &amp; easily accessible to the publ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d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 areas of c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8 reports over four ye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5" descr="MCj02791000000[1]"/>
          <p:cNvPicPr/>
          <p:nvPr/>
        </p:nvPicPr>
        <p:blipFill>
          <a:blip r:embed="rId1"/>
          <a:stretch/>
        </p:blipFill>
        <p:spPr>
          <a:xfrm>
            <a:off x="7238880" y="4419720"/>
            <a:ext cx="1579680" cy="1827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326D-AD42-4F17-9E21-4191E0135A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rcRect l="0" t="16836" r="1252" b="2204"/>
          <a:stretch/>
        </p:blipFill>
        <p:spPr>
          <a:xfrm>
            <a:off x="0" y="533520"/>
            <a:ext cx="9144000" cy="5844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74B0-8F73-485A-B863-B891C2A892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AHRQ Measu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use AHRQ’s IQI and PSI meas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patient Quality Indicat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tient Safety Indicat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facility is compared to expected r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cilities receive a star rating for performance (observed rat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FF27-33BA-4096-AAD0-B44AB64A97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MONAHRQ Timelin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: decision to move to MONAHRQ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n 2011: hospital comparison reports on hiat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mmer 2011: staff studies and uses MONAHRQ with test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cember 2011: launch of new MONAHRQ si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44F2-5873-403A-8855-4EB91C6843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Transition to MONAHRQ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rrent reporting is very labor intens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NAHRQ offers a way 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duce reports more quick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fewer staff h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present more da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ent ma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oad reporting capability and customization make MONAHRQ a good sol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9C1B-AD1C-4F13-A2AF-1D8CE06370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Transition to MONAHRQ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ing forward, MONAHRQ will allow Utah to produce meaningful hospital comparison reports at a fraction of the cost spent previously…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saving UT taxpayers THOUSANDS of $$ every year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04:28:34Z</dcterms:created>
  <dc:creator>WXU</dc:creator>
  <dc:description/>
  <dc:language>en-US</dc:language>
  <cp:lastModifiedBy>Keely Cofrin Allen</cp:lastModifiedBy>
  <dcterms:modified xsi:type="dcterms:W3CDTF">2011-07-20T16:41:15Z</dcterms:modified>
  <cp:revision>473</cp:revision>
  <dc:subject/>
  <dc:title>Challenges In      Utah’s Health                         Care  </dc:title>
</cp:coreProperties>
</file>