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69580B-9B34-4FE3-9383-3E3D5B9E5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3F6FBE-54B0-4960-9E0C-D08AF05938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2F5-91FA-4FA4-934C-711F5AF4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9AC-A714-4F67-94A5-836E7104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044-F41D-4590-84D1-C111C530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3C0-9974-4E6B-8306-E518B169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E09-8355-4D37-9622-0EAB5D1A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05B-22AF-45AD-92EC-168273C8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9BB-20DD-4AEF-A410-11C43AA5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F96-53F7-4416-9C8B-32C3D0EB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410-069E-4D80-BF3E-0F62CF01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F11-9BDE-4FB1-8A09-965C3ABE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CAD-974D-4F5C-833D-914DED48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E4C-3C0D-441B-B073-0DF95860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F3E7-8BDC-4C26-8A66-3C51C8EC8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kcofrinallen@utah.gov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tah’s Hospital Comparison Reports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Using MONAHRQ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505320" y="4343400"/>
            <a:ext cx="5029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ely Cofrin Allen, Ph.D., Direc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RQ National Advisory Committee Mee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2 July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9" descr="HDC_"/>
          <p:cNvPicPr/>
          <p:nvPr/>
        </p:nvPicPr>
        <p:blipFill>
          <a:blip r:embed="rId1"/>
          <a:stretch/>
        </p:blipFill>
        <p:spPr>
          <a:xfrm>
            <a:off x="304920" y="4557600"/>
            <a:ext cx="2514600" cy="19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510B-64D9-494D-A4EA-A282749E83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MONAHRQ Benefits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Utah Citize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 staff time to produce reports = more time on other important projects such as cost containment in health car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quality and cost data accessible from MONAHRQ = a better informed patient in Ut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ECA5-2A67-4111-AE2A-0009CF885A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228600" y="1868400"/>
            <a:ext cx="4267080" cy="99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4800600" y="1909800"/>
            <a:ext cx="4091040" cy="94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228600" y="4653000"/>
            <a:ext cx="403848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228600" y="3281400"/>
            <a:ext cx="41148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4800600" y="3281400"/>
            <a:ext cx="41148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4724280" y="4653000"/>
            <a:ext cx="4191120" cy="990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-27000" y="65556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Instead of creating separate reports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0" y="5791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we can present this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FA1A-9A61-4374-BCD2-4F1D4D7592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76320" y="76320"/>
            <a:ext cx="9042120" cy="6743520"/>
            <a:chOff x="76320" y="76320"/>
            <a:chExt cx="9042120" cy="6743520"/>
          </a:xfrm>
        </p:grpSpPr>
        <p:pic>
          <p:nvPicPr>
            <p:cNvPr id="90" name="Picture 3" descr=""/>
            <p:cNvPicPr/>
            <p:nvPr/>
          </p:nvPicPr>
          <p:blipFill>
            <a:blip r:embed="rId1"/>
            <a:srcRect l="1454" t="5836" r="1355" b="11784"/>
            <a:stretch/>
          </p:blipFill>
          <p:spPr>
            <a:xfrm>
              <a:off x="76320" y="76320"/>
              <a:ext cx="9042120" cy="67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4"/>
            <p:cNvSpPr/>
            <p:nvPr/>
          </p:nvSpPr>
          <p:spPr>
            <a:xfrm>
              <a:off x="228600" y="104760"/>
              <a:ext cx="1142640" cy="106668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TextBox 1"/>
          <p:cNvSpPr/>
          <p:nvPr/>
        </p:nvSpPr>
        <p:spPr>
          <a:xfrm>
            <a:off x="5638680" y="5029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2a40"/>
                </a:solidFill>
                <a:latin typeface="Tahoma"/>
              </a:rPr>
              <a:t>New for Utah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A61B-EF30-4AD7-9B4F-40C2908659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447920" y="76320"/>
            <a:ext cx="5906880" cy="6553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743200" y="4822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a40"/>
                </a:solidFill>
                <a:latin typeface="Tahoma"/>
              </a:rPr>
              <a:t>Why report like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D51D-A8D6-47FB-8C1F-F6A09BB195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1743" t="6277" r="3197" b="19497"/>
          <a:stretch/>
        </p:blipFill>
        <p:spPr>
          <a:xfrm>
            <a:off x="0" y="152280"/>
            <a:ext cx="9121680" cy="62676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981080" y="1219320"/>
            <a:ext cx="69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a40"/>
                </a:solidFill>
                <a:latin typeface="Tahoma"/>
              </a:rPr>
              <a:t>When MONAHRQ allows this?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F23B-67D8-48E9-AA30-35C913E4C1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1842" t="5948" r="3296" b="18173"/>
          <a:stretch/>
        </p:blipFill>
        <p:spPr>
          <a:xfrm>
            <a:off x="28440" y="223920"/>
            <a:ext cx="9115560" cy="64148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4595760" y="129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a40"/>
                </a:solidFill>
                <a:latin typeface="Tahoma"/>
              </a:rPr>
              <a:t>And even more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2C49-47A9-44FC-870B-203C517188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0" y="76320"/>
            <a:ext cx="9085320" cy="7238880"/>
            <a:chOff x="0" y="76320"/>
            <a:chExt cx="9085320" cy="7238880"/>
          </a:xfrm>
        </p:grpSpPr>
        <p:pic>
          <p:nvPicPr>
            <p:cNvPr id="104" name="Picture 2" descr=""/>
            <p:cNvPicPr/>
            <p:nvPr/>
          </p:nvPicPr>
          <p:blipFill>
            <a:blip r:embed="rId1"/>
            <a:srcRect l="1747" t="6498" r="1937" b="6277"/>
            <a:stretch/>
          </p:blipFill>
          <p:spPr>
            <a:xfrm>
              <a:off x="0" y="76320"/>
              <a:ext cx="908532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6"/>
            <p:cNvSpPr/>
            <p:nvPr/>
          </p:nvSpPr>
          <p:spPr>
            <a:xfrm>
              <a:off x="75960" y="76320"/>
              <a:ext cx="1218960" cy="106668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" name="TextBox 5"/>
          <p:cNvSpPr/>
          <p:nvPr/>
        </p:nvSpPr>
        <p:spPr>
          <a:xfrm>
            <a:off x="4343400" y="325116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a40"/>
                </a:solidFill>
                <a:latin typeface="Tahoma"/>
              </a:rPr>
              <a:t>Enhanc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E3175-EED3-41BB-96B1-42E036F0F9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rcRect l="1743" t="6389" r="3197" b="0"/>
          <a:stretch/>
        </p:blipFill>
        <p:spPr>
          <a:xfrm>
            <a:off x="304920" y="0"/>
            <a:ext cx="7696080" cy="6669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4437000" y="137160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2a40"/>
                </a:solidFill>
                <a:latin typeface="Tahoma"/>
              </a:rPr>
              <a:t>Enhanc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81E9-CE9C-4433-BA04-8A690773EB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76320" y="76320"/>
            <a:ext cx="8902440" cy="6476760"/>
            <a:chOff x="76320" y="76320"/>
            <a:chExt cx="8902440" cy="6476760"/>
          </a:xfrm>
        </p:grpSpPr>
        <p:pic>
          <p:nvPicPr>
            <p:cNvPr id="112" name="Picture 2" descr=""/>
            <p:cNvPicPr/>
            <p:nvPr/>
          </p:nvPicPr>
          <p:blipFill>
            <a:blip r:embed="rId1"/>
            <a:srcRect l="1648" t="6169" r="3391" b="15310"/>
            <a:stretch/>
          </p:blipFill>
          <p:spPr>
            <a:xfrm>
              <a:off x="76320" y="76320"/>
              <a:ext cx="8902440" cy="64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6"/>
            <p:cNvSpPr/>
            <p:nvPr/>
          </p:nvSpPr>
          <p:spPr>
            <a:xfrm>
              <a:off x="152280" y="76320"/>
              <a:ext cx="1066680" cy="109512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" name="TextBox 5"/>
          <p:cNvSpPr/>
          <p:nvPr/>
        </p:nvSpPr>
        <p:spPr>
          <a:xfrm>
            <a:off x="5562720" y="3313080"/>
            <a:ext cx="3124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2a40"/>
                </a:solidFill>
                <a:latin typeface="Tahoma"/>
              </a:rPr>
              <a:t>A great tool for consumers and researchers in Uta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C638-1954-4399-9D07-C3CBE643F0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800000"/>
                </a:solidFill>
                <a:uFillTx/>
                <a:latin typeface="Tahoma"/>
              </a:rPr>
              <a:t>MONAHRQ is a Win-Wi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or the state of Utah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nd its citizen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AA4A-5B0D-4FBE-82A9-E258EA6990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Office of Health Care Statistic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ed in 1990 as staff to the Health Data Commit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ff of 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ible for reporting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Pl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te-wide episodes of care (all payer claim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ank You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002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ly Cofrin Al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kcofrinallen@utah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HDC_"/>
          <p:cNvPicPr/>
          <p:nvPr/>
        </p:nvPicPr>
        <p:blipFill>
          <a:blip r:embed="rId2"/>
          <a:stretch/>
        </p:blipFill>
        <p:spPr>
          <a:xfrm>
            <a:off x="7162920" y="4648320"/>
            <a:ext cx="1752480" cy="166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3040-F39A-4199-B20B-0BAFF774AA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Reporting Activit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ennial report to the legisl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y utilization and charge profi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MO/PPO Performance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spital Comparison Re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ah Atlas of Healthc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MCBS01094_0000[1]"/>
          <p:cNvPicPr/>
          <p:nvPr/>
        </p:nvPicPr>
        <p:blipFill>
          <a:blip r:embed="rId1"/>
          <a:stretch/>
        </p:blipFill>
        <p:spPr>
          <a:xfrm>
            <a:off x="6553080" y="3733920"/>
            <a:ext cx="2389320" cy="259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CBA3-2E1B-4F2C-B358-CCDFCE22C9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Hospital Comparison Repor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dated in 2005 by SB1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s cost, quality and patient 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ed to use nationally-recognized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 &amp; easily accessible to the 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 areas of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 reports over four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5" descr="MCj02791000000[1]"/>
          <p:cNvPicPr/>
          <p:nvPr/>
        </p:nvPicPr>
        <p:blipFill>
          <a:blip r:embed="rId1"/>
          <a:stretch/>
        </p:blipFill>
        <p:spPr>
          <a:xfrm>
            <a:off x="7238880" y="4419720"/>
            <a:ext cx="1579680" cy="182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117C-B6BF-45F0-9613-38FC868F1E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16836" r="1252" b="2204"/>
          <a:stretch/>
        </p:blipFill>
        <p:spPr>
          <a:xfrm>
            <a:off x="0" y="533520"/>
            <a:ext cx="9144000" cy="584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BFD7-B238-4E73-B28A-F32430AE59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HRQ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use AHRQ’s IQI and PSI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patient Quality Indic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 Safety Indica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facility is compared to expected r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ies receive a star rating for performance (observed r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4DF6-DA8A-459E-8CE8-7B384649BF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MONAHRQ Timeli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0: decision to move to MONAHRQ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n 2011: hospital comparison reports on hi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er 2011: staff studies and uses MONAHRQ with test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mber 2011: launch of new MONAHRQ 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A65B-81B1-4034-BFB4-CBA4E196F2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ransition to MONAHRQ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t reporting is very labor inten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NAHRQ offers a way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duce reports more quick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fewer staff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ent mor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ma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oad reporting capability and customization make MONAHRQ a good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3C8E-A176-40FF-B400-E5BE423847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ransition to MONAHRQ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ing forward, MONAHRQ will allow Utah to produce meaningful hospital comparison reports at a fraction of the cost spent previously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saving UT taxpayers THOUSANDS of $$ every year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4:28:34Z</dcterms:created>
  <dc:creator>WXU</dc:creator>
  <dc:description/>
  <dc:language>en-US</dc:language>
  <cp:lastModifiedBy>Keely Cofrin Allen</cp:lastModifiedBy>
  <dcterms:modified xsi:type="dcterms:W3CDTF">2011-07-20T16:41:15Z</dcterms:modified>
  <cp:revision>473</cp:revision>
  <dc:subject/>
  <dc:title>Challenges In      Utah’s Health                         Care  </dc:title>
</cp:coreProperties>
</file>