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8A32-D9DB-4EDA-BDDA-74F652281D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5F37-DEBC-4D80-A100-921722269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6017-1129-46AB-8CBA-9075AAEEA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F132-EC96-4379-9542-AF0B910EB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any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little focus on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D247-265B-4620-8816-AC2F0EF33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F613-3001-49AB-A4E6-D58D9D820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A438-2F92-4FA7-8941-20E1DABF0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8F7F99C-4BA7-470D-85E3-32B22297153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0191EDF-DC8F-49C3-BDFA-0B1EE34BF02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5BB6CA4-5D32-4781-94C5-34B7CAC4970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A90D2D-6E1A-44DC-B7FC-347F0517E9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62BB2C-709A-4300-87BD-81F8DBA423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C9A602-78CD-4CBD-916E-AD2F9DC4615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0BB18D-FB2B-4B58-8EC5-A9033455646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635C8A6-3ECD-4064-B480-59E52DC709C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D3E4AEE-FA30-4FA3-9E9A-90A342D61DA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BADC7EE-E5BA-464D-AFAF-CDBAB29E3D0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E7C17C2-0C3F-4E7D-B83E-3C4279AC9F4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D237EA-56EC-406D-848D-11C64A1F44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688DCD-0005-449E-A37D-E401117CD0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E37A00E-781E-45DA-B7EE-384BBC8072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8D7430B-2AC0-486F-961F-1B0B130960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0512754-FE17-4C7D-BDA6-3080DBF961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334C4D-9000-4D67-9B90-4FBD419847F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830B02A-3314-4C3E-9F37-1EC4DFAA188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5E2279F-9741-4422-8E5C-0969F62D53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A00837B-0E4D-48D7-BD3F-A91F2D051A2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7C4CA4E-14AF-47A6-9725-9AF9DBA6858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43C23C0-DA85-49DC-9E83-604BC253B2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2795B0-64E8-48E1-8F12-2255895C4B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851E47D-9349-4ADD-8757-BCAC9EA9FD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0CC07FB-C966-46C7-9770-0396CFE930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8F9384-52CE-4669-B80E-8AC7256883E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F39C5B4-E651-489C-ABED-BFF7FB299C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CB6AC1-6602-47E1-8C4A-8C0B350D18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6AF11EB-8B1A-47E8-B2A4-FA181461AD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0DC6AE-FFEA-4F6B-9FB0-3A284BA338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47082D8-0692-4BF5-85D8-E2EBBAD535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CD9774C-6B0D-4D5F-A33A-30E9C101C4F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C4F7566-B40C-4E01-8FEA-61ACD6CADD6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9B3E72-4780-475F-B140-648A4669340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A789B3-21D4-443F-9763-0546B27F8C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920C45-75E8-4BF9-90C2-6ECCBBF680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A469F6-15A6-4A2B-9CA6-397F4FD969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CA4848-5BC3-41E6-B5D3-464199E97E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42961C-1653-4D23-8AB2-CF0254F63D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54C9F3-B123-4417-8C83-81246681A0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42B793-5B8E-4220-AF82-77B025BA57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986DA3-D757-48B3-AB41-EC78C436E2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A00B6F3-07E1-44C9-A9CC-57659624A9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BA3CE44-390F-43CD-9EF8-1FC4E73C22E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8832CC-2638-4C8B-B116-DA526CA5574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FCFFB57-72AD-43BB-BCE4-01157057796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E820C7B-1376-4A30-A31F-CB689498AF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F516C1-430F-4F56-B4FE-8CBD5E080B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BEB5E46-CF62-4AF4-A8FF-D1547B9F7D8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6B7ED9-D1C6-45A1-83A1-B5D24FCB43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95CC3D-0314-431B-86F3-8C819AFEC7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6194F5-4579-4195-8C20-9CB8E6FF12D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F73833-A7CB-44A0-BE81-FABB5D7779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4933201-62B4-4F77-9774-5FD5496265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DF454E0-2B3D-4FEA-B74E-E2421316359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6DBE7CA-3A0D-4317-9BA4-761BB5E84DE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961F70-D01B-40F8-8049-B71FD336751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28D9FF3-D7FC-4482-B4E3-6E2B5D490B3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CE2BBD0-420D-4E1C-A118-2CF29C6AC1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31AEF8D-6DAA-48CD-8084-05F1DCEA1B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A67174A-C0DC-4F1D-A617-2281341BAA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2B1664A-CC7E-4CAC-9160-057E7A2CBC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644DB1-4FA4-406D-BCBB-1F5CFAB5F7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084181-8B7C-4A23-AB00-388EE540C5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F0D1DA-6498-48B7-94B2-EF4745A83A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DAB65F-79B5-4F23-BB42-B996E50D53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FE05C3-B1CD-4635-A4A6-179F63DD82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A204532-6C6B-4ADF-AA6D-680279BF2FC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D801843-07B0-4E05-9EE9-896F8A23967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C860830-D43D-4EEB-A2BA-4FC6870E514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CBE1BC-04D7-4A02-8A03-8DA79150F1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015A7A9-9356-4B3C-A4A4-56D295DF700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3C71401-E7FE-4361-B12D-2421881CE55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BE2298-817A-4590-8713-6086BB23D4C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50D46D-2C13-4C9C-ABD9-E791719C9A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155A2C-1376-4758-AB2B-AA6C4B7F82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B8062A2-A03A-4BBC-B8CF-1E373298F9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D64A71-A16A-41EB-ADE4-18C488A693E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FAAFC72-25A2-4A4B-979B-2A450409DA9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26C10F-C255-4C66-A2E3-165B8EBB219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436F8C4-AFB6-4CA4-9697-EC83C681CF2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DEACA0-84D6-40F0-B767-6C7CECB97A6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D10B7D1-F3F9-4FA4-995F-ECF5093F46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DB30810-6756-49C1-B994-7B6576CAF7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D2D124C-B793-48FF-82AE-8DACD8B02E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A34BD6B-A011-42C8-A3C7-82A648CBD9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78F6A05-574D-4439-B45F-FA74B42F14C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29EEAC0-F0B8-4C88-A797-CE6BBB4C9A1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76BB2A-4E1C-40AF-A757-8DE0C5FBFD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9BCE05-36AF-4D12-8A9A-21F3DD2DD7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C4A25C9-E691-438A-9C95-D1F1FA2E88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F31DBBC-FD0C-4533-918B-A59C3D31947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CBDF9AB-AB49-4F2F-8FB6-69A4BC28BE5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CDB0E14-2517-4CB2-B014-381C3A45D3A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821A307-1D7B-4039-86A3-FA70FA04C70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9A83314-2F03-4AF8-BBFF-38830BCE867C}"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B16E-A9C2-4940-B1EB-78D88A6181B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80C5-33C3-4376-A2D0-83D83EF6CA8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89AE-5C41-4A74-B2BF-AA5192509C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A067-E9D1-4D15-9D3C-7BD51429B0C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7"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E999-FA9C-440E-95BD-291FA7442A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Rounded Rectangle 5"/>
          <p:cNvGrpSpPr/>
          <p:nvPr/>
        </p:nvGrpSpPr>
        <p:grpSpPr>
          <a:xfrm>
            <a:off x="-6480" y="-6480"/>
            <a:ext cx="9156960" cy="1158840"/>
            <a:chOff x="-6480" y="-6480"/>
            <a:chExt cx="9156960" cy="1158840"/>
          </a:xfrm>
        </p:grpSpPr>
        <p:pic>
          <p:nvPicPr>
            <p:cNvPr id="456" name="Rounded Rectangle 5" descr=""/>
            <p:cNvPicPr/>
            <p:nvPr/>
          </p:nvPicPr>
          <p:blipFill>
            <a:blip r:embed="rId2"/>
            <a:stretch/>
          </p:blipFill>
          <p:spPr>
            <a:xfrm>
              <a:off x="-6480" y="-6480"/>
              <a:ext cx="9156960" cy="1158840"/>
            </a:xfrm>
            <a:prstGeom prst="rect">
              <a:avLst/>
            </a:prstGeom>
            <a:ln w="0">
              <a:noFill/>
            </a:ln>
          </p:spPr>
        </p:pic>
        <p:sp>
          <p:nvSpPr>
            <p:cNvPr id="457"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ftr" idx="29"/>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Rounded Rectangle 5"/>
          <p:cNvGrpSpPr/>
          <p:nvPr/>
        </p:nvGrpSpPr>
        <p:grpSpPr>
          <a:xfrm>
            <a:off x="-6480" y="2664000"/>
            <a:ext cx="9156960" cy="1152360"/>
            <a:chOff x="-6480" y="2664000"/>
            <a:chExt cx="9156960" cy="1152360"/>
          </a:xfrm>
        </p:grpSpPr>
        <p:pic>
          <p:nvPicPr>
            <p:cNvPr id="41" name="Rounded Rectangle 5" descr=""/>
            <p:cNvPicPr/>
            <p:nvPr/>
          </p:nvPicPr>
          <p:blipFill>
            <a:blip r:embed="rId2"/>
            <a:stretch/>
          </p:blipFill>
          <p:spPr>
            <a:xfrm>
              <a:off x="-6480" y="2664000"/>
              <a:ext cx="9156960" cy="1152360"/>
            </a:xfrm>
            <a:prstGeom prst="rect">
              <a:avLst/>
            </a:prstGeom>
            <a:ln w="0">
              <a:noFill/>
            </a:ln>
          </p:spPr>
        </p:pic>
        <p:sp>
          <p:nvSpPr>
            <p:cNvPr id="42" name=""/>
            <p:cNvSpPr/>
            <p:nvPr/>
          </p:nvSpPr>
          <p:spPr>
            <a:xfrm>
              <a:off x="0" y="2666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 name="Picture 9" descr="Z:\heon-jaejeong On My Mac\Desktop\Picture 12.png"/>
          <p:cNvPicPr/>
          <p:nvPr/>
        </p:nvPicPr>
        <p:blipFill>
          <a:blip r:embed="rId3"/>
          <a:stretch/>
        </p:blipFill>
        <p:spPr>
          <a:xfrm>
            <a:off x="0" y="6400800"/>
            <a:ext cx="9144000" cy="463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C746-3AA3-43F2-8722-4E9FFD1E997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7"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Rounded Rectangle 5"/>
          <p:cNvGrpSpPr/>
          <p:nvPr/>
        </p:nvGrpSpPr>
        <p:grpSpPr>
          <a:xfrm>
            <a:off x="-6480" y="-6480"/>
            <a:ext cx="9156960" cy="1158840"/>
            <a:chOff x="-6480" y="-6480"/>
            <a:chExt cx="9156960" cy="1158840"/>
          </a:xfrm>
        </p:grpSpPr>
        <p:pic>
          <p:nvPicPr>
            <p:cNvPr id="85" name="Rounded Rectangle 5" descr=""/>
            <p:cNvPicPr/>
            <p:nvPr/>
          </p:nvPicPr>
          <p:blipFill>
            <a:blip r:embed="rId2"/>
            <a:stretch/>
          </p:blipFill>
          <p:spPr>
            <a:xfrm>
              <a:off x="-6480" y="-6480"/>
              <a:ext cx="9156960" cy="1158840"/>
            </a:xfrm>
            <a:prstGeom prst="rect">
              <a:avLst/>
            </a:prstGeom>
            <a:ln w="0">
              <a:noFill/>
            </a:ln>
          </p:spPr>
        </p:pic>
        <p:sp>
          <p:nvSpPr>
            <p:cNvPr id="86"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Picture 9" descr="Z:\heon-jaejeong On My Mac\Desktop\Picture 12.png"/>
          <p:cNvPicPr/>
          <p:nvPr/>
        </p:nvPicPr>
        <p:blipFill>
          <a:blip r:embed="rId3"/>
          <a:stretch/>
        </p:blipFill>
        <p:spPr>
          <a:xfrm>
            <a:off x="0" y="6400800"/>
            <a:ext cx="9144000" cy="463680"/>
          </a:xfrm>
          <a:prstGeom prst="rect">
            <a:avLst/>
          </a:prstGeom>
          <a:ln w="0">
            <a:noFill/>
          </a:ln>
        </p:spPr>
      </p:pic>
      <p:sp>
        <p:nvSpPr>
          <p:cNvPr id="88" name="TextBox 7"/>
          <p:cNvSpPr/>
          <p:nvPr/>
        </p:nvSpPr>
        <p:spPr>
          <a:xfrm>
            <a:off x="3886200" y="6488280"/>
            <a:ext cx="1523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entury Gothic"/>
              </a:rPr>
              <a:t>Slide </a:t>
            </a:r>
            <a:fld id="{B90D513B-F973-4CAD-BE10-ABA9E7635DA2}" type="slidenum">
              <a:rPr b="0" lang="en-US" sz="1600" spc="-1" strike="noStrike">
                <a:solidFill>
                  <a:srgbClr val="376092"/>
                </a:solidFill>
                <a:latin typeface="Century Gothic"/>
              </a:rPr>
              <a:t>&lt;number&gt;</a:t>
            </a:fld>
            <a:endParaRPr b="0" lang="en-US" sz="16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BF54-6814-4A88-8908-BE13C641EDD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3620-E277-4796-90B4-5FC4AF96C1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11D7-4422-4060-A4B3-7E792BE324E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237D-9673-4EE6-9C2C-20C2FB657C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44BD-A9E8-4609-A830-4962B47EC68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2"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42A7-B4A9-4974-A37E-DA1BF34E1E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1371-10BE-4C53-A4CB-6F558E77C9B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3"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A132-5C5C-4E16-9228-D655257CD4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1D6B-6710-4FEA-9691-03E90817116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F56A-4FCB-4925-A684-2D8675DF28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4"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98D2-6EFD-4127-AFDD-73E617299DD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5"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5512-F640-41B7-A6F5-EB92DB9C59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afercare.net/"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eter Pronovost, MD, PhD, FCCM</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ohns Hopkins University</a:t>
            </a:r>
            <a:endParaRPr b="0" lang="en-US" sz="3200" spc="-1" strike="noStrike">
              <a:solidFill>
                <a:srgbClr val="000000"/>
              </a:solidFill>
              <a:latin typeface="Calibri"/>
            </a:endParaRPr>
          </a:p>
        </p:txBody>
      </p:sp>
      <p:sp>
        <p:nvSpPr>
          <p:cNvPr id="543" name="PlaceHolder 2"/>
          <p:cNvSpPr>
            <a:spLocks noGrp="1"/>
          </p:cNvSpPr>
          <p:nvPr>
            <p:ph type="title"/>
          </p:nvPr>
        </p:nvSpPr>
        <p:spPr>
          <a:xfrm>
            <a:off x="-360" y="2492280"/>
            <a:ext cx="8839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time to get serious about the science of healthcare delivery and put a man on the moon</a:t>
            </a:r>
            <a:endParaRPr b="0" lang="en-US" sz="28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Pennsylvania</a:t>
            </a:r>
            <a:br>
              <a:rPr sz="4400"/>
            </a:br>
            <a:r>
              <a:rPr b="0" i="1" lang="en-US" sz="2600" spc="-1" strike="noStrike">
                <a:solidFill>
                  <a:srgbClr val="ffffff"/>
                </a:solidFill>
                <a:latin typeface="Century Gothic"/>
                <a:ea typeface="Tahoma"/>
              </a:rPr>
              <a:t>CLABSI mean/median rates</a:t>
            </a:r>
            <a:endParaRPr b="0" lang="en-US" sz="2600" spc="-1" strike="noStrike">
              <a:solidFill>
                <a:srgbClr val="000000"/>
              </a:solidFill>
              <a:latin typeface="Calibri"/>
            </a:endParaRPr>
          </a:p>
        </p:txBody>
      </p:sp>
      <p:sp>
        <p:nvSpPr>
          <p:cNvPr id="565"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59C8-F9D8-4E91-A28B-F3110200DF6E}"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66"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9DD8-0D5B-483F-BFEC-AEA261AD8B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7" name="Chart 8"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Pennsylvania</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69"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654C-1BC4-471D-AF31-95FF60A4FB84}"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70"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E420-FE03-479D-A515-2C2A33F8CB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1" name="Picture 5" descr="pa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Massachusetts </a:t>
            </a:r>
            <a:br>
              <a:rPr sz="4400"/>
            </a:br>
            <a:r>
              <a:rPr b="0" i="1" lang="en-US" sz="2500" spc="-1" strike="noStrike">
                <a:solidFill>
                  <a:srgbClr val="ffffff"/>
                </a:solidFill>
                <a:latin typeface="Century Gothic"/>
                <a:ea typeface="Tahoma"/>
              </a:rPr>
              <a:t>CLABSI mean/median rates</a:t>
            </a:r>
            <a:endParaRPr b="0" lang="en-US" sz="2500" spc="-1" strike="noStrike">
              <a:solidFill>
                <a:srgbClr val="000000"/>
              </a:solidFill>
              <a:latin typeface="Calibri"/>
            </a:endParaRPr>
          </a:p>
        </p:txBody>
      </p:sp>
      <p:sp>
        <p:nvSpPr>
          <p:cNvPr id="573"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1304-91A9-4F76-9DD9-34B3E9369AF4}"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74"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D2C9-4F32-4643-A28F-CBAA35FCBF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5" name="Chart 6"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Massachusetts </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77"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1A18-446B-4C8E-B72C-5AF9C5FDCBF3}"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78"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DB15-16C4-4B4B-8C4D-B9C917E614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9" name="Picture 5" descr="ma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Connecticut</a:t>
            </a:r>
            <a:br>
              <a:rPr sz="4400"/>
            </a:br>
            <a:r>
              <a:rPr b="0" i="1" lang="en-US" sz="2500" spc="-1" strike="noStrike">
                <a:solidFill>
                  <a:srgbClr val="ffffff"/>
                </a:solidFill>
                <a:latin typeface="Century Gothic"/>
                <a:ea typeface="Tahoma"/>
              </a:rPr>
              <a:t>CLABSI mean/median rates</a:t>
            </a:r>
            <a:endParaRPr b="0" lang="en-US" sz="2500" spc="-1" strike="noStrike">
              <a:solidFill>
                <a:srgbClr val="000000"/>
              </a:solidFill>
              <a:latin typeface="Calibri"/>
            </a:endParaRPr>
          </a:p>
        </p:txBody>
      </p:sp>
      <p:sp>
        <p:nvSpPr>
          <p:cNvPr id="581"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763B-B4EB-4BD5-BB9B-3ECAE70F0E9A}"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82"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311C-6AE8-4AC2-973E-759D0963AC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3" name="Chart 6"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Connecticut</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85"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3882-2C2E-435E-99FF-E70574805CE5}" type="datetime3">
              <a:rPr b="0" lang="en-US" sz="1200" spc="-1" strike="noStrike">
                <a:solidFill>
                  <a:srgbClr val="898989"/>
                </a:solidFill>
                <a:latin typeface="Calibri"/>
              </a:rPr>
              <a:t>July 30, 2026</a:t>
            </a:fld>
            <a:endParaRPr b="0" lang="en-US" sz="1200" spc="-1" strike="noStrike">
              <a:solidFill>
                <a:srgbClr val="000000"/>
              </a:solidFill>
              <a:latin typeface="Arial"/>
            </a:endParaRPr>
          </a:p>
        </p:txBody>
      </p:sp>
      <p:sp>
        <p:nvSpPr>
          <p:cNvPr id="586"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CE7E-2DED-4F0D-854C-B80701DC60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7" name="Picture 5" descr="ct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Chart 3" descr=""/>
          <p:cNvPicPr/>
          <p:nvPr/>
        </p:nvPicPr>
        <p:blipFill>
          <a:blip r:embed="rId1"/>
          <a:stretch/>
        </p:blipFill>
        <p:spPr>
          <a:xfrm>
            <a:off x="450720" y="2023920"/>
            <a:ext cx="8248680" cy="4218120"/>
          </a:xfrm>
          <a:prstGeom prst="rect">
            <a:avLst/>
          </a:prstGeom>
          <a:ln w="0">
            <a:noFill/>
          </a:ln>
        </p:spPr>
      </p:pic>
      <p:sp>
        <p:nvSpPr>
          <p:cNvPr id="58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On the CUSP: STOP BSI</a:t>
            </a:r>
            <a:endParaRPr b="0" lang="en-US" sz="4400" spc="-1" strike="noStrike">
              <a:solidFill>
                <a:srgbClr val="000000"/>
              </a:solidFill>
              <a:latin typeface="Calibri"/>
            </a:endParaRPr>
          </a:p>
        </p:txBody>
      </p:sp>
      <p:sp>
        <p:nvSpPr>
          <p:cNvPr id="590" name="TextBox 6"/>
          <p:cNvSpPr/>
          <p:nvPr/>
        </p:nvSpPr>
        <p:spPr>
          <a:xfrm>
            <a:off x="5757840" y="6230880"/>
            <a:ext cx="33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dat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Why did it Work</a:t>
            </a:r>
            <a:endParaRPr b="0" lang="en-US" sz="4400" spc="-1" strike="noStrike">
              <a:solidFill>
                <a:srgbClr val="000000"/>
              </a:solidFill>
              <a:latin typeface="Calibri"/>
            </a:endParaRPr>
          </a:p>
        </p:txBody>
      </p:sp>
      <p:sp>
        <p:nvSpPr>
          <p:cNvPr id="592" name=""/>
          <p:cNvSpPr txBox="1"/>
          <p:nvPr/>
        </p:nvSpPr>
        <p:spPr>
          <a:xfrm>
            <a:off x="457200" y="1523520"/>
            <a:ext cx="822960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Framed as a solvable social probl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Kept score with measure clinicians believed vali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Guided by scien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Focused on technical and adap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Top down measures and practices local adaption of interventions and implement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Use of Soft and Hard edg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anagement tools, social pressure, economic incentives, regulatory pressure</a:t>
            </a:r>
            <a:endParaRPr b="0" lang="en-US" sz="20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Who Gets to 0</a:t>
            </a:r>
            <a:endParaRPr b="0" lang="en-US" sz="4400" spc="-1" strike="noStrike">
              <a:solidFill>
                <a:srgbClr val="000000"/>
              </a:solidFill>
              <a:latin typeface="Calibri"/>
            </a:endParaRPr>
          </a:p>
        </p:txBody>
      </p:sp>
      <p:sp>
        <p:nvSpPr>
          <p:cNvPr id="594" name=""/>
          <p:cNvSpPr txBox="1"/>
          <p:nvPr/>
        </p:nvSpPr>
        <p:spPr>
          <a:xfrm>
            <a:off x="456840" y="1523520"/>
            <a:ext cx="838188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CEO commits to 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IP support, partnership, and technical experti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ICU manage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ommit to 0</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Accountable for rat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ake it easy to compl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upport culture where nurses help ensure complianc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tandardize and audit maintenance polici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Investigate all infection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Rates and weeks without infection widely known and visible</a:t>
            </a:r>
            <a:endParaRPr b="0" lang="en-US" sz="20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How Might We Move Forward?</a:t>
            </a:r>
            <a:endParaRPr b="0" lang="en-US" sz="4400" spc="-1" strike="noStrike">
              <a:solidFill>
                <a:srgbClr val="000000"/>
              </a:solidFill>
              <a:latin typeface="Calibri"/>
            </a:endParaRPr>
          </a:p>
        </p:txBody>
      </p:sp>
      <p:sp>
        <p:nvSpPr>
          <p:cNvPr id="596" name=""/>
          <p:cNvSpPr txBox="1"/>
          <p:nvPr/>
        </p:nvSpPr>
        <p:spPr>
          <a:xfrm>
            <a:off x="456840" y="1523520"/>
            <a:ext cx="85345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program to reduce major causes of preventable dea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VAP, DVT/PE, Pressure Ulcer, Diagnostic error, Teamwork</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Pipeline phase 1, 2, 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upport interdisciplinary teams to do “basic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ixing Bowl</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theory, logic models, methods for QI and evalu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e SEC to produce measures, report disparit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Build capacity in training schools and provider organiz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Encourage systems integr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behavioral markers of teamwork</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e healthcare CAST</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Explore peer to peer review (WANO</a:t>
            </a:r>
            <a:r>
              <a:rPr b="0" lang="en-US" sz="2400" spc="-1" strike="noStrike">
                <a:solidFill>
                  <a:srgbClr val="000000"/>
                </a:solidFill>
                <a:latin typeface="Century Gothic"/>
                <a:ea typeface="Tahoma"/>
              </a:rPr>
              <a:t>)</a:t>
            </a:r>
            <a:endParaRPr b="0" lang="en-US" sz="24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
          <p:cNvPicPr/>
          <p:nvPr/>
        </p:nvPicPr>
        <p:blipFill>
          <a:blip r:embed="rId1"/>
          <a:stretch/>
        </p:blipFill>
        <p:spPr>
          <a:xfrm>
            <a:off x="0" y="0"/>
            <a:ext cx="9144000" cy="66358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2" descr="josie"/>
          <p:cNvPicPr/>
          <p:nvPr/>
        </p:nvPicPr>
        <p:blipFill>
          <a:blip r:embed="rId1"/>
          <a:stretch/>
        </p:blipFill>
        <p:spPr>
          <a:xfrm>
            <a:off x="2252520" y="762120"/>
            <a:ext cx="4529160" cy="55530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
          <p:cNvSpPr/>
          <p:nvPr/>
        </p:nvSpPr>
        <p:spPr>
          <a:xfrm>
            <a:off x="304920" y="1066680"/>
            <a:ext cx="861048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enholtz SM, Pronovost PJ, Lipsett PA, Hobson D, Earsing K, Farley, JE, Milanovich S, Garrett-Mayer E, Winters BD, Rubin HR, Dorman T, Perl TM.  Eliminating catheter-related bloodstream infections in the intensive care unit.  Crit Care Med 2004;32:2014-20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novost PJ, Goeschel CA, Colantuoni E, Watson S, Lubomski LH, Berenholtz SM, Thompson DA, Sinopoli D, Cosgrove S, Sexton JB, Marsteller JA, Hyzy RC, Welsh R, Posa P, Schumacher K, Needham D.  Sustaining reductions in catheter related bloodstream infections in Michigan intensive care units: Observational study.  British Med J 2010;340:c3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lo VA, McNicoll L, Cornell M, Rocha JM, Adams L, Pronovost PJ.  The Rhode Island ICU Collaborative: A model for reducing central line-associated bloodstream infection and ventilator-associated pneumonia statewide.  Qual Saf Health Care 2010;19:555-56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enholtz SM, Pham JC, Thompson DA, Needham DM, Lubomski LH, Hyzy RC, Welsh R, Cosgrove SE, Sexton JB, Colantuoni E, Watson S, Goeschel CA, Pronovost PJ. An intervention to reduce ventilator-associated pneumonia in the ICU: Collaborative cohort study.  Infect Control Hosp Epidemiol 2011, in p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xton JB, Berenholtz SM, Goeschel CA, Watson S, Holzmueller CG, Thompson DA, Hyzy RC, Marsteller JA, Schumacher K, Pronovost PJ.  Assessing and improving safety climate in a large cohort of intensive care units.  Crit Care Med Feb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tz-Snyderman A, Steinwachs D, Needham DM, Colantuoni E, Morlock LL, Pronovost PJ. Impact of a statewide intensive care unit quality improvement initiative on hospital mortality and length of stay: Retrospective comparative analysis.  Brit Med J 2011;342:d219.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
          <p:cNvPicPr/>
          <p:nvPr/>
        </p:nvPicPr>
        <p:blipFill>
          <a:blip r:embed="rId1"/>
          <a:stretch/>
        </p:blipFill>
        <p:spPr>
          <a:xfrm>
            <a:off x="380880" y="1905120"/>
            <a:ext cx="8382240" cy="2286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josie"/>
          <p:cNvPicPr/>
          <p:nvPr/>
        </p:nvPicPr>
        <p:blipFill>
          <a:blip r:embed="rId1"/>
          <a:stretch/>
        </p:blipFill>
        <p:spPr>
          <a:xfrm>
            <a:off x="2252520" y="762120"/>
            <a:ext cx="4529160" cy="55530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SimSun"/>
              </a:rPr>
              <a:t>Improving Care</a:t>
            </a:r>
            <a:endParaRPr b="0" lang="en-US" sz="4400" spc="-1" strike="noStrike">
              <a:solidFill>
                <a:srgbClr val="000000"/>
              </a:solidFill>
              <a:latin typeface="Calibri"/>
            </a:endParaRPr>
          </a:p>
        </p:txBody>
      </p:sp>
      <p:grpSp>
        <p:nvGrpSpPr>
          <p:cNvPr id="548" name="Content Placeholder 3"/>
          <p:cNvGrpSpPr/>
          <p:nvPr/>
        </p:nvGrpSpPr>
        <p:grpSpPr>
          <a:xfrm>
            <a:off x="457200" y="1523880"/>
            <a:ext cx="8229600" cy="4775760"/>
            <a:chOff x="457200" y="1523880"/>
            <a:chExt cx="8229600" cy="4775760"/>
          </a:xfrm>
        </p:grpSpPr>
        <p:sp>
          <p:nvSpPr>
            <p:cNvPr id="549" name="Rectangle 4"/>
            <p:cNvSpPr/>
            <p:nvPr/>
          </p:nvSpPr>
          <p:spPr>
            <a:xfrm>
              <a:off x="457200" y="1523880"/>
              <a:ext cx="3657600" cy="69840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SimSun"/>
                </a:rPr>
                <a:t>CUSP</a:t>
              </a:r>
              <a:endParaRPr b="0" lang="en-US" sz="1800" spc="-1" strike="noStrike">
                <a:solidFill>
                  <a:srgbClr val="000000"/>
                </a:solidFill>
                <a:latin typeface="Arial"/>
              </a:endParaRPr>
            </a:p>
          </p:txBody>
        </p:sp>
        <p:sp>
          <p:nvSpPr>
            <p:cNvPr id="550" name="Rectangle 5"/>
            <p:cNvSpPr/>
            <p:nvPr/>
          </p:nvSpPr>
          <p:spPr>
            <a:xfrm>
              <a:off x="457200" y="2301480"/>
              <a:ext cx="3657600" cy="30592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e staff on science of safety</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defects</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ign executive to adopt unit</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 from one defect per quarter</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teamwork tools </a:t>
              </a:r>
              <a:endParaRPr b="0" lang="en-US" sz="1600" spc="-1" strike="noStrike">
                <a:solidFill>
                  <a:srgbClr val="000000"/>
                </a:solidFill>
                <a:latin typeface="Arial"/>
              </a:endParaRPr>
            </a:p>
          </p:txBody>
        </p:sp>
        <p:sp>
          <p:nvSpPr>
            <p:cNvPr id="551" name="Rectangle 6"/>
            <p:cNvSpPr/>
            <p:nvPr/>
          </p:nvSpPr>
          <p:spPr>
            <a:xfrm>
              <a:off x="4267080" y="1523880"/>
              <a:ext cx="4419720" cy="69840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SimSun"/>
                </a:rPr>
                <a:t>Translating Evidence Into Practice (TRiP)</a:t>
              </a:r>
              <a:endParaRPr b="0" lang="en-US" sz="1800" spc="-1" strike="noStrike">
                <a:solidFill>
                  <a:srgbClr val="000000"/>
                </a:solidFill>
                <a:latin typeface="Arial"/>
              </a:endParaRPr>
            </a:p>
          </p:txBody>
        </p:sp>
        <p:sp>
          <p:nvSpPr>
            <p:cNvPr id="552" name="Rectangle 7"/>
            <p:cNvSpPr/>
            <p:nvPr/>
          </p:nvSpPr>
          <p:spPr>
            <a:xfrm>
              <a:off x="4267080" y="2301480"/>
              <a:ext cx="4419720" cy="30592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mmarize the  evidence  in a checklist</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local barriers to implementation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  performanc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all patients get the evidenc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gag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ducat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xecut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valuat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TextBox 7"/>
            <p:cNvSpPr/>
            <p:nvPr/>
          </p:nvSpPr>
          <p:spPr>
            <a:xfrm>
              <a:off x="3120120" y="5595840"/>
              <a:ext cx="215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safercare.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pic>
        <p:nvPicPr>
          <p:cNvPr id="555" name="Picture 5" descr=""/>
          <p:cNvPicPr/>
          <p:nvPr/>
        </p:nvPicPr>
        <p:blipFill>
          <a:blip r:embed="rId1"/>
          <a:srcRect l="3306" t="4160" r="3164" b="2164"/>
          <a:stretch/>
        </p:blipFill>
        <p:spPr>
          <a:xfrm>
            <a:off x="457200" y="304920"/>
            <a:ext cx="8153280" cy="4647960"/>
          </a:xfrm>
          <a:prstGeom prst="rect">
            <a:avLst/>
          </a:prstGeom>
          <a:ln w="0">
            <a:noFill/>
          </a:ln>
        </p:spPr>
      </p:pic>
      <p:sp>
        <p:nvSpPr>
          <p:cNvPr id="556" name="TextBox 3"/>
          <p:cNvSpPr/>
          <p:nvPr/>
        </p:nvSpPr>
        <p:spPr>
          <a:xfrm>
            <a:off x="1447920" y="52578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NEJM 2006: Pronovost BMJ 2010: Sawyer CCM2010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act of Statewide Quality Improvement Initiative on Hospital Mortality</a:t>
            </a:r>
            <a:endParaRPr b="0" lang="en-US" sz="3600" spc="-1" strike="noStrike">
              <a:solidFill>
                <a:srgbClr val="000000"/>
              </a:solidFill>
              <a:latin typeface="Calibri"/>
            </a:endParaRPr>
          </a:p>
        </p:txBody>
      </p:sp>
      <p:pic>
        <p:nvPicPr>
          <p:cNvPr id="558" name="Chart 3" descr=""/>
          <p:cNvPicPr/>
          <p:nvPr/>
        </p:nvPicPr>
        <p:blipFill>
          <a:blip r:embed="rId1"/>
          <a:stretch/>
        </p:blipFill>
        <p:spPr>
          <a:xfrm>
            <a:off x="-6480" y="1212840"/>
            <a:ext cx="9077400" cy="5651640"/>
          </a:xfrm>
          <a:prstGeom prst="rect">
            <a:avLst/>
          </a:prstGeom>
          <a:ln w="0">
            <a:noFill/>
          </a:ln>
        </p:spPr>
      </p:pic>
      <p:sp>
        <p:nvSpPr>
          <p:cNvPr id="559" name="TextBox 4"/>
          <p:cNvSpPr/>
          <p:nvPr/>
        </p:nvSpPr>
        <p:spPr>
          <a:xfrm>
            <a:off x="6629400" y="647712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tz: BMJ 2011</a:t>
            </a:r>
            <a:endParaRPr b="0" lang="en-US" sz="1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1" name="Picture 2" descr=""/>
          <p:cNvPicPr/>
          <p:nvPr/>
        </p:nvPicPr>
        <p:blipFill>
          <a:blip r:embed="rId1"/>
          <a:srcRect l="7500" t="16003" r="17501" b="20799"/>
          <a:stretch/>
        </p:blipFill>
        <p:spPr>
          <a:xfrm>
            <a:off x="1600200" y="533520"/>
            <a:ext cx="6629400" cy="48513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7400"/>
            <a:ext cx="82296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a typeface="Tahoma"/>
            </a:endParaRPr>
          </a:p>
        </p:txBody>
      </p:sp>
      <p:pic>
        <p:nvPicPr>
          <p:cNvPr id="563" name="Content Placeholder 3" descr="palleyd_2078_20645576.jpg"/>
          <p:cNvPicPr/>
          <p:nvPr/>
        </p:nvPicPr>
        <p:blipFill>
          <a:blip r:embed="rId1"/>
          <a:stretch/>
        </p:blipFill>
        <p:spPr>
          <a:xfrm>
            <a:off x="0" y="0"/>
            <a:ext cx="8980560" cy="69278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9:33:12Z</dcterms:created>
  <dc:creator>Heon-Jae Jeong, MD, MPH, MBA</dc:creator>
  <dc:description/>
  <dc:language>en-US</dc:language>
  <cp:lastModifiedBy>Karen.Brooks</cp:lastModifiedBy>
  <dcterms:modified xsi:type="dcterms:W3CDTF">2011-06-02T13:45:42Z</dcterms:modified>
  <cp:revision>473</cp:revision>
  <dc:subject/>
  <dc:title>Project Report - Lean Sigma</dc:title>
</cp:coreProperties>
</file>