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724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1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397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724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1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724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151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397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724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151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79000" indent="-2790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85720" indent="-2379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864000" indent="-2095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06956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127548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Line 2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" name="Group 44"/>
          <p:cNvGrpSpPr/>
          <p:nvPr/>
        </p:nvGrpSpPr>
        <p:grpSpPr>
          <a:xfrm>
            <a:off x="8078760" y="6219720"/>
            <a:ext cx="1201680" cy="369720"/>
            <a:chOff x="8078760" y="6219720"/>
            <a:chExt cx="1201680" cy="369720"/>
          </a:xfrm>
        </p:grpSpPr>
        <p:sp>
          <p:nvSpPr>
            <p:cNvPr id="6" name="Freeform 45"/>
            <p:cNvSpPr/>
            <p:nvPr/>
          </p:nvSpPr>
          <p:spPr>
            <a:xfrm>
              <a:off x="8421840" y="6294240"/>
              <a:ext cx="283680" cy="269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8115120" y="6219720"/>
              <a:ext cx="330840" cy="34416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8202240" y="6312600"/>
              <a:ext cx="118800" cy="21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8175960" y="6355800"/>
              <a:ext cx="122400" cy="31680"/>
            </a:xfrm>
            <a:custGeom>
              <a:avLst/>
              <a:gdLst>
                <a:gd name="textAreaLeft" fmla="*/ 0 w 122400"/>
                <a:gd name="textAreaRight" fmla="*/ 122400 w 122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8078760" y="6514920"/>
              <a:ext cx="131400" cy="522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8698680" y="6294240"/>
              <a:ext cx="265320" cy="2718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9083520" y="644976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8955360" y="6274440"/>
              <a:ext cx="303120" cy="306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" name="Freeform 53"/>
          <p:cNvSpPr/>
          <p:nvPr/>
        </p:nvSpPr>
        <p:spPr>
          <a:xfrm>
            <a:off x="8199360" y="5986440"/>
            <a:ext cx="952560" cy="446040"/>
          </a:xfrm>
          <a:custGeom>
            <a:avLst/>
            <a:gdLst>
              <a:gd name="textAreaLeft" fmla="*/ 0 w 952560"/>
              <a:gd name="textAreaRight" fmla="*/ 952920 w 9525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3939ff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" name="Picture 61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62"/>
          <p:cNvSpPr/>
          <p:nvPr/>
        </p:nvSpPr>
        <p:spPr>
          <a:xfrm>
            <a:off x="-74880" y="6400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03A-3EB4-4165-A443-FED71E25C070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6"/>
          <p:cNvGrpSpPr/>
          <p:nvPr/>
        </p:nvGrpSpPr>
        <p:grpSpPr>
          <a:xfrm>
            <a:off x="7396200" y="380880"/>
            <a:ext cx="1671120" cy="848880"/>
            <a:chOff x="7396200" y="380880"/>
            <a:chExt cx="1671120" cy="848880"/>
          </a:xfrm>
        </p:grpSpPr>
        <p:grpSp>
          <p:nvGrpSpPr>
            <p:cNvPr id="54" name="Group 52"/>
            <p:cNvGrpSpPr/>
            <p:nvPr/>
          </p:nvGrpSpPr>
          <p:grpSpPr>
            <a:xfrm>
              <a:off x="7408800" y="383040"/>
              <a:ext cx="1658520" cy="846720"/>
              <a:chOff x="7408800" y="383040"/>
              <a:chExt cx="1658520" cy="846720"/>
            </a:xfrm>
          </p:grpSpPr>
          <p:sp>
            <p:nvSpPr>
              <p:cNvPr id="55" name="Freeform 53"/>
              <p:cNvSpPr/>
              <p:nvPr/>
            </p:nvSpPr>
            <p:spPr>
              <a:xfrm>
                <a:off x="7569720" y="383040"/>
                <a:ext cx="1312560" cy="621360"/>
              </a:xfrm>
              <a:custGeom>
                <a:avLst/>
                <a:gdLst>
                  <a:gd name="textAreaLeft" fmla="*/ 0 w 1312560"/>
                  <a:gd name="textAreaRight" fmla="*/ 1312920 w 1312560"/>
                  <a:gd name="textAreaTop" fmla="*/ 0 h 621360"/>
                  <a:gd name="textAreaBottom" fmla="*/ 621720 h 621360"/>
                </a:gdLst>
                <a:ahLst/>
                <a:rect l="textAreaLeft" t="textAreaTop" r="textAreaRight" b="textAreaBottom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" name="Freeform 54"/>
              <p:cNvSpPr/>
              <p:nvPr/>
            </p:nvSpPr>
            <p:spPr>
              <a:xfrm>
                <a:off x="7884360" y="815400"/>
                <a:ext cx="397080" cy="383040"/>
              </a:xfrm>
              <a:custGeom>
                <a:avLst/>
                <a:gdLst>
                  <a:gd name="textAreaLeft" fmla="*/ 0 w 397080"/>
                  <a:gd name="textAreaRight" fmla="*/ 397440 w 3970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" name="Freeform 55"/>
              <p:cNvSpPr/>
              <p:nvPr/>
            </p:nvSpPr>
            <p:spPr>
              <a:xfrm>
                <a:off x="7454880" y="711000"/>
                <a:ext cx="463680" cy="48744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" name="Freeform 56"/>
              <p:cNvSpPr/>
              <p:nvPr/>
            </p:nvSpPr>
            <p:spPr>
              <a:xfrm>
                <a:off x="7575480" y="841680"/>
                <a:ext cx="168480" cy="421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" name="Freeform 57"/>
              <p:cNvSpPr/>
              <p:nvPr/>
            </p:nvSpPr>
            <p:spPr>
              <a:xfrm>
                <a:off x="7540920" y="903600"/>
                <a:ext cx="171360" cy="471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" name="Freeform 58"/>
              <p:cNvSpPr/>
              <p:nvPr/>
            </p:nvSpPr>
            <p:spPr>
              <a:xfrm>
                <a:off x="7408800" y="1125720"/>
                <a:ext cx="181800" cy="730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1" name="Freeform 59"/>
              <p:cNvSpPr/>
              <p:nvPr/>
            </p:nvSpPr>
            <p:spPr>
              <a:xfrm>
                <a:off x="8268120" y="815400"/>
                <a:ext cx="370080" cy="3866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2" name="Freeform 60"/>
              <p:cNvSpPr/>
              <p:nvPr/>
            </p:nvSpPr>
            <p:spPr>
              <a:xfrm>
                <a:off x="8796600" y="1034280"/>
                <a:ext cx="270720" cy="19548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8617680" y="789120"/>
                <a:ext cx="416520" cy="429120"/>
              </a:xfrm>
              <a:custGeom>
                <a:avLst/>
                <a:gdLst>
                  <a:gd name="textAreaLeft" fmla="*/ 0 w 416520"/>
                  <a:gd name="textAreaRight" fmla="*/ 416880 w 4165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4" name="Freeform 62"/>
            <p:cNvSpPr/>
            <p:nvPr/>
          </p:nvSpPr>
          <p:spPr>
            <a:xfrm>
              <a:off x="7559640" y="380880"/>
              <a:ext cx="1315800" cy="627120"/>
            </a:xfrm>
            <a:custGeom>
              <a:avLst/>
              <a:gdLst>
                <a:gd name="textAreaLeft" fmla="*/ 0 w 1315800"/>
                <a:gd name="textAreaRight" fmla="*/ 1316160 w 13158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7396200" y="669240"/>
              <a:ext cx="1660680" cy="520920"/>
              <a:chOff x="7396200" y="669240"/>
              <a:chExt cx="1660680" cy="520920"/>
            </a:xfrm>
          </p:grpSpPr>
          <p:sp>
            <p:nvSpPr>
              <p:cNvPr id="66" name="Freeform 64"/>
              <p:cNvSpPr/>
              <p:nvPr/>
            </p:nvSpPr>
            <p:spPr>
              <a:xfrm>
                <a:off x="7869240" y="778320"/>
                <a:ext cx="393480" cy="37764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7446600" y="669240"/>
                <a:ext cx="457200" cy="4820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482040"/>
                  <a:gd name="textAreaBottom" fmla="*/ 482400 h 48204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66"/>
              <p:cNvSpPr/>
              <p:nvPr/>
            </p:nvSpPr>
            <p:spPr>
              <a:xfrm>
                <a:off x="7573320" y="803880"/>
                <a:ext cx="158040" cy="34200"/>
              </a:xfrm>
              <a:custGeom>
                <a:avLst/>
                <a:gdLst>
                  <a:gd name="textAreaLeft" fmla="*/ 0 w 158040"/>
                  <a:gd name="textAreaRight" fmla="*/ 158040 w 158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67"/>
              <p:cNvSpPr/>
              <p:nvPr/>
            </p:nvSpPr>
            <p:spPr>
              <a:xfrm>
                <a:off x="7535160" y="860400"/>
                <a:ext cx="163080" cy="475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68"/>
              <p:cNvSpPr/>
              <p:nvPr/>
            </p:nvSpPr>
            <p:spPr>
              <a:xfrm>
                <a:off x="7396200" y="1081080"/>
                <a:ext cx="181800" cy="730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69"/>
              <p:cNvSpPr/>
              <p:nvPr/>
            </p:nvSpPr>
            <p:spPr>
              <a:xfrm>
                <a:off x="8253360" y="778320"/>
                <a:ext cx="368640" cy="3812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Freeform 70"/>
              <p:cNvSpPr/>
              <p:nvPr/>
            </p:nvSpPr>
            <p:spPr>
              <a:xfrm>
                <a:off x="8784720" y="995400"/>
                <a:ext cx="272160" cy="19476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Freeform 71"/>
              <p:cNvSpPr/>
              <p:nvPr/>
            </p:nvSpPr>
            <p:spPr>
              <a:xfrm>
                <a:off x="8607600" y="751320"/>
                <a:ext cx="417240" cy="42696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4" name="Group 72"/>
          <p:cNvGrpSpPr/>
          <p:nvPr/>
        </p:nvGrpSpPr>
        <p:grpSpPr>
          <a:xfrm>
            <a:off x="0" y="3714840"/>
            <a:ext cx="8386560" cy="19080"/>
            <a:chOff x="0" y="3714840"/>
            <a:chExt cx="8386560" cy="19080"/>
          </a:xfrm>
        </p:grpSpPr>
        <p:sp>
          <p:nvSpPr>
            <p:cNvPr id="75" name="Line 73"/>
            <p:cNvSpPr/>
            <p:nvPr/>
          </p:nvSpPr>
          <p:spPr>
            <a:xfrm>
              <a:off x="5760" y="37339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Line 74"/>
            <p:cNvSpPr/>
            <p:nvPr/>
          </p:nvSpPr>
          <p:spPr>
            <a:xfrm>
              <a:off x="0" y="37148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77" name="Picture 80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0020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79000" indent="-2790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85720" indent="-2379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864000" indent="-2095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06956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127548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8858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286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illiam B. Munier, MD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286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Director, Center for Quality Improvement and Patient Safety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286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Agency for Healthcare Research and Quality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National Advisory Council for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Healthcare Research and Quality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8 April 2011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1788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ealthcare-Associated Infection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HRQ’s Role in their Preven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tion Types – Major Focus Area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ABS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AUT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S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VAP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RSA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. difficil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ealthcare Setting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Hospitals (Phase I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67200" indent="-3672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mbulatory settings (Phase II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-3132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bulatory surgery cen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-3132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RD facilit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-3132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utpatient clinics &amp; offic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67200" indent="-3672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Long-term care facilities (Phase III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 HAI Projects – FY 2010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520" y="1752480"/>
            <a:ext cx="8393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ontracts (including IAAs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$19 mill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Grant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$15 mill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otal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$34 mill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2636640" y="2666520"/>
            <a:ext cx="61020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Straight Arrow Connector 5"/>
          <p:cNvCxnSpPr/>
          <p:nvPr/>
        </p:nvCxnSpPr>
        <p:spPr>
          <a:xfrm>
            <a:off x="2636640" y="4114800"/>
            <a:ext cx="61020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llustrative HAI Project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5998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ssess the value of candidate intervention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51680" indent="-3052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uster randomized trial of hospitals to assess the impact of targeted vs. universal strategies to reduce MRSA in IC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57840" indent="-3578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ove evidence-based recommendations into health practic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51680" indent="-3052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tionwide implementation of CUSP to reduce CLABS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tionwide Implementation of CUSP for CLABSI – Interim Repor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120" y="1523880"/>
            <a:ext cx="8393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4320" indent="-274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Recruitmen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2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5 State hospital associ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2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00 hospi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,100 hospital tea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-274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Interim results – 350 hospital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CLABSI rate/1000 central line day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2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eline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SP for CLABSI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1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945040" y="5105520"/>
            <a:ext cx="10670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75"/>
              </a:spcBef>
              <a:spcAft>
                <a:spcPts val="25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Bell MT"/>
              </a:rPr>
              <a:t>}</a:t>
            </a:r>
            <a:endParaRPr b="0" lang="en-US" sz="6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802200" y="548640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5%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54" name="Straight Arrow Connector 5"/>
          <p:cNvCxnSpPr/>
          <p:nvPr/>
        </p:nvCxnSpPr>
        <p:spPr>
          <a:xfrm flipH="1">
            <a:off x="6629040" y="5487840"/>
            <a:ext cx="2160" cy="4579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xpanding the Impact of CUSP Beyond CLABSI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120" y="2361960"/>
            <a:ext cx="8393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18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USP for CAUT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-465120">
              <a:spcBef>
                <a:spcPts val="751"/>
              </a:spcBef>
              <a:spcAft>
                <a:spcPts val="18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USP for SSI/Safe Surgery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-465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USP for VAP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cing Forwar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4640" indent="-4046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uild on prior-year activities to increase effectiveness of AHRQ’s HAI investment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04640" indent="-4046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xpand research projects in high-priority area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04640" indent="-4046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nhance synergy within HHS &amp; with the private sector to strengthen nationwide efforts to reduce HAI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 HAI Investment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9360" y="1752480"/>
            <a:ext cx="431316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ext  u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-46512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ter Pronovost, MD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HRQ’s partner in reducing HA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peter_pronovost"/>
          <p:cNvPicPr/>
          <p:nvPr/>
        </p:nvPicPr>
        <p:blipFill>
          <a:blip r:embed="rId1"/>
          <a:stretch/>
        </p:blipFill>
        <p:spPr>
          <a:xfrm>
            <a:off x="5165640" y="1676520"/>
            <a:ext cx="3444840" cy="40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gnitude of the Problem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9360" y="1752480"/>
            <a:ext cx="85806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vious HAI estimates (based on Klevens et al., 2007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71880" indent="-37188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2002 – Hospital on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80840" indent="-3171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7 million HA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80840" indent="-3171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9,000 deat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80840" indent="-3171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$30 billion in excess healthcare co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71880" indent="-37188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verall HAI figures to be updated in light of new lower CDC estimates for CLABSI, CAUTI, SSI, and VA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w CLABSI Estimate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5238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MWR, March 1, 20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LABSIs in ICUs: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01 – 43,0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99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09 – 18,0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7360" indent="-297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estimates for CAUTI, SSI, VAP likewise low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7360" indent="-297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current overall estima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any one time, HAIs affec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out of every 20 hospital pati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Is are costly, deadly, and largely preventab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429000" y="2381400"/>
            <a:ext cx="106668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75"/>
              </a:spcBef>
              <a:spcAft>
                <a:spcPts val="25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Bell MT"/>
              </a:rPr>
              <a:t>}</a:t>
            </a:r>
            <a:endParaRPr b="0" lang="en-US" sz="6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232160" y="28195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8%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24" name="Straight Arrow Connector 9"/>
          <p:cNvCxnSpPr/>
          <p:nvPr/>
        </p:nvCxnSpPr>
        <p:spPr>
          <a:xfrm flipH="1">
            <a:off x="4110840" y="2820960"/>
            <a:ext cx="3960" cy="4579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’s Central Rol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20000"/>
              </a:lnSpc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Promote the wide-scale application of evidence-based approaches to prevent healthcare-associated infections (HAIs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HRQ’s Role in the National Effor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518040" indent="-5180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Participates in coordinated, Department-level activities to reduce HAI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842040" indent="-45324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rves on HHS Steering Committee for Prevention of HA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842040" indent="-45324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irs the Committee’s Research Working Grou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842040" indent="-45324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ilitates overall HHS evaluation effort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HRQ’s Role in the National Effor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481320" indent="-481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upports research and demonstrat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82640" indent="-421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pidemiolog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82640" indent="-421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fection control interven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82640" indent="-421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ementation &amp; imp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81320" indent="-481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upports projects to spread evidence-based methods and proven technique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720" y="647640"/>
            <a:ext cx="8300880" cy="4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ve Phases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lational Researc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1600200"/>
            <a:ext cx="9296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discovery of opportunities to address health problems through technologic advances, surveillance, outbreak investigation, and epidemiologic studi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move discovery into first application of candidate intervention(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assess the value of the candidate interventions, leading to the development of evidence-based recommendatio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3 -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ove evidence-based recommendations into health practice, through delivery, dissemination, and diffusion research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4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evaluate the “real world” health impact of population-level health practice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6064200"/>
            <a:ext cx="873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b3b3b3"/>
                </a:solidFill>
                <a:latin typeface="Arial"/>
              </a:rPr>
              <a:t>1</a:t>
            </a:r>
            <a:r>
              <a:rPr b="0" i="1" lang="en-US" sz="1200" spc="-1" strike="noStrike">
                <a:solidFill>
                  <a:srgbClr val="b3b3b3"/>
                </a:solidFill>
                <a:latin typeface="Arial"/>
              </a:rPr>
              <a:t>Adapted from: Genet Med 2007:9(10):665-674 and  http://www.iths.org/about/translationa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0" y="3200400"/>
            <a:ext cx="1047600" cy="2744640"/>
          </a:xfrm>
          <a:prstGeom prst="ellipse">
            <a:avLst/>
          </a:prstGeom>
          <a:noFill/>
          <a:ln w="442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chigan Keystone ICU Projec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003 - first major HAI project:  $454,000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Led by Dr. Peter Pronovost, JHU, in conjunction with Michigan Hospital Association &amp; Blue Cross/Blue Shield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normously successful in reducing CR-BSI in Michigan ICU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ased on streamlining CDC protocols, addressing teamwork/human factors, and fostering a culture of safety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 HAI Investment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639720" y="1523880"/>
          <a:ext cx="8391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523880"/>
                    <a:ext cx="8391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Munier</dc:creator>
  <dc:description>Presented at the 3rd Annual Paeient Safety Research Workshop - 16Dec09 - London. Sponsored by WHO and NPSA.</dc:description>
  <cp:keywords/>
  <dc:language>en-US</dc:language>
  <cp:lastModifiedBy>Karen.Brooks</cp:lastModifiedBy>
  <cp:lastPrinted>2003-01-21T20:19:23Z</cp:lastPrinted>
  <dcterms:modified xsi:type="dcterms:W3CDTF">2011-04-08T20:44:30Z</dcterms:modified>
  <cp:revision>829</cp:revision>
  <dc:subject/>
  <dc:title>Implementing Evidence-Based Practices athe the AHRQ Center for Quality Improvement and Patient Safety</dc:title>
</cp:coreProperties>
</file>