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7524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26520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26520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7524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26520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85720" indent="-2379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864000" indent="-2095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06956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127548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" name="Group 34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Line 2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Line 32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" name="Group 44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Freeform 45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269280"/>
                <a:gd name="textAreaBottom" fmla="*/ 269280 h 269280"/>
              </a:gdLst>
              <a:ahLst/>
              <a:rect l="textAreaLeft" t="textAreaTop" r="textAreaRight" b="textAreaBottom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46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47"/>
            <p:cNvSpPr/>
            <p:nvPr/>
          </p:nvSpPr>
          <p:spPr>
            <a:xfrm>
              <a:off x="8202240" y="6312600"/>
              <a:ext cx="118800" cy="219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48"/>
            <p:cNvSpPr/>
            <p:nvPr/>
          </p:nvSpPr>
          <p:spPr>
            <a:xfrm>
              <a:off x="8175960" y="6355800"/>
              <a:ext cx="122400" cy="31680"/>
            </a:xfrm>
            <a:custGeom>
              <a:avLst/>
              <a:gdLst>
                <a:gd name="textAreaLeft" fmla="*/ 0 w 122400"/>
                <a:gd name="textAreaRight" fmla="*/ 122400 w 122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Freeform 49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Freeform 50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51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52"/>
            <p:cNvSpPr/>
            <p:nvPr/>
          </p:nvSpPr>
          <p:spPr>
            <a:xfrm>
              <a:off x="8955360" y="6274440"/>
              <a:ext cx="303120" cy="30636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" name="Freeform 53"/>
          <p:cNvSpPr/>
          <p:nvPr/>
        </p:nvSpPr>
        <p:spPr>
          <a:xfrm>
            <a:off x="8199360" y="5986440"/>
            <a:ext cx="952560" cy="446040"/>
          </a:xfrm>
          <a:custGeom>
            <a:avLst/>
            <a:gdLst>
              <a:gd name="textAreaLeft" fmla="*/ 0 w 952560"/>
              <a:gd name="textAreaRight" fmla="*/ 952920 w 95256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3939ff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" name="Picture 61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Rectangle 62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687F-C486-4E29-A6E3-7D13B1A5B1E2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6"/>
          <p:cNvGrpSpPr/>
          <p:nvPr/>
        </p:nvGrpSpPr>
        <p:grpSpPr>
          <a:xfrm>
            <a:off x="7396200" y="380880"/>
            <a:ext cx="1671120" cy="848880"/>
            <a:chOff x="7396200" y="380880"/>
            <a:chExt cx="1671120" cy="848880"/>
          </a:xfrm>
        </p:grpSpPr>
        <p:grpSp>
          <p:nvGrpSpPr>
            <p:cNvPr id="54" name="Group 52"/>
            <p:cNvGrpSpPr/>
            <p:nvPr/>
          </p:nvGrpSpPr>
          <p:grpSpPr>
            <a:xfrm>
              <a:off x="7408800" y="383040"/>
              <a:ext cx="1658520" cy="846720"/>
              <a:chOff x="7408800" y="383040"/>
              <a:chExt cx="1658520" cy="846720"/>
            </a:xfrm>
          </p:grpSpPr>
          <p:sp>
            <p:nvSpPr>
              <p:cNvPr id="55" name="Freeform 53"/>
              <p:cNvSpPr/>
              <p:nvPr/>
            </p:nvSpPr>
            <p:spPr>
              <a:xfrm>
                <a:off x="7569720" y="383040"/>
                <a:ext cx="1312560" cy="621360"/>
              </a:xfrm>
              <a:custGeom>
                <a:avLst/>
                <a:gdLst>
                  <a:gd name="textAreaLeft" fmla="*/ 0 w 1312560"/>
                  <a:gd name="textAreaRight" fmla="*/ 1312920 w 1312560"/>
                  <a:gd name="textAreaTop" fmla="*/ 0 h 621360"/>
                  <a:gd name="textAreaBottom" fmla="*/ 621720 h 621360"/>
                </a:gdLst>
                <a:ahLst/>
                <a:rect l="textAreaLeft" t="textAreaTop" r="textAreaRight" b="textAreaBottom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6" name="Freeform 54"/>
              <p:cNvSpPr/>
              <p:nvPr/>
            </p:nvSpPr>
            <p:spPr>
              <a:xfrm>
                <a:off x="7884360" y="815400"/>
                <a:ext cx="397080" cy="383040"/>
              </a:xfrm>
              <a:custGeom>
                <a:avLst/>
                <a:gdLst>
                  <a:gd name="textAreaLeft" fmla="*/ 0 w 397080"/>
                  <a:gd name="textAreaRight" fmla="*/ 397440 w 3970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7" name="Freeform 55"/>
              <p:cNvSpPr/>
              <p:nvPr/>
            </p:nvSpPr>
            <p:spPr>
              <a:xfrm>
                <a:off x="7454880" y="711000"/>
                <a:ext cx="463680" cy="487440"/>
              </a:xfrm>
              <a:custGeom>
                <a:avLst/>
                <a:gdLst>
                  <a:gd name="textAreaLeft" fmla="*/ 0 w 463680"/>
                  <a:gd name="textAreaRight" fmla="*/ 464040 w 463680"/>
                  <a:gd name="textAreaTop" fmla="*/ 0 h 487440"/>
                  <a:gd name="textAreaBottom" fmla="*/ 487800 h 48744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8" name="Freeform 56"/>
              <p:cNvSpPr/>
              <p:nvPr/>
            </p:nvSpPr>
            <p:spPr>
              <a:xfrm>
                <a:off x="7575480" y="841680"/>
                <a:ext cx="168480" cy="4212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" name="Freeform 57"/>
              <p:cNvSpPr/>
              <p:nvPr/>
            </p:nvSpPr>
            <p:spPr>
              <a:xfrm>
                <a:off x="7540920" y="903600"/>
                <a:ext cx="171360" cy="471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" name="Freeform 58"/>
              <p:cNvSpPr/>
              <p:nvPr/>
            </p:nvSpPr>
            <p:spPr>
              <a:xfrm>
                <a:off x="7408800" y="1125720"/>
                <a:ext cx="181800" cy="730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1" name="Freeform 59"/>
              <p:cNvSpPr/>
              <p:nvPr/>
            </p:nvSpPr>
            <p:spPr>
              <a:xfrm>
                <a:off x="8268120" y="815400"/>
                <a:ext cx="370080" cy="38664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386640"/>
                  <a:gd name="textAreaBottom" fmla="*/ 387000 h 386640"/>
                </a:gdLst>
                <a:ahLst/>
                <a:rect l="textAreaLeft" t="textAreaTop" r="textAreaRight" b="textAreaBottom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2" name="Freeform 60"/>
              <p:cNvSpPr/>
              <p:nvPr/>
            </p:nvSpPr>
            <p:spPr>
              <a:xfrm>
                <a:off x="8796600" y="1034280"/>
                <a:ext cx="270720" cy="195480"/>
              </a:xfrm>
              <a:custGeom>
                <a:avLst/>
                <a:gdLst>
                  <a:gd name="textAreaLeft" fmla="*/ 0 w 270720"/>
                  <a:gd name="textAreaRight" fmla="*/ 271080 w 27072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8617680" y="789120"/>
                <a:ext cx="416520" cy="42912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64" name="Freeform 62"/>
            <p:cNvSpPr/>
            <p:nvPr/>
          </p:nvSpPr>
          <p:spPr>
            <a:xfrm>
              <a:off x="7559640" y="380880"/>
              <a:ext cx="1315800" cy="627120"/>
            </a:xfrm>
            <a:custGeom>
              <a:avLst/>
              <a:gdLst>
                <a:gd name="textAreaLeft" fmla="*/ 0 w 1315800"/>
                <a:gd name="textAreaRight" fmla="*/ 1316160 w 131580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5" name="Group 63"/>
            <p:cNvGrpSpPr/>
            <p:nvPr/>
          </p:nvGrpSpPr>
          <p:grpSpPr>
            <a:xfrm>
              <a:off x="7396200" y="669240"/>
              <a:ext cx="1660680" cy="520920"/>
              <a:chOff x="7396200" y="669240"/>
              <a:chExt cx="1660680" cy="520920"/>
            </a:xfrm>
          </p:grpSpPr>
          <p:sp>
            <p:nvSpPr>
              <p:cNvPr id="66" name="Freeform 64"/>
              <p:cNvSpPr/>
              <p:nvPr/>
            </p:nvSpPr>
            <p:spPr>
              <a:xfrm>
                <a:off x="7869240" y="778320"/>
                <a:ext cx="393480" cy="37764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7" name="Freeform 65"/>
              <p:cNvSpPr/>
              <p:nvPr/>
            </p:nvSpPr>
            <p:spPr>
              <a:xfrm>
                <a:off x="7446600" y="669240"/>
                <a:ext cx="457200" cy="4820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8" name="Freeform 66"/>
              <p:cNvSpPr/>
              <p:nvPr/>
            </p:nvSpPr>
            <p:spPr>
              <a:xfrm>
                <a:off x="7573320" y="803880"/>
                <a:ext cx="158040" cy="34200"/>
              </a:xfrm>
              <a:custGeom>
                <a:avLst/>
                <a:gdLst>
                  <a:gd name="textAreaLeft" fmla="*/ 0 w 158040"/>
                  <a:gd name="textAreaRight" fmla="*/ 158040 w 15804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67"/>
              <p:cNvSpPr/>
              <p:nvPr/>
            </p:nvSpPr>
            <p:spPr>
              <a:xfrm>
                <a:off x="7535160" y="860400"/>
                <a:ext cx="163080" cy="475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68"/>
              <p:cNvSpPr/>
              <p:nvPr/>
            </p:nvSpPr>
            <p:spPr>
              <a:xfrm>
                <a:off x="7396200" y="1081080"/>
                <a:ext cx="181800" cy="7308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69"/>
              <p:cNvSpPr/>
              <p:nvPr/>
            </p:nvSpPr>
            <p:spPr>
              <a:xfrm>
                <a:off x="8253360" y="778320"/>
                <a:ext cx="368640" cy="381240"/>
              </a:xfrm>
              <a:custGeom>
                <a:avLst/>
                <a:gdLst>
                  <a:gd name="textAreaLeft" fmla="*/ 0 w 368640"/>
                  <a:gd name="textAreaRight" fmla="*/ 369000 w 3686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Freeform 70"/>
              <p:cNvSpPr/>
              <p:nvPr/>
            </p:nvSpPr>
            <p:spPr>
              <a:xfrm>
                <a:off x="8784720" y="995400"/>
                <a:ext cx="272160" cy="194760"/>
              </a:xfrm>
              <a:custGeom>
                <a:avLst/>
                <a:gdLst>
                  <a:gd name="textAreaLeft" fmla="*/ 0 w 272160"/>
                  <a:gd name="textAreaRight" fmla="*/ 272520 w 2721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3" name="Freeform 71"/>
              <p:cNvSpPr/>
              <p:nvPr/>
            </p:nvSpPr>
            <p:spPr>
              <a:xfrm>
                <a:off x="8607600" y="751320"/>
                <a:ext cx="417240" cy="42696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74" name="Group 72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5" name="Line 73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Line 74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77" name="Picture 80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79000" indent="-2790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85720" indent="-2379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2" marL="864000" indent="-2095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3" marL="106956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4" marL="1275480" indent="-137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5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6" marL="1275480" indent="-137160">
              <a:spcBef>
                <a:spcPts val="751"/>
              </a:spcBef>
              <a:spcAft>
                <a:spcPts val="11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8858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William B. Munier, MD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Director, Center for Quality Improvement and Patient Safety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286"/>
              </a:spcBef>
              <a:spcAft>
                <a:spcPts val="4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Agency for Healthcare Research and Quality</a:t>
            </a:r>
            <a:endParaRPr b="0" lang="en-US" sz="23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176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National Advisory Council for 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Healthcare Research and Quality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312"/>
              </a:spcBef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Comic Sans MS"/>
              </a:rPr>
              <a:t>8 April 2011</a:t>
            </a:r>
            <a:endParaRPr b="0" lang="en-US" sz="25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1788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ealthcare-Associated Infection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d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ir Prevention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fection Types – Major Focus Areas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LABS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AUT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S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VAP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RSA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30120" indent="-330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. difficil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Healthcare Setting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Hospitals (Phase 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mbulatory settings (Phase I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mbulatory surgery cen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SRD faciliti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-3132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utpatient clinics &amp; offic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67200" indent="-36720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ong-term care facilities (Phase III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71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Projects – FY 2010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520" y="17524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ontracts (including IAAs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19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Grant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15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53160" indent="-353160">
              <a:spcBef>
                <a:spcPts val="7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otal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$34 mill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46" name="Straight Arrow Connector 4"/>
          <p:cNvCxnSpPr/>
          <p:nvPr/>
        </p:nvCxnSpPr>
        <p:spPr>
          <a:xfrm>
            <a:off x="2636640" y="2666520"/>
            <a:ext cx="61020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Straight Arrow Connector 5"/>
          <p:cNvCxnSpPr/>
          <p:nvPr/>
        </p:nvCxnSpPr>
        <p:spPr>
          <a:xfrm>
            <a:off x="2636640" y="4114800"/>
            <a:ext cx="61020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llustrative HAI Projec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5998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Assess the value of candidate intervention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51680" indent="-3052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uster randomized trial of hospitals to assess the impact of targeted vs. universal strategies to reduce MRSA in ICU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57840" indent="-3578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Move evidence-based recommendations into health practice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51680" indent="-3052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ationwide implementation of CUSP to reduce CLABSI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tionwide Implementation of CUSP for CLABSI – Interim Rep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120" y="15238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4320" indent="-274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Recruitment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5 State hospital associa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700 hospital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,100 hospital tea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274320" indent="-274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Interim results – 350 hospital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CLABSI rate/1000 central line day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2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seli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576000" indent="-2340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USP for CLABSI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1.1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5945040" y="5105520"/>
            <a:ext cx="10670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75"/>
              </a:spcBef>
              <a:spcAft>
                <a:spcPts val="25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ell MT"/>
              </a:rPr>
              <a:t>}</a:t>
            </a:r>
            <a:endParaRPr b="0" lang="en-US" sz="6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802200" y="548640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35%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54" name="Straight Arrow Connector 5"/>
          <p:cNvCxnSpPr/>
          <p:nvPr/>
        </p:nvCxnSpPr>
        <p:spPr>
          <a:xfrm flipH="1">
            <a:off x="6629040" y="5487840"/>
            <a:ext cx="2160" cy="4579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xpanding the Impact of CUSP Beyond CLABSI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09120" y="23619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5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CAUTI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51"/>
              </a:spcBef>
              <a:spcAft>
                <a:spcPts val="18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SSI/Safe Surgery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CUSP for VAP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cing Forwar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uild on prior-year activities to increase effectiveness of AHRQ’s HAI investment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xpand research projects in high-priority area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404640" indent="-4046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nhance synergy within HHS &amp; with the private sector to strengthen nationwide efforts to reduce HAI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Investmen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39360" y="1752480"/>
            <a:ext cx="431316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9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Next  up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-46512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ter Pronovost, MD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512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HRQ’s partner in reducing HA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1" name="Picture 4" descr="peter_pronovost"/>
          <p:cNvPicPr/>
          <p:nvPr/>
        </p:nvPicPr>
        <p:blipFill>
          <a:blip r:embed="rId1"/>
          <a:stretch/>
        </p:blipFill>
        <p:spPr>
          <a:xfrm>
            <a:off x="5165640" y="1676520"/>
            <a:ext cx="3444840" cy="403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agnitude of the Problem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39360" y="1752480"/>
            <a:ext cx="85806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evious HAI estimates (based on Klevens et al., 2007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71880" indent="-37188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2002 – Hospital onl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.7 million HAI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9,000 death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80840" indent="-3171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~$30 billion in excess healthcare cos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71880" indent="-37188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verall HAI figures to be updated in light of new lower CDC estimates for CLABSI, CAUTI, SSI, and VAP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ew CLABSI Estimate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5238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MWR, March 1, 2011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LABSIs in ICUs:</a:t>
            </a:r>
            <a:endParaRPr b="0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01 – 43,0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99"/>
              </a:spcBef>
              <a:spcAft>
                <a:spcPts val="9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09 – 18,00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estimates for CAUTI, SSI, VAP likewise low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97360" indent="-29736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current overall estimat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any one time, HAIs affect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Aft>
                <a:spcPts val="2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 out of every 20 hospital patien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24600" indent="-253800"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Is are costly, deadly, and largely preventabl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429000" y="2381400"/>
            <a:ext cx="106668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75"/>
              </a:spcBef>
              <a:spcAft>
                <a:spcPts val="25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Bell MT"/>
              </a:rPr>
              <a:t>}</a:t>
            </a:r>
            <a:endParaRPr b="0" lang="en-US" sz="6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4232160" y="28195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8%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cxnSp>
        <p:nvCxnSpPr>
          <p:cNvPr id="124" name="Straight Arrow Connector 9"/>
          <p:cNvCxnSpPr/>
          <p:nvPr/>
        </p:nvCxnSpPr>
        <p:spPr>
          <a:xfrm flipH="1">
            <a:off x="4110840" y="2820960"/>
            <a:ext cx="3960" cy="45792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’s Central Rol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20000"/>
              </a:lnSpc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Promote the wide-scale application of evidence-based approaches to prevent healthcare-associated infections (HAIs)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 National Eff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Participates in coordinated, Department-level activities to reduce HAI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rves on HHS Steering Committee for Prevention of HA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hairs the Committee’s Research Working Group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842040" indent="-45324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acilitates overall HHS evaluation effort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HRQ’s Role in the National Effort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481320" indent="-481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upports research and demonstration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pidemiolog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ection control interventio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82640" indent="-42120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ementation &amp; impac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81320" indent="-48132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upports projects to spread evidence-based methods and proven technique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0720" y="647640"/>
            <a:ext cx="8300880" cy="4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ive Phases of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lational Researc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920" y="1600200"/>
            <a:ext cx="9296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0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discovery of opportunities to address health problems through technologic advances, surveillance, outbreak investigation, and epidemiologic studi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1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move discovery into first application of candidate intervention(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2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assess the value of the candidate interventions, leading to the development of evidence-based recommendati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3 -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ove evidence-based recommendations into health practice, through delivery, dissemination, and diffusion research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4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- evaluate the “real world” health impact of population-level health practice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0" y="6064200"/>
            <a:ext cx="873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baseline="30000">
                <a:solidFill>
                  <a:srgbClr val="b3b3b3"/>
                </a:solidFill>
                <a:latin typeface="Arial"/>
              </a:rPr>
              <a:t>1</a:t>
            </a:r>
            <a:r>
              <a:rPr b="0" i="1" lang="en-US" sz="1200" spc="-1" strike="noStrike">
                <a:solidFill>
                  <a:srgbClr val="b3b3b3"/>
                </a:solidFill>
                <a:latin typeface="Arial"/>
              </a:rPr>
              <a:t>Adapted from: Genet Med 2007:9(10):665-674 and  http://www.iths.org/about/translationa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0" y="3200400"/>
            <a:ext cx="1047600" cy="2744640"/>
          </a:xfrm>
          <a:prstGeom prst="ellipse">
            <a:avLst/>
          </a:prstGeom>
          <a:noFill/>
          <a:ln w="442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ichigan Keystone ICU Projec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9720" y="1752480"/>
            <a:ext cx="8393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2003 - first major HAI project:  $454,000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Led by Dr. Peter Pronovost, JHU, in conjunction with Michigan Hospital Association &amp; Blue Cross/Blue Shield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Enormously successful in reducing CR-BSI in Michigan ICUs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  <a:p>
            <a:pPr marL="344160" indent="-344160">
              <a:spcBef>
                <a:spcPts val="751"/>
              </a:spcBef>
              <a:spcAft>
                <a:spcPts val="11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ased on streamlining CDC protocols, addressing teamwork/human factors, and fostering a culture of safety</a:t>
            </a:r>
            <a:endParaRPr b="0" lang="en-US" sz="3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HRQ HAI Investment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639720" y="1523880"/>
          <a:ext cx="8391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1523880"/>
                    <a:ext cx="8391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Munier</dc:creator>
  <dc:description>Presented at the 3rd Annual Paeient Safety Research Workshop - 16Dec09 - London. Sponsored by WHO and NPSA.</dc:description>
  <cp:keywords/>
  <dc:language>en-US</dc:language>
  <cp:lastModifiedBy>Karen.Brooks</cp:lastModifiedBy>
  <cp:lastPrinted>2003-01-21T20:19:23Z</cp:lastPrinted>
  <dcterms:modified xsi:type="dcterms:W3CDTF">2011-04-08T20:44:30Z</dcterms:modified>
  <cp:revision>829</cp:revision>
  <dc:subject/>
  <dc:title>Implementing Evidence-Based Practices athe the AHRQ Center for Quality Improvement and Patient Safety</dc:title>
</cp:coreProperties>
</file>