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Franklin Gothic Book"/>
            </a:endParaRPr>
          </a:p>
        </p:txBody>
      </p:sp>
      <p:sp>
        <p:nvSpPr>
          <p:cNvPr id="88" name="PlaceHolder 1"/>
          <p:cNvSpPr>
            <a:spLocks noGrp="1"/>
          </p:cNvSpPr>
          <p:nvPr>
            <p:ph type="hdr"/>
          </p:nvPr>
        </p:nvSpPr>
        <p:spPr>
          <a:xfrm>
            <a:off x="0" y="-360"/>
            <a:ext cx="3078000" cy="4698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4022280" y="-360"/>
            <a:ext cx="3078360" cy="46980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203480" y="703440"/>
            <a:ext cx="4695840" cy="3520800"/>
          </a:xfrm>
          <a:prstGeom prst="rect">
            <a:avLst/>
          </a:prstGeom>
          <a:noFill/>
          <a:ln w="9360">
            <a:solidFill>
              <a:srgbClr val="000000"/>
            </a:solidFill>
            <a:miter/>
          </a:ln>
        </p:spPr>
        <p:txBody>
          <a:bodyPr lIns="93240" rIns="9324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1" name="PlaceHolder 4"/>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8916840"/>
            <a:ext cx="3078000" cy="47016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4022280" y="8916840"/>
            <a:ext cx="3078360" cy="47016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8D0F-BFFD-4BEB-894A-4B77446E24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E6BA-F9AA-4E4D-B2E2-F1CAB3EC1013}"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
        <p:nvSpPr>
          <p:cNvPr id="226" name="PlaceHolder 1"/>
          <p:cNvSpPr>
            <a:spLocks noGrp="1"/>
          </p:cNvSpPr>
          <p:nvPr>
            <p:ph type="sldImg"/>
          </p:nvPr>
        </p:nvSpPr>
        <p:spPr>
          <a:xfrm>
            <a:off x="2038320" y="703440"/>
            <a:ext cx="3025800" cy="2268360"/>
          </a:xfrm>
          <a:prstGeom prst="rect">
            <a:avLst/>
          </a:prstGeom>
          <a:ln w="0">
            <a:noFill/>
          </a:ln>
        </p:spPr>
      </p:sp>
      <p:sp>
        <p:nvSpPr>
          <p:cNvPr id="227" name="PlaceHolder 2"/>
          <p:cNvSpPr>
            <a:spLocks noGrp="1"/>
          </p:cNvSpPr>
          <p:nvPr>
            <p:ph type="body"/>
          </p:nvPr>
        </p:nvSpPr>
        <p:spPr>
          <a:xfrm>
            <a:off x="709200" y="3441600"/>
            <a:ext cx="5683320" cy="524376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udy was conducted under the AHRQ technical Assistance to Medicaid and CHIP program which has an overarching goal of ensuring that the populations served by Medicaid reap the benefits of health IT in terms of improved quality of car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pose of this study was to highlight the challenges faced by Medicaid providers or providers who serve significant populations of Medicaid-insured patients as they work to reach meaningful us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going to talk a little about how we designed and conducted the study, a lot about what we learned and then a bit about some of the recommendations made based on what we heard and then we will open it up for discussion.</a:t>
            </a: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3480" y="703440"/>
            <a:ext cx="4695840" cy="3520800"/>
          </a:xfrm>
          <a:prstGeom prst="rect">
            <a:avLst/>
          </a:prstGeom>
          <a:ln w="0">
            <a:noFill/>
          </a:ln>
        </p:spPr>
      </p:sp>
      <p:sp>
        <p:nvSpPr>
          <p:cNvPr id="251"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erms of barriers to participation in the EHR incentiv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ents wanted more information on specific MU objectives and many were confusing the Medicare and Medicaid program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eard a lot of comment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ep by step, how am I supposed to do this?  What declarations do I need to make?  What documents do I need to sign? [I need] details about what the meaningful use requirements are, and honestly I’m not finding that an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ported lack of information from State programs, and wanted to hear from government agency, not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3480" y="703440"/>
            <a:ext cx="4695840" cy="3520800"/>
          </a:xfrm>
          <a:prstGeom prst="rect">
            <a:avLst/>
          </a:prstGeom>
          <a:ln w="0">
            <a:noFill/>
          </a:ln>
        </p:spPr>
      </p:sp>
      <p:sp>
        <p:nvSpPr>
          <p:cNvPr id="253" name="PlaceHolder 2"/>
          <p:cNvSpPr>
            <a:spLocks noGrp="1"/>
          </p:cNvSpPr>
          <p:nvPr>
            <p:ph type="body"/>
          </p:nvPr>
        </p:nvSpPr>
        <p:spPr>
          <a:xfrm>
            <a:off x="709200" y="4381200"/>
            <a:ext cx="5683320" cy="43038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s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s placed a high degree of importance on using a certified product. For those planning to apply for the incentives, certification was seen as critical.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al providers said that they had previously used an EHR that was not certified  and when the vendor did not seek certification., the providers switched to a certified product in order to participate in the Medicaid EHR Incentive Program.   However, they also tended to equate certification with quality or meaning that Certified systems are better.</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oncerns reported  with determining eligibility. Most participants said that they used the practice’s billing or practice management systems or that their management staff tracked that information for them. Other participants estimated or guessed at the total number based on their knowledge of their patient population; a few manually counted the total. “I can run a report,” was a common statement.</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3480" y="703440"/>
            <a:ext cx="4695840" cy="3520800"/>
          </a:xfrm>
          <a:prstGeom prst="rect">
            <a:avLst/>
          </a:prstGeom>
          <a:ln w="0">
            <a:noFill/>
          </a:ln>
        </p:spPr>
      </p:sp>
      <p:sp>
        <p:nvSpPr>
          <p:cNvPr id="255"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mixed reactions to the Medicaid EHR Incentive Program and the degree to which it influenced providers’ decisions to adopt and use an EHR. Some providers, including non-adopters, indicated that their decision was influenced by the Medicaid EHR Incentive Program. Other participants noted that it was a factor in their decision, but not a significant factor, and a third group indicated that it would not influence their decision to adopt an EHR or the way they would use their EH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those who were influenced by the Medicaid EHR Incentive Program, the monetary incentives were central, and improvements to quality or improved patient care were secondar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ithout the incentive money we would have dragged our feet for another several years and waited until better communication existed between exist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non-adopters felt financial incentives not enough to overcome perceived loss in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3480" y="703440"/>
            <a:ext cx="4695840" cy="3520800"/>
          </a:xfrm>
          <a:prstGeom prst="rect">
            <a:avLst/>
          </a:prstGeom>
          <a:ln w="0">
            <a:noFill/>
          </a:ln>
        </p:spPr>
      </p:sp>
      <p:sp>
        <p:nvSpPr>
          <p:cNvPr id="257"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cipants who belonged to larger practices did not have a lot of input into the selection of the EHR they were using. However, participants who were solo practitioners or were the lead for their practice did play a role in the selection of their EHR, and most of these providers commented that the main criteria for selection of an EHR were cost, usability, and high quality technical suppor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respondents had not heard of RECs, so did not use them as a resource in EHR selectio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RECs mentioned, comments were positiv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e made the decision but I think [REC] helped us at least with the narrowing process…it’s been really, really helpful.  I think it would have been difficult without [RE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568520" y="703440"/>
            <a:ext cx="3965400" cy="2974680"/>
          </a:xfrm>
          <a:prstGeom prst="rect">
            <a:avLst/>
          </a:prstGeom>
          <a:ln w="0">
            <a:noFill/>
          </a:ln>
        </p:spPr>
      </p:sp>
      <p:sp>
        <p:nvSpPr>
          <p:cNvPr id="259" name="PlaceHolder 2"/>
          <p:cNvSpPr>
            <a:spLocks noGrp="1"/>
          </p:cNvSpPr>
          <p:nvPr>
            <p:ph type="body"/>
          </p:nvPr>
        </p:nvSpPr>
        <p:spPr>
          <a:xfrm>
            <a:off x="709200" y="3833280"/>
            <a:ext cx="5683320" cy="485172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adopters tended to perceive more benefits than risks when it comes to using an EHR and many of their expectations are in sharp contrast to the experiences recounted by a number of the EHR adopters who participated in this stud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sked about what expectations they had for adopting and using an EHR, a number of non-adopters indicated that they thought it would save time by streamlining their file management and improving their efficiency and the care of their patients. Specifically, participants noted that they expected to realize some efficiency because charting could be done in real time rather than performing charting activities at the end of the day. In addition, some participants expected to be able to see more patients because the documentation would be simpler and require less writi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said, some non adopters did express concerns about the potential to slow their work flow resulting in their seeing fewer patients.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646280" y="547560"/>
            <a:ext cx="3652920" cy="2738520"/>
          </a:xfrm>
          <a:prstGeom prst="rect">
            <a:avLst/>
          </a:prstGeom>
          <a:ln w="0">
            <a:noFill/>
          </a:ln>
        </p:spPr>
      </p:sp>
      <p:sp>
        <p:nvSpPr>
          <p:cNvPr id="261" name="PlaceHolder 2"/>
          <p:cNvSpPr>
            <a:spLocks noGrp="1"/>
          </p:cNvSpPr>
          <p:nvPr>
            <p:ph type="body"/>
          </p:nvPr>
        </p:nvSpPr>
        <p:spPr>
          <a:xfrm>
            <a:off x="709200" y="3363840"/>
            <a:ext cx="5683320" cy="56340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s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ther the transition is from paper to EHR or from one EHR to another, the challenges were primarily related to—time and mone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paper to EHR_here’s a quote from a small practi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t’s been a miserable transition. We’re still not there. It still feels like more work than with our paper charts. We’re still seeing many patients who are not in the EMR yet, so we’re faced actually with two systems. We’re dragging around paper charts and trying to … bring that information into the new record. I don’t have labs and radiology yet, so it seems redundant and I still have a paper record and … an EMR. It’s just me and a PA and of course it’s hit our productivity and so financially it’s been quite a difficult quarter, two quarters. The financial impact of the Internet capabilities that we had to bring in, hardware, training, loss of productivity, it’s been not economically friendly y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ing from one EHR to another participants cited challenges in getting their files loaded into the new system—there were some comments that vendors don’t make it easy to move the data from one system to anoth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didn’t have enough data to speak to specific vendor comparison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568520" y="547560"/>
            <a:ext cx="3965400" cy="2973600"/>
          </a:xfrm>
          <a:prstGeom prst="rect">
            <a:avLst/>
          </a:prstGeom>
          <a:ln w="0">
            <a:noFill/>
          </a:ln>
        </p:spPr>
      </p:sp>
      <p:sp>
        <p:nvSpPr>
          <p:cNvPr id="263" name="PlaceHolder 2"/>
          <p:cNvSpPr>
            <a:spLocks noGrp="1"/>
          </p:cNvSpPr>
          <p:nvPr>
            <p:ph type="body"/>
          </p:nvPr>
        </p:nvSpPr>
        <p:spPr>
          <a:xfrm>
            <a:off x="709200" y="3833280"/>
            <a:ext cx="5683320" cy="48517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HR adopters, like non-adopters, discussed startup investment costs but they tended to focus primarily on downstream co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centered on the unexpected fees for licensing, maintenance and technical assistance that they have incurred and the reduced productivity that they have experien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also concerns about the need to pay for equipment breakdown and replacement and added fees for additional functions. A number of participants commented that they believed that once they get the system to function where they feel they will be productive again, they will be faced with another requirement that will add co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articipants noted that there were additional unexpected costs associated with the integration of existing systems even if they are from the same ven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rn about stability of EHR market – a couple of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choose certain software vendors, how long will they be in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e really scary thought I had the other day that I had never considered, was what would happen if this company went under? What would happen to all my records,?  Would someone buy them out? That was a really scary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622520" y="547560"/>
            <a:ext cx="3857400" cy="2894040"/>
          </a:xfrm>
          <a:prstGeom prst="rect">
            <a:avLst/>
          </a:prstGeom>
          <a:ln w="0">
            <a:noFill/>
          </a:ln>
        </p:spPr>
      </p:sp>
      <p:sp>
        <p:nvSpPr>
          <p:cNvPr id="265" name="PlaceHolder 2"/>
          <p:cNvSpPr>
            <a:spLocks noGrp="1"/>
          </p:cNvSpPr>
          <p:nvPr>
            <p:ph type="body"/>
          </p:nvPr>
        </p:nvSpPr>
        <p:spPr>
          <a:xfrm>
            <a:off x="709200" y="3598560"/>
            <a:ext cx="5683320" cy="508644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specific discussions regarding the concerns about overall potential data loss. These discussions ranged from temporary access issues such as when the servers or the internet goes down, to power outages and flooding, to technical issues such as overwriting data or ghost cases to actual hardware crashes. These concerns were as prominent among urban as rural providers. Many providers talked about having backup paper charts with cursory information for when things go awry. Others do not keep backup paper and commented that “sometimes things don’t go right but that is rare and it requires a bit of flexibility on the part of the practic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 of clinical documentation was one of those issues which raised BPs a bit. EHR adopters and non-adopters expressed concerns regarding the experience of entering data into the EHR and the quality of clinical documentation produced by EHRs and some unique challenges to both entering data and using the clinical documentation from an EH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commonly agreed upon challenge is related to the ease with which extraneous information is included and then promulgated throughout the record via cutting or copying and pasting functions creating records with a large amount of irrelevant information that creates a challenge to reviewing vital information regarding a patient. Providers commented that this can be merely annoying and time consuming to potentially becoming a safety issu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3480" y="703440"/>
            <a:ext cx="4695840" cy="3520800"/>
          </a:xfrm>
          <a:prstGeom prst="rect">
            <a:avLst/>
          </a:prstGeom>
          <a:ln w="0">
            <a:noFill/>
          </a:ln>
        </p:spPr>
      </p:sp>
      <p:sp>
        <p:nvSpPr>
          <p:cNvPr id="267"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a lot of concerns about the lack of interoperability among various systems both within and among various specialty practices, laboratories, pharmacies and emergency depart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clearly a sense that having an EHR that cannot transmit or receive information is not accomplishing the intended objectives of improving quality and reducing costs. They were also concerned about the difficulty integrating scanned information into an EHR system. Finally, they expressed a feeling of being ‘overwhelmed’ by the sheer number of connections to be made to achieve the vision of widespread health information exchange.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3480" y="703440"/>
            <a:ext cx="4695840" cy="3520800"/>
          </a:xfrm>
          <a:prstGeom prst="rect">
            <a:avLst/>
          </a:prstGeom>
          <a:ln w="0">
            <a:noFill/>
          </a:ln>
        </p:spPr>
      </p:sp>
      <p:sp>
        <p:nvSpPr>
          <p:cNvPr id="269" name="PlaceHolder 2"/>
          <p:cNvSpPr>
            <a:spLocks noGrp="1"/>
          </p:cNvSpPr>
          <p:nvPr>
            <p:ph type="body"/>
          </p:nvPr>
        </p:nvSpPr>
        <p:spPr>
          <a:xfrm>
            <a:off x="709200" y="4460400"/>
            <a:ext cx="568332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AB86-21F3-4C0F-BB0A-82165C1F3435}"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3480" y="703440"/>
            <a:ext cx="4695840" cy="3520800"/>
          </a:xfrm>
          <a:prstGeom prst="rect">
            <a:avLst/>
          </a:prstGeom>
          <a:ln w="0">
            <a:noFill/>
          </a:ln>
        </p:spPr>
      </p:sp>
      <p:sp>
        <p:nvSpPr>
          <p:cNvPr id="229"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3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D0DC-2F54-4962-8768-6D62C38BF567}"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03480" y="703440"/>
            <a:ext cx="4695840" cy="3520800"/>
          </a:xfrm>
          <a:prstGeom prst="rect">
            <a:avLst/>
          </a:prstGeom>
          <a:ln w="0">
            <a:noFill/>
          </a:ln>
        </p:spPr>
      </p:sp>
      <p:sp>
        <p:nvSpPr>
          <p:cNvPr id="272" name="PlaceHolder 2"/>
          <p:cNvSpPr>
            <a:spLocks noGrp="1"/>
          </p:cNvSpPr>
          <p:nvPr>
            <p:ph type="body"/>
          </p:nvPr>
        </p:nvSpPr>
        <p:spPr>
          <a:xfrm>
            <a:off x="709200" y="4381200"/>
            <a:ext cx="5683320" cy="43038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rs did comment that they sometimes create “work arounds” for some specific functions that are not easy to use or do not provide the necessary functionality. Sometimes the work arounds are done in the system and sometimes they are accomplished with paper supplements to the EH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nearly every group of HER users,  participants said that  using the EHR resulted in taking more time to complete clinical documentation in patient char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rovider types except dentists mentioned the increased burden of documenting clinical information in EHRs. Participants frequently mentioned that they spent time late in the evenings or over the weekend to finish entering in patient data into their EHR system. Some participants expressed frustration that this took away from the time they had to provide clinical care. </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03480" y="703440"/>
            <a:ext cx="4695840" cy="3520800"/>
          </a:xfrm>
          <a:prstGeom prst="rect">
            <a:avLst/>
          </a:prstGeom>
          <a:ln w="0">
            <a:noFill/>
          </a:ln>
        </p:spPr>
      </p:sp>
      <p:sp>
        <p:nvSpPr>
          <p:cNvPr id="274"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umber of participants reported that using the EHR caused changes in their routines that added time to the process and in some cases contributed to feeling somewhat less confident in their ability to interact with patients in a meaningful way.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03480" y="703440"/>
            <a:ext cx="4695840" cy="3520800"/>
          </a:xfrm>
          <a:prstGeom prst="rect">
            <a:avLst/>
          </a:prstGeom>
          <a:ln w="0">
            <a:noFill/>
          </a:ln>
        </p:spPr>
      </p:sp>
      <p:sp>
        <p:nvSpPr>
          <p:cNvPr id="276" name="PlaceHolder 2"/>
          <p:cNvSpPr>
            <a:spLocks noGrp="1"/>
          </p:cNvSpPr>
          <p:nvPr>
            <p:ph type="body"/>
          </p:nvPr>
        </p:nvSpPr>
        <p:spPr>
          <a:xfrm>
            <a:off x="709200" y="4460400"/>
            <a:ext cx="568332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AA1B-AE84-40E1-950F-A80BE969AB4E}"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03480" y="703440"/>
            <a:ext cx="4695840" cy="3520800"/>
          </a:xfrm>
          <a:prstGeom prst="rect">
            <a:avLst/>
          </a:prstGeom>
          <a:ln w="0">
            <a:noFill/>
          </a:ln>
        </p:spPr>
      </p:sp>
      <p:sp>
        <p:nvSpPr>
          <p:cNvPr id="279"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7 out of the 12 focus groups with EHR adopters, participants mentioned that their use of EHRs negatively affected the way they interacted with patients in the exam room. There were no dentists, physician assistants, or certified nurse midwives that reported this, but the sentiment was common among physicians and nurse practitioners. Only one participant mentioned that using their EHR in a tablet format enhanced their ability to communicate with patients, by being able to show blood pressure readings or laboratory results over time. On the whole, this issue was raised consistently as a concern about implementing EHRs, both from adopters and by several non-adopters.</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517760" y="703440"/>
            <a:ext cx="4066920" cy="3051000"/>
          </a:xfrm>
          <a:prstGeom prst="rect">
            <a:avLst/>
          </a:prstGeom>
          <a:ln w="0">
            <a:noFill/>
          </a:ln>
        </p:spPr>
      </p:sp>
      <p:sp>
        <p:nvSpPr>
          <p:cNvPr id="281" name="PlaceHolder 2"/>
          <p:cNvSpPr>
            <a:spLocks noGrp="1"/>
          </p:cNvSpPr>
          <p:nvPr>
            <p:ph type="body"/>
          </p:nvPr>
        </p:nvSpPr>
        <p:spPr>
          <a:xfrm>
            <a:off x="709200" y="3911760"/>
            <a:ext cx="5683320" cy="4773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sked whether they faced certain challenges in implementing EHRs or specific EHR functions because of characteristics of their patient population, some participants noted a few key issues. Difficulties in following up with patients because their phone numbers frequently changed or phone s  were out of service create a barrier to sending reminders for follow-up appointments). A few participants said their patients would have access issues to the Internet and a few others mentioned language barriers, or computer literacy of older adults, as a barrier to patient engagement activities such as benefiting from patient-specific education or using a patient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other participants noted that these issues of moving frequently, changing phone numbers, Internet access, or identifying pharmacies that accept electronic prescriptions are issues that would apply to patients insured by Medicaid and private payers alike. Thus, these potential barriers to implementing EHRs may not be specific to providers eligible for the Medicaid EHR Incentive Program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cerns are relevant to this study because they are concerns that affect pediatricians, who are only eligible for the Medicaid EHR Incentive Program. For example, some pediatricians were concerned about whether computer equipment could be left in an exam room where small children were waiting, or whether adolescents should have sole access to their electronic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3480" y="703440"/>
            <a:ext cx="4695840" cy="3520800"/>
          </a:xfrm>
          <a:prstGeom prst="rect">
            <a:avLst/>
          </a:prstGeom>
          <a:ln w="0">
            <a:noFill/>
          </a:ln>
        </p:spPr>
      </p:sp>
      <p:sp>
        <p:nvSpPr>
          <p:cNvPr id="283"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participants, across the groups of EHR adopters, expressed both positive and negative opinions about structured data – often in the same breath. There were slightly more negative comments from physicians, and slightly more positive comments from dentists, physician assistants, and the certified nurse midwife. However, the people with positive comments often were the same that had negative comme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erms of medication and medication allergies, I think that’s really important to put that into the structured data because that’s where you get the medication interaction lis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ometimes if you’re looking for a particular diagnosis, they have 30 diagnoses related to that diagnosis, and you have to go through it all to find the one that fits you.”</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59000" y="703440"/>
            <a:ext cx="4384440" cy="3287520"/>
          </a:xfrm>
          <a:prstGeom prst="rect">
            <a:avLst/>
          </a:prstGeom>
          <a:ln w="0">
            <a:noFill/>
          </a:ln>
        </p:spPr>
      </p:sp>
      <p:sp>
        <p:nvSpPr>
          <p:cNvPr id="285" name="PlaceHolder 2"/>
          <p:cNvSpPr>
            <a:spLocks noGrp="1"/>
          </p:cNvSpPr>
          <p:nvPr>
            <p:ph type="body"/>
          </p:nvPr>
        </p:nvSpPr>
        <p:spPr>
          <a:xfrm>
            <a:off x="709200" y="4381200"/>
            <a:ext cx="5683320" cy="43038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ked about their ability to exchange information. The most frequently reported electronic interface that EHR adopters had was with laboratories (to both send orders and receive reports), followed by some reported interfaces to receive radiology reports and, among some providers in private practice, the ability to receive information from hospital system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many participants did report that they were able to incorporate electronic data from laboratories into their EHR more participants expressed frustration at the expense of creating interfaces between their EHRs and laboratories that would allow that type of exchan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rs in private practice were among those who cited this interface as cost prohibitive. Additionally, even participants with interfaces with laboratories reported some problems like not being able to order lab tests all the time, or only being able to order from a limited set of labs.</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463760" y="703440"/>
            <a:ext cx="4174920" cy="3130200"/>
          </a:xfrm>
          <a:prstGeom prst="rect">
            <a:avLst/>
          </a:prstGeom>
          <a:ln w="0">
            <a:noFill/>
          </a:ln>
        </p:spPr>
      </p:sp>
      <p:sp>
        <p:nvSpPr>
          <p:cNvPr id="287" name="PlaceHolder 2"/>
          <p:cNvSpPr>
            <a:spLocks noGrp="1"/>
          </p:cNvSpPr>
          <p:nvPr>
            <p:ph type="body"/>
          </p:nvPr>
        </p:nvSpPr>
        <p:spPr>
          <a:xfrm>
            <a:off x="709200" y="3990960"/>
            <a:ext cx="5683320" cy="46944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 ask the EHR adopters about the frequency with which they used a variety of EHR functions organized according to whether they are part of the Stage 1 MU core set or Stage 1 menu set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ity of respondents reported use of many Stage 1 MU objectives, with some reported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st frequently used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measures: clinical decision support, providing e-copy of health info on request, providing clinical summ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here included some confusion over what the term “clinical decision support” meant. A few participants noted that they found the alerts built into their EHR to be a very helpful and positive feature. Others noted their dislike of alerts that were not relevant to the care they were providing at the time. However, more participants seemed unaware of the ability of their EHR to provide CDS tools other than drug or allergy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with providing clinical summaries was largely the ability to complete the documentation in time—many complete it at end of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u measures not frequently used include drug formulary checks, lab test results as structured data, patient-specific educational materials, medication reconciliation, patient reminders, giving patients electronic access to health inform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3480" y="703440"/>
            <a:ext cx="4695840" cy="3520800"/>
          </a:xfrm>
          <a:prstGeom prst="rect">
            <a:avLst/>
          </a:prstGeom>
          <a:ln w="0">
            <a:noFill/>
          </a:ln>
        </p:spPr>
      </p:sp>
      <p:sp>
        <p:nvSpPr>
          <p:cNvPr id="289" name="PlaceHolder 2"/>
          <p:cNvSpPr>
            <a:spLocks noGrp="1"/>
          </p:cNvSpPr>
          <p:nvPr>
            <p:ph type="body"/>
          </p:nvPr>
        </p:nvSpPr>
        <p:spPr>
          <a:xfrm>
            <a:off x="709200" y="4460400"/>
            <a:ext cx="568332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3300-2CDB-447B-8801-8A2E7B6AF657}"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3480" y="703440"/>
            <a:ext cx="4695840" cy="3520800"/>
          </a:xfrm>
          <a:prstGeom prst="rect">
            <a:avLst/>
          </a:prstGeom>
          <a:ln w="0">
            <a:noFill/>
          </a:ln>
        </p:spPr>
      </p:sp>
      <p:sp>
        <p:nvSpPr>
          <p:cNvPr id="292"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ity of participants had not heard of the Regional Extension Centers (RECs). There was also some confusion over what organization might be the REC in a given State. For example, one respondent erroneously thought that a Regional Health Information Organization (RHIO) in her State was the REC. When the RECs were described, participants responded positively to the concept with comments such as “As far as we know, we don’t have a Regional Extension Center in our area but I would like one,” but questioned why the RECs had not publicized their services.</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3480" y="703440"/>
            <a:ext cx="4695840" cy="3520800"/>
          </a:xfrm>
          <a:prstGeom prst="rect">
            <a:avLst/>
          </a:prstGeom>
          <a:ln w="0">
            <a:noFill/>
          </a:ln>
        </p:spPr>
      </p:sp>
      <p:sp>
        <p:nvSpPr>
          <p:cNvPr id="232"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463760" y="703440"/>
            <a:ext cx="4174920" cy="3130200"/>
          </a:xfrm>
          <a:prstGeom prst="rect">
            <a:avLst/>
          </a:prstGeom>
          <a:ln w="0">
            <a:noFill/>
          </a:ln>
        </p:spPr>
      </p:sp>
      <p:sp>
        <p:nvSpPr>
          <p:cNvPr id="294" name="PlaceHolder 2"/>
          <p:cNvSpPr>
            <a:spLocks noGrp="1"/>
          </p:cNvSpPr>
          <p:nvPr>
            <p:ph type="body"/>
          </p:nvPr>
        </p:nvSpPr>
        <p:spPr>
          <a:xfrm>
            <a:off x="709200" y="3990960"/>
            <a:ext cx="5683320" cy="46944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features specific to the Medicaid EHR Incentive Program is that it applies to many different types of providers, most of whom are represented in this study. Our main finding is that there were very similar barriers to using EHRs for MU cited by all types of providers; however, there were some notable differences for dentists, pediatricians, and midw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tists mentioned the lack of certified EHR products. Although there are many dental EHRs available, few are certified. Dentists also commented that help was not available to them and that not all of the meaningful use objectives, such as those related to immunizations, were relevant to d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iatricians, obstetricians, gynecologists, and nurse midwives find some objectives irrelevant to their practice. Children generally have far fewer lab tests, medications, and chronic conditions than adult patients. Pediatricians also noted that taking blood pressures in two year olds was challenging to do and not in alignment with recommendations from the American Academy of Pediatrics which recommends taking blood pressure starting at age three. Some types of structured data, such as medication doses and weights, were not appropriate for pediatric patients. Some EHRs only allow weights to be recorded in pounds and do not allow for ounces, which is an important degree of accuracy for infants, particularly premature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A80C-C224-4972-BFF9-5DAADF10BB8C}"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03480" y="703440"/>
            <a:ext cx="4695840" cy="3520800"/>
          </a:xfrm>
          <a:prstGeom prst="rect">
            <a:avLst/>
          </a:prstGeom>
          <a:ln w="0">
            <a:noFill/>
          </a:ln>
        </p:spPr>
      </p:sp>
      <p:sp>
        <p:nvSpPr>
          <p:cNvPr id="297"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lot more in the report and I encourage folks to read it when it is relea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did make a couple of recommendations for some assistance for these provider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direct communication about the requirements of the Medicaid EHR Incentive Program.   Mention state professional associations and fiscal intermediaries as potential alternative channels.</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int them to existing recommended resources.  No need to duplicate the work being done but rather point them to the information and services they need.</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ion resource book of Health Centered Controlled Networ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3DC6-2874-4623-B655-8BECDDDD603E}"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03480" y="703440"/>
            <a:ext cx="4695840" cy="3520800"/>
          </a:xfrm>
          <a:prstGeom prst="rect">
            <a:avLst/>
          </a:prstGeom>
          <a:ln w="0">
            <a:noFill/>
          </a:ln>
        </p:spPr>
      </p:sp>
      <p:sp>
        <p:nvSpPr>
          <p:cNvPr id="300"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hani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lot more in the report and I encourage folks to read it when it is relea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did make a couple of recommendations for some assistance for these provider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te on behalf of the providers for State HIE services, such as creating interfaces with laboratories and radiology facilitie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e identification of business process improvements to help increase reimbursements as well as cost containment strategies to help reduce ongoing cos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9439-D11B-4724-AB28-60DCFC78B9C9}"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038320" y="703440"/>
            <a:ext cx="3025800" cy="2268360"/>
          </a:xfrm>
          <a:prstGeom prst="rect">
            <a:avLst/>
          </a:prstGeom>
          <a:ln w="0">
            <a:noFill/>
          </a:ln>
        </p:spPr>
      </p:sp>
      <p:sp>
        <p:nvSpPr>
          <p:cNvPr id="303" name="PlaceHolder 2"/>
          <p:cNvSpPr>
            <a:spLocks noGrp="1"/>
          </p:cNvSpPr>
          <p:nvPr>
            <p:ph type="body"/>
          </p:nvPr>
        </p:nvSpPr>
        <p:spPr>
          <a:xfrm>
            <a:off x="709200" y="3050640"/>
            <a:ext cx="5683320" cy="5712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implement more targeted &amp; coordinated technical assistance tools, methods and processes for Medicaid prov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 need to duplicate existing services but rather pointing providers to source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 with EHR selection process, including explanation of EHR c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 on EHR capabilities and ways to optimize use in practi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fundamental aspects of changing provider workflow and implementing an EHR that must be addressed through additional technical assistance. The highest priority areas for increased training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Basic computer skills for providers who are not comfortable working with computers, or alternative suggestions for electronic documentation, such as how to work with scribes or dict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fficient charting techniques that can help avoid the need to write on paper and complete electronic documentation after-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reased skills in maintaining positive patient-provider interactions while using an EHR in the exam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ffective use of templates that enhance clinical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 assistance to optimize workflow, office set-up, and patient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3B47-6764-4648-8C19-159E301255A0}"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517760" y="703440"/>
            <a:ext cx="4066920" cy="3051000"/>
          </a:xfrm>
          <a:prstGeom prst="rect">
            <a:avLst/>
          </a:prstGeom>
          <a:ln w="0">
            <a:noFill/>
          </a:ln>
        </p:spPr>
      </p:sp>
      <p:sp>
        <p:nvSpPr>
          <p:cNvPr id="306"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e planning for Stage 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posed Stage 2 MU objectives will be focused on using EHRs to improve quality. So, it is not too early for Medicaid agencies, RECs, vendors, State HIE entities, and others who are interested in promoting EHR use among Medicaid providers to highlight ways in which EHRs can help improve quality, especially for the Medicaid population. This is especially important given the challenges with specific EHR functions and areas of concern that focus group participants reported. Based on the proposed goals for MU Stage 2, the following processes should be considered a prior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mplementing clinical decision support ru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corporating laboratory results as structured da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Establishing online access for patients to view their health information, and encouraging their use of such a fe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roviding clinical summari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2A75-3BD2-412F-A586-5625E5A93AC4}"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03480" y="703440"/>
            <a:ext cx="4695840" cy="3520800"/>
          </a:xfrm>
          <a:prstGeom prst="rect">
            <a:avLst/>
          </a:prstGeom>
          <a:ln w="0">
            <a:noFill/>
          </a:ln>
        </p:spPr>
      </p:sp>
      <p:sp>
        <p:nvSpPr>
          <p:cNvPr id="309"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we see the need for both a near term and a long term research agenda that addresses the sociocultural, sociotechnical and training/TA needs of Medicaid and other provid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lly we need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better ways to help providers “fit” systems to their practice needs and work flow</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better ways to match TA (from RECs and others) to practice nee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best practices related to document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current system utilization “work-arounds” to inform technology and/or work flow redesign specifically those that may impact patient safety.</a:t>
            </a:r>
            <a:endParaRPr b="0" lang="en-US" sz="1400" spc="-1" strike="noStrike">
              <a:solidFill>
                <a:srgbClr val="000000"/>
              </a:solidFill>
              <a:latin typeface="Arial"/>
            </a:endParaRPr>
          </a:p>
        </p:txBody>
      </p:sp>
      <p:sp>
        <p:nvSpPr>
          <p:cNvPr id="31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9BB1-2B5F-42B3-87EB-3710C80E79A0}"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03480" y="703440"/>
            <a:ext cx="4695840" cy="3520800"/>
          </a:xfrm>
          <a:prstGeom prst="rect">
            <a:avLst/>
          </a:prstGeom>
          <a:ln w="0">
            <a:noFill/>
          </a:ln>
        </p:spPr>
      </p:sp>
      <p:sp>
        <p:nvSpPr>
          <p:cNvPr id="312" name="PlaceHolder 2"/>
          <p:cNvSpPr>
            <a:spLocks noGrp="1"/>
          </p:cNvSpPr>
          <p:nvPr>
            <p:ph type="body"/>
          </p:nvPr>
        </p:nvSpPr>
        <p:spPr>
          <a:xfrm>
            <a:off x="709200" y="4460400"/>
            <a:ext cx="568332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0630-8C2B-40FE-A1A3-2BA82F5806F9}"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03480" y="703440"/>
            <a:ext cx="4695840" cy="3520800"/>
          </a:xfrm>
          <a:prstGeom prst="rect">
            <a:avLst/>
          </a:prstGeom>
          <a:ln w="0">
            <a:noFill/>
          </a:ln>
        </p:spPr>
      </p:sp>
      <p:sp>
        <p:nvSpPr>
          <p:cNvPr id="315"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h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3480" y="703440"/>
            <a:ext cx="4695840" cy="3520800"/>
          </a:xfrm>
          <a:prstGeom prst="rect">
            <a:avLst/>
          </a:prstGeom>
          <a:ln w="0">
            <a:noFill/>
          </a:ln>
        </p:spPr>
      </p:sp>
      <p:sp>
        <p:nvSpPr>
          <p:cNvPr id="234"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ltimately, a total of 68 individuals participated in the focus groups (Table 5-1). In order to better understand what issues might impact adoption and usage of EHRs, we categorized participants by type of provider, size of practice, and their status with regards to EHR adoption (adopted, not adopted but planned to, not adopted with no plans to adopt). Since eligibility for the Medicaid EHR Incentive Program varies slightly for pediatricians, we separated them from other practitioners who see adults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articipants (69%) were physicians, while 22% were nurse practitioners, certified nurse midwives, and physician assistants, and 9% were dentists. With regard to practice type, nearly all (93%) participants practice in small practices, with fewer than 10 physicians. Only four respondents were employees of FQHCs or Rural Health Centers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Cs). The majority of participants either use EHRs or plan to adopt EHRs, with a small minority (10%) responding that they have no plans to adopt an EH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from nine States participated in the focus groups. The most frequently represented States were Arizona, Louisiana, and New York. A significant majority (81%) of providers were from urban areas. </a:t>
            </a:r>
            <a:endParaRPr b="0" lang="en-US" sz="1200" spc="-1" strike="noStrike">
              <a:solidFill>
                <a:srgbClr val="000000"/>
              </a:solidFill>
              <a:latin typeface="Arial"/>
            </a:endParaRPr>
          </a:p>
        </p:txBody>
      </p:sp>
      <p:sp>
        <p:nvSpPr>
          <p:cNvPr id="23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CCB3-EFEC-4095-8F18-A040F6B76119}"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882800" y="782640"/>
            <a:ext cx="3336840" cy="2503440"/>
          </a:xfrm>
          <a:prstGeom prst="rect">
            <a:avLst/>
          </a:prstGeom>
          <a:ln w="0">
            <a:noFill/>
          </a:ln>
        </p:spPr>
      </p:sp>
      <p:sp>
        <p:nvSpPr>
          <p:cNvPr id="237" name="PlaceHolder 2"/>
          <p:cNvSpPr>
            <a:spLocks noGrp="1"/>
          </p:cNvSpPr>
          <p:nvPr>
            <p:ph type="body"/>
          </p:nvPr>
        </p:nvSpPr>
        <p:spPr>
          <a:xfrm>
            <a:off x="709200" y="3363840"/>
            <a:ext cx="5683320" cy="532152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earch questions for this study were motivated by a conceptual model that considers the health care market context and practice factors that may influence providers who serve significant proportions of Medicaid-insured beneficiaries, as potential factors that could influence EHR adoption, implementation, upgrade, or meaningful use of EHRs. Research questions generally focused on 3 areas:</a:t>
            </a:r>
            <a:r>
              <a:rPr b="1" lang="en-US" sz="1400" spc="-1" strike="noStrike">
                <a:solidFill>
                  <a:srgbClr val="000000"/>
                </a:solidFill>
                <a:latin typeface="Arial"/>
              </a:rPr>
              <a:t> Barriers to participation in the Medicaid EHR Incentive Program</a:t>
            </a:r>
            <a:r>
              <a:rPr b="0" lang="en-US" sz="1400" spc="-1" strike="noStrike">
                <a:solidFill>
                  <a:srgbClr val="000000"/>
                </a:solidFill>
                <a:latin typeface="Arial"/>
              </a:rPr>
              <a:t>; </a:t>
            </a:r>
            <a:r>
              <a:rPr b="1" lang="en-US" sz="1400" spc="-1" strike="noStrike">
                <a:solidFill>
                  <a:srgbClr val="000000"/>
                </a:solidFill>
                <a:latin typeface="Arial"/>
              </a:rPr>
              <a:t>barriers to adopting, implementing, or upgrading EHRs;</a:t>
            </a:r>
            <a:r>
              <a:rPr b="0" lang="en-US" sz="1400" spc="-1" strike="noStrike">
                <a:solidFill>
                  <a:srgbClr val="000000"/>
                </a:solidFill>
                <a:latin typeface="Arial"/>
              </a:rPr>
              <a:t> and </a:t>
            </a:r>
            <a:r>
              <a:rPr b="1" lang="en-US" sz="1400" spc="-1" strike="noStrike">
                <a:solidFill>
                  <a:srgbClr val="000000"/>
                </a:solidFill>
                <a:latin typeface="Arial"/>
              </a:rPr>
              <a:t>barriers to achieving meaningful use</a:t>
            </a:r>
            <a:r>
              <a:rPr b="0" lang="en-US" sz="1400" spc="-1" strike="noStrike">
                <a:solidFill>
                  <a:srgbClr val="000000"/>
                </a:solidFill>
                <a:latin typeface="Arial"/>
              </a:rPr>
              <a:t>. Understanding these barriers is necessary to ensuring that minorities and other underserved communities do not face disparities in health care delivery due to lack of health IT resour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riers to participation in the Medicaid EHR Incentiv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What barriers do Medicaid providers anticipate in applying for the EHR incentive program in their States? (For example, are there difficulties in determining whether they serve a sufficient proportion of Medicaid beneficiaries to be eligibl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Has the existence of the incentive program affected provider’s decisions about adopting, implementing, upgrading or using EHRs, and if so, how?</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D20B-7FB3-4A1F-BCBF-B78C843BFBF5}"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03480" y="703440"/>
            <a:ext cx="4695840" cy="3520800"/>
          </a:xfrm>
          <a:prstGeom prst="rect">
            <a:avLst/>
          </a:prstGeom>
          <a:ln w="0">
            <a:noFill/>
          </a:ln>
        </p:spPr>
      </p:sp>
      <p:sp>
        <p:nvSpPr>
          <p:cNvPr id="240"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riers to adoption, implementation, or upgrading EH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What barriers do Medicaid providers anticipate in selecting or upgrading to an EHR that is certifi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What influence does the ability to exchange clinical information with other health care providers have on their motivation to adopt and use EH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Has participation with a local REC or HCCN mitigated any of the challenges EPs face in adopting, implementing, upgrading or using an EH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What difficulties are anticipated in transitioning from a non-certified EHR system to a certified syst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C130-36F0-4997-83E7-962AA65EB88B}"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3480" y="703440"/>
            <a:ext cx="4695840" cy="3520800"/>
          </a:xfrm>
          <a:prstGeom prst="rect">
            <a:avLst/>
          </a:prstGeom>
          <a:ln w="0">
            <a:noFill/>
          </a:ln>
        </p:spPr>
      </p:sp>
      <p:sp>
        <p:nvSpPr>
          <p:cNvPr id="243"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riers to achieving Meaningful U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Do challenges in meeting the meaningful use objectives vary by practitioner typ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Are providers experiencing any difficulty in understanding the objectives that creates a barrier to meeting meaningful u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What specific EHR functions pose challenges to providers? In what 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What barriers to creating structured data in EHRs exi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What, if any, barriers are unique to Medicaid provid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3783-A039-4F60-A6D8-ED98DABAFF63}"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03480" y="703440"/>
            <a:ext cx="4695840" cy="3520800"/>
          </a:xfrm>
          <a:prstGeom prst="rect">
            <a:avLst/>
          </a:prstGeom>
          <a:ln w="0">
            <a:noFill/>
          </a:ln>
        </p:spPr>
      </p:sp>
      <p:sp>
        <p:nvSpPr>
          <p:cNvPr id="246"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nswer these questions, we conducted a series of 17 focus groups in early 2012 that included 68 individuals from a variety of professionals eligible for the Medicaid EHR Incentive Program (adult medicine physicians, pediatricians, nurse practitioners, physician assistants, certified nurse midwives, and dentist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focus groups were conducted in-person, while 14 focus groups were conducted via Web conference. Twelve groups of EHR adopters and 5 groups of non-adopters were conducte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03480" y="703440"/>
            <a:ext cx="4695840" cy="3520800"/>
          </a:xfrm>
          <a:prstGeom prst="rect">
            <a:avLst/>
          </a:prstGeom>
          <a:ln w="0">
            <a:noFill/>
          </a:ln>
        </p:spPr>
      </p:sp>
      <p:sp>
        <p:nvSpPr>
          <p:cNvPr id="248" name="PlaceHolder 2"/>
          <p:cNvSpPr>
            <a:spLocks noGrp="1"/>
          </p:cNvSpPr>
          <p:nvPr>
            <p:ph type="body"/>
          </p:nvPr>
        </p:nvSpPr>
        <p:spPr>
          <a:xfrm>
            <a:off x="709200" y="4460400"/>
            <a:ext cx="5683320" cy="42246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4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6F44-1922-42B9-BDC8-162C89FEF395}" type="slidenum">
              <a:rPr b="0" lang="en-US" sz="1200" spc="-1" strike="noStrike">
                <a:solidFill>
                  <a:srgbClr val="ffffff"/>
                </a:solidFill>
                <a:latin typeface="Arial"/>
              </a:rPr>
              <a:t>&lt;number&gt;</a:t>
            </a:fld>
            <a:endParaRPr b="0" lang="en-US" sz="1200" spc="-1" strike="noStrike">
              <a:solidFill>
                <a:srgbClr val="ffffff"/>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22B0E6-34A5-4FCC-9914-AE72EDF9B4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1097275-0924-4C6A-8AC2-1539B403B5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2D849BB8-388B-4650-A45A-B78F1ACAE6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4BB3E36C-3309-4BAC-B5E2-440B82BA1F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C02329D-8068-4F92-ADA3-DBA9A99D39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2F17992-35D3-4378-819B-253E5C6B09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D8CCACC0-B88A-4145-8D06-DE9D57E158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76C354AD-27C0-44D2-81C2-3064919670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174CD65-17C9-4953-9388-5EC9B26FF1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21A8172-47B4-443F-87DC-EBE2E66DF4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0501835-809E-4C70-8406-C33D145624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12BED5A-9FD6-4E49-919A-6A07F0236A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71600"/>
            <a:ext cx="7986240" cy="19080"/>
            <a:chOff x="0" y="1371600"/>
            <a:chExt cx="7986240" cy="19080"/>
          </a:xfrm>
        </p:grpSpPr>
        <p:sp>
          <p:nvSpPr>
            <p:cNvPr id="3" name="Line 5"/>
            <p:cNvSpPr/>
            <p:nvPr/>
          </p:nvSpPr>
          <p:spPr>
            <a:xfrm>
              <a:off x="6840" y="139068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Franklin Gothic Book"/>
              </a:endParaRPr>
            </a:p>
          </p:txBody>
        </p:sp>
        <p:sp>
          <p:nvSpPr>
            <p:cNvPr id="4" name="Line 6"/>
            <p:cNvSpPr/>
            <p:nvPr/>
          </p:nvSpPr>
          <p:spPr>
            <a:xfrm>
              <a:off x="0" y="137160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Franklin Gothic Book"/>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B820-9DBB-4E73-8077-2ACDF005D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4" name="Group 4"/>
          <p:cNvGrpSpPr/>
          <p:nvPr/>
        </p:nvGrpSpPr>
        <p:grpSpPr>
          <a:xfrm>
            <a:off x="0" y="3867120"/>
            <a:ext cx="7986240" cy="19080"/>
            <a:chOff x="0" y="3867120"/>
            <a:chExt cx="7986240" cy="19080"/>
          </a:xfrm>
        </p:grpSpPr>
        <p:sp>
          <p:nvSpPr>
            <p:cNvPr id="45"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Franklin Gothic Book"/>
              </a:endParaRPr>
            </a:p>
          </p:txBody>
        </p:sp>
        <p:sp>
          <p:nvSpPr>
            <p:cNvPr id="46"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Franklin Gothic Book"/>
              </a:endParaRPr>
            </a:p>
          </p:txBody>
        </p:sp>
      </p:grpSp>
      <p:graphicFrame>
        <p:nvGraphicFramePr>
          <p:cNvPr id="47" name="Object 2"/>
          <p:cNvGraphicFramePr/>
          <p:nvPr/>
        </p:nvGraphicFramePr>
        <p:xfrm>
          <a:off x="990720" y="380880"/>
          <a:ext cx="7162560" cy="1695600"/>
        </p:xfrm>
        <a:graphic>
          <a:graphicData uri="http://schemas.openxmlformats.org/presentationml/2006/ole">
            <p:oleObj r:id="rId2" spid="">
              <p:embed/>
              <p:pic>
                <p:nvPicPr>
                  <p:cNvPr id="48" name="Object 2"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0"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heather.johnson-skrivanek@ahrq.hhs.gov" TargetMode="External"/><Relationship Id="rId2" Type="http://schemas.openxmlformats.org/officeDocument/2006/relationships/hyperlink" Target="mailto:lld@rti.org" TargetMode="External"/><Relationship Id="rId3" Type="http://schemas.openxmlformats.org/officeDocument/2006/relationships/hyperlink" Target="http://healthit.ahrq.gov/Medicaid-SCHIP"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057040"/>
            <a:ext cx="7790040" cy="1676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Barriers to Meeting Meaningful Use Among Medicaid Providers: Challenges and Opportunities</a:t>
            </a:r>
            <a:endParaRPr b="1" lang="en-US" sz="3600" spc="-1" strike="noStrike">
              <a:solidFill>
                <a:srgbClr val="ffff00"/>
              </a:solidFill>
              <a:latin typeface="Arial"/>
            </a:endParaRPr>
          </a:p>
        </p:txBody>
      </p:sp>
      <p:sp>
        <p:nvSpPr>
          <p:cNvPr id="95" name="PlaceHolder 2"/>
          <p:cNvSpPr>
            <a:spLocks noGrp="1"/>
          </p:cNvSpPr>
          <p:nvPr>
            <p:ph type="subTitle"/>
          </p:nvPr>
        </p:nvSpPr>
        <p:spPr>
          <a:xfrm>
            <a:off x="685800" y="4266720"/>
            <a:ext cx="7238880" cy="2133720"/>
          </a:xfrm>
          <a:prstGeom prst="rect">
            <a:avLst/>
          </a:prstGeom>
          <a:noFill/>
          <a:ln w="0">
            <a:noFill/>
          </a:ln>
        </p:spPr>
        <p:txBody>
          <a:bodyPr lIns="90360" rIns="90360" tIns="44280" bIns="44280"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ranklin Gothic Book"/>
              </a:rPr>
              <a:t>Linda Dimitropoulos</a:t>
            </a:r>
            <a:endParaRPr b="0" lang="en-US" sz="2200" spc="-1" strike="noStrike">
              <a:solidFill>
                <a:srgbClr val="ffffff"/>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ranklin Gothic Book"/>
              </a:rPr>
              <a:t>September 10, 2012</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4693-2BEE-48B4-B6DC-4D9CF07DAFDD}"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24"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B54F-D04F-4149-A61E-0AA54E2CAA85}"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25"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rticipation in Medicaid EHR Incentive Program: </a:t>
            </a:r>
            <a:br>
              <a:rPr sz="2800"/>
            </a:br>
            <a:r>
              <a:rPr b="1" lang="en-US" sz="2800" spc="-1" strike="noStrike">
                <a:solidFill>
                  <a:srgbClr val="ffff00"/>
                </a:solidFill>
                <a:latin typeface="Arial"/>
              </a:rPr>
              <a:t>Informational Barriers</a:t>
            </a:r>
            <a:endParaRPr b="1" lang="en-US" sz="2800" spc="-1" strike="noStrike">
              <a:solidFill>
                <a:srgbClr val="ffff00"/>
              </a:solidFill>
              <a:latin typeface="Arial"/>
            </a:endParaRPr>
          </a:p>
        </p:txBody>
      </p:sp>
      <p:sp>
        <p:nvSpPr>
          <p:cNvPr id="126"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0000"/>
          </a:bodyPr>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dents wanted more information on specific MU objectives </a:t>
            </a:r>
            <a:endParaRPr b="0" lang="en-US" sz="3200" spc="-1" strike="noStrike">
              <a:solidFill>
                <a:srgbClr val="ffffff"/>
              </a:solidFill>
              <a:latin typeface="Arial"/>
            </a:endParaRPr>
          </a:p>
          <a:p>
            <a:pPr lvl="1" marL="878400" indent="-3567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tep by step, how am I supposed to do this?  What declarations do I need to make?  What documents do I need to sign? [I need] details about what the meaningful use requirements are, and honestly I’m not finding that anywhere.”</a:t>
            </a:r>
            <a:endParaRPr b="0" lang="en-US" sz="2800" spc="-1" strike="noStrike">
              <a:solidFill>
                <a:srgbClr val="ffffff"/>
              </a:solidFill>
              <a:latin typeface="Arial"/>
            </a:endParaRPr>
          </a:p>
          <a:p>
            <a:pPr marL="418320" indent="-4183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reported lack of information from State programs, and wanted to hear from government agency, not vend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9038-A14C-4FF7-8719-AFA8D007D112}"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28"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11BC-5EFB-49F6-8C3B-4471EEBD95A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29"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rticipation in Medicaid EHR Incentive Program: </a:t>
            </a:r>
            <a:br>
              <a:rPr sz="2800"/>
            </a:br>
            <a:r>
              <a:rPr b="1" lang="en-US" sz="2800" spc="-1" strike="noStrike">
                <a:solidFill>
                  <a:srgbClr val="ffff00"/>
                </a:solidFill>
                <a:latin typeface="Arial"/>
              </a:rPr>
              <a:t>Elements of Eligibility</a:t>
            </a:r>
            <a:endParaRPr b="1" lang="en-US" sz="2800" spc="-1" strike="noStrike">
              <a:solidFill>
                <a:srgbClr val="ffff00"/>
              </a:solidFill>
              <a:latin typeface="Arial"/>
            </a:endParaRPr>
          </a:p>
        </p:txBody>
      </p:sp>
      <p:sp>
        <p:nvSpPr>
          <p:cNvPr id="130"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5000"/>
          </a:bodyPr>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dents were aware of EHR certification as part of the incentive program, but equated it with EHR quality</a:t>
            </a:r>
            <a:endParaRPr b="0" lang="en-US" sz="3200" spc="-1" strike="noStrike">
              <a:solidFill>
                <a:srgbClr val="ffffff"/>
              </a:solidFill>
              <a:latin typeface="Arial"/>
            </a:endParaRPr>
          </a:p>
          <a:p>
            <a:pPr lvl="1" marL="927360" indent="-3765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m not very good at differentiating between a good and a bad EHR…so if you have a certification I’m assuming that it’s like a seal that the EHR is something …that is feasible and workable.”</a:t>
            </a:r>
            <a:endParaRPr b="0" lang="en-US" sz="28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ported concerns with determining eligi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F3B9-559E-474C-A608-0E1606CCE8CA}"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3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F8E6-BA37-4D56-AAA3-8E13BBAD6E64}"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3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rticipation in Medicaid EHR Incentive Program: </a:t>
            </a:r>
            <a:br>
              <a:rPr sz="2800"/>
            </a:br>
            <a:r>
              <a:rPr b="1" lang="en-US" sz="2800" spc="-1" strike="noStrike">
                <a:solidFill>
                  <a:srgbClr val="ffff00"/>
                </a:solidFill>
                <a:latin typeface="Arial"/>
              </a:rPr>
              <a:t>Influence of Payments</a:t>
            </a:r>
            <a:endParaRPr b="1" lang="en-US" sz="2800" spc="-1" strike="noStrike">
              <a:solidFill>
                <a:srgbClr val="ffff00"/>
              </a:solidFill>
              <a:latin typeface="Arial"/>
            </a:endParaRPr>
          </a:p>
        </p:txBody>
      </p:sp>
      <p:sp>
        <p:nvSpPr>
          <p:cNvPr id="134"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3000"/>
          </a:bodyPr>
          <a:p>
            <a:pPr marL="432360" indent="-43236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me influenced by incentives (adopters and non-adopters)</a:t>
            </a:r>
            <a:endParaRPr b="0" lang="en-US" sz="3000" spc="-1" strike="noStrike">
              <a:solidFill>
                <a:srgbClr val="ffffff"/>
              </a:solidFill>
              <a:latin typeface="Arial"/>
            </a:endParaRPr>
          </a:p>
          <a:p>
            <a:pPr lvl="1" marL="907920" indent="-368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etary incentives were central for this group</a:t>
            </a:r>
            <a:endParaRPr b="0" lang="en-US" sz="2800" spc="-1" strike="noStrike">
              <a:solidFill>
                <a:srgbClr val="ffffff"/>
              </a:solidFill>
              <a:latin typeface="Arial"/>
            </a:endParaRPr>
          </a:p>
          <a:p>
            <a:pPr lvl="1" marL="907920" indent="-368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without the incentive money we would have dragged our feet for another several years and waited until better communication existed between existing systems.”</a:t>
            </a:r>
            <a:endParaRPr b="0" lang="en-US" sz="2800" spc="-1" strike="noStrike">
              <a:solidFill>
                <a:srgbClr val="ffffff"/>
              </a:solidFill>
              <a:latin typeface="Arial"/>
            </a:endParaRPr>
          </a:p>
          <a:p>
            <a:pPr marL="432360" indent="-43236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me non-adopters felt financial incentives not enough to overcome perceived loss in produ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02D2-8E63-4FD7-8683-F72A376C0526}"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3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7475-57A8-40B0-9292-D5550EECC78C}"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EHR Selection</a:t>
            </a:r>
            <a:endParaRPr b="1" lang="en-US" sz="3600" spc="-1" strike="noStrike">
              <a:solidFill>
                <a:srgbClr val="ffff00"/>
              </a:solidFill>
              <a:latin typeface="Arial"/>
            </a:endParaRPr>
          </a:p>
        </p:txBody>
      </p:sp>
      <p:sp>
        <p:nvSpPr>
          <p:cNvPr id="138"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91000"/>
          </a:bodyPr>
          <a:p>
            <a:pPr marL="423000" indent="-42300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jority reported vendors as source of information to assist with EHR selection</a:t>
            </a:r>
            <a:endParaRPr b="0" lang="en-US" sz="3000" spc="-1" strike="noStrike">
              <a:solidFill>
                <a:srgbClr val="ffffff"/>
              </a:solidFill>
              <a:latin typeface="Arial"/>
            </a:endParaRPr>
          </a:p>
          <a:p>
            <a:pPr marL="423000" indent="-42300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y respondents had not heard of RECs, so did not use them as a resource in EHR selection</a:t>
            </a:r>
            <a:endParaRPr b="0" lang="en-US" sz="3000" spc="-1" strike="noStrike">
              <a:solidFill>
                <a:srgbClr val="ffffff"/>
              </a:solidFill>
              <a:latin typeface="Arial"/>
            </a:endParaRPr>
          </a:p>
          <a:p>
            <a:pPr marL="423000" indent="-42300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RECs mentioned, comments were positive</a:t>
            </a:r>
            <a:endParaRPr b="0" lang="en-US" sz="3000" spc="-1" strike="noStrike">
              <a:solidFill>
                <a:srgbClr val="ffffff"/>
              </a:solidFill>
              <a:latin typeface="Arial"/>
            </a:endParaRPr>
          </a:p>
          <a:p>
            <a:pPr lvl="1" marL="888120" indent="-360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made the decision but I think [REC] helped us at least with the narrowing process…it’s been really, really helpful.  I think it would have been difficult without [RE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5E85-70EA-4B60-8E6A-C2203E7A72E7}"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0"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836C-FDED-48BE-8B16-889A64D3E1F7}"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Barriers to A/I/U: </a:t>
            </a:r>
            <a:br>
              <a:rPr sz="3400"/>
            </a:br>
            <a:r>
              <a:rPr b="1" lang="en-US" sz="3400" spc="-1" strike="noStrike">
                <a:solidFill>
                  <a:srgbClr val="ffff00"/>
                </a:solidFill>
                <a:latin typeface="Arial"/>
              </a:rPr>
              <a:t>Expectations of Non-Adopters</a:t>
            </a:r>
            <a:endParaRPr b="1" lang="en-US" sz="3400" spc="-1" strike="noStrike">
              <a:solidFill>
                <a:srgbClr val="ffff00"/>
              </a:solidFill>
              <a:latin typeface="Arial"/>
            </a:endParaRPr>
          </a:p>
        </p:txBody>
      </p:sp>
      <p:sp>
        <p:nvSpPr>
          <p:cNvPr id="142"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adopters tend to perceive more benefits than risks, and expectations are in sharp contrast to experiences recounted by adopters in this stud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anticipated by non-adopter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saving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coding</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share information electronic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0D41-0C85-4C90-9C43-6BD93EB7D1A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4"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4A51-3363-43A8-AF65-74C8B5E20EF7}"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Experience of Adopters</a:t>
            </a:r>
            <a:endParaRPr b="1" lang="en-US" sz="3600" spc="-1" strike="noStrike">
              <a:solidFill>
                <a:srgbClr val="ffff00"/>
              </a:solidFill>
              <a:latin typeface="Arial"/>
            </a:endParaRPr>
          </a:p>
        </p:txBody>
      </p:sp>
      <p:sp>
        <p:nvSpPr>
          <p:cNvPr id="146"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fontScale="88000"/>
          </a:bodyPr>
          <a:p>
            <a:pPr marL="408960" indent="-40896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sues of transition</a:t>
            </a:r>
            <a:endParaRPr b="0" lang="en-US" sz="3000" spc="-1" strike="noStrike">
              <a:solidFill>
                <a:srgbClr val="ffffff"/>
              </a:solidFill>
              <a:latin typeface="Arial"/>
            </a:endParaRPr>
          </a:p>
          <a:p>
            <a:pPr lvl="1" marL="858960" indent="-348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EHR adopters noted that their challenges may be a result of still being in transition from paper to EHRs</a:t>
            </a:r>
            <a:endParaRPr b="0" lang="en-US" sz="2600" spc="-1" strike="noStrike">
              <a:solidFill>
                <a:srgbClr val="ffffff"/>
              </a:solidFill>
              <a:latin typeface="Arial"/>
            </a:endParaRPr>
          </a:p>
          <a:p>
            <a:pPr lvl="1" marL="858960" indent="-348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long-time EHR users still similar expressed concerns and challenges </a:t>
            </a:r>
            <a:endParaRPr b="0" lang="en-US" sz="2600" spc="-1" strike="noStrike">
              <a:solidFill>
                <a:srgbClr val="ffffff"/>
              </a:solidFill>
              <a:latin typeface="Arial"/>
            </a:endParaRPr>
          </a:p>
          <a:p>
            <a:pPr marL="408960" indent="-40896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sues by EHR system/vendor</a:t>
            </a:r>
            <a:endParaRPr b="0" lang="en-US" sz="3000" spc="-1" strike="noStrike">
              <a:solidFill>
                <a:srgbClr val="ffffff"/>
              </a:solidFill>
              <a:latin typeface="Arial"/>
            </a:endParaRPr>
          </a:p>
          <a:p>
            <a:pPr lvl="1" marL="858960" indent="-348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respondents switched from one EHR to another in hopes of improving their experience</a:t>
            </a:r>
            <a:endParaRPr b="0" lang="en-US" sz="2600" spc="-1" strike="noStrike">
              <a:solidFill>
                <a:srgbClr val="ffffff"/>
              </a:solidFill>
              <a:latin typeface="Arial"/>
            </a:endParaRPr>
          </a:p>
          <a:p>
            <a:pPr lvl="1" marL="858960" indent="-3488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enough data to compare reported challenges by EHR system use</a:t>
            </a:r>
            <a:r>
              <a:rPr b="0" lang="en-US" sz="2800" spc="-1" strike="noStrike">
                <a:solidFill>
                  <a:srgbClr val="ffffff"/>
                </a:solidFill>
                <a:latin typeface="Arial"/>
              </a:rPr>
              <a:t>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617C-757C-404B-9F3B-543BB505ADD2}"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8"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A8D6-9AE6-43D4-A232-C7C0F9D987B0}"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Concerns About Adoption and Use (1)</a:t>
            </a:r>
            <a:endParaRPr b="1" lang="en-US" sz="3600" spc="-1" strike="noStrike">
              <a:solidFill>
                <a:srgbClr val="ffff00"/>
              </a:solidFill>
              <a:latin typeface="Arial"/>
            </a:endParaRPr>
          </a:p>
        </p:txBody>
      </p:sp>
      <p:sp>
        <p:nvSpPr>
          <p:cNvPr id="150" name="PlaceHolder 2"/>
          <p:cNvSpPr>
            <a:spLocks noGrp="1"/>
          </p:cNvSpPr>
          <p:nvPr>
            <p:ph/>
          </p:nvPr>
        </p:nvSpPr>
        <p:spPr>
          <a:xfrm>
            <a:off x="609120" y="16761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 of EHRs and reduced productivit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ioned in context of low Medicaid reimbursement rat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pters focused on unexpected fees for licensing, maintenance, server updates, technical assistance. </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rn about stability of EHR marke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we choose certain software vendors, how long will they be in busi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3A53-C735-4B93-8B4F-F01DD66A6F72}"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5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3436-DE25-4059-8A0C-19A8C7D9467D}"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Concerns About Adoption and Use (2)</a:t>
            </a:r>
            <a:endParaRPr b="1" lang="en-US" sz="3600" spc="-1" strike="noStrike">
              <a:solidFill>
                <a:srgbClr val="ffff00"/>
              </a:solidFill>
              <a:latin typeface="Arial"/>
            </a:endParaRPr>
          </a:p>
        </p:txBody>
      </p:sp>
      <p:sp>
        <p:nvSpPr>
          <p:cNvPr id="154"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88000"/>
          </a:bodyPr>
          <a:p>
            <a:pPr marL="408960" indent="-408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access to data</a:t>
            </a:r>
            <a:endParaRPr b="0" lang="en-US" sz="3200" spc="-1" strike="noStrike">
              <a:solidFill>
                <a:srgbClr val="ffffff"/>
              </a:solidFill>
              <a:latin typeface="Arial"/>
            </a:endParaRPr>
          </a:p>
          <a:p>
            <a:pPr lvl="1" marL="858960" indent="-3488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pters focused on data management, storage and retrieval, and migration from one system to another.</a:t>
            </a:r>
            <a:endParaRPr b="0" lang="en-US" sz="2800" spc="-1" strike="noStrike">
              <a:solidFill>
                <a:srgbClr val="ffffff"/>
              </a:solidFill>
              <a:latin typeface="Arial"/>
            </a:endParaRPr>
          </a:p>
          <a:p>
            <a:pPr marL="408960" indent="-408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clinical documentation</a:t>
            </a:r>
            <a:endParaRPr b="0" lang="en-US" sz="3200" spc="-1" strike="noStrike">
              <a:solidFill>
                <a:srgbClr val="ffffff"/>
              </a:solidFill>
              <a:latin typeface="Arial"/>
            </a:endParaRPr>
          </a:p>
          <a:p>
            <a:pPr lvl="1" marL="858960" indent="-3488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read H and P’s from outside sources that use these systems and it’s crap…it’s 7 pages long and you don’t trust any of it because they’ve documented stuff that was completely superfluous and haven’t adequately documented the thing that you wanted to know ab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DA72-96B0-4C12-A408-0625B4593C0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5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A3BF-CD63-419C-978D-ECBAEFDB0AB6}"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Concerns About Adoption and Use (3)</a:t>
            </a:r>
            <a:endParaRPr b="1" lang="en-US" sz="3600" spc="-1" strike="noStrike">
              <a:solidFill>
                <a:srgbClr val="ffff00"/>
              </a:solidFill>
              <a:latin typeface="Arial"/>
            </a:endParaRPr>
          </a:p>
        </p:txBody>
      </p:sp>
      <p:sp>
        <p:nvSpPr>
          <p:cNvPr id="158"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interoperablit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re are] multiple systems and if they don’t cross communicate with one another it concerns me…the ability to communicate from physician to physician, physician to lab, or physician to ER…is cruci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 the positive side…</a:t>
            </a:r>
            <a:endParaRPr b="1" lang="en-US" sz="3600" spc="-1" strike="noStrike">
              <a:solidFill>
                <a:srgbClr val="ffff00"/>
              </a:solidFill>
              <a:latin typeface="Arial"/>
            </a:endParaRPr>
          </a:p>
        </p:txBody>
      </p:sp>
      <p:sp>
        <p:nvSpPr>
          <p:cNvPr id="160" name=""/>
          <p:cNvSpPr txBox="1"/>
          <p:nvPr/>
        </p:nvSpPr>
        <p:spPr>
          <a:xfrm>
            <a:off x="609120" y="1676160"/>
            <a:ext cx="7993080" cy="2895480"/>
          </a:xfrm>
          <a:prstGeom prst="rect">
            <a:avLst/>
          </a:prstGeom>
          <a:noFill/>
          <a:ln w="0">
            <a:noFill/>
          </a:ln>
        </p:spPr>
        <p:txBody>
          <a:bodyPr lIns="90360" rIns="90360" tIns="44280" bIns="44280" anchor="t">
            <a:normAutofit fontScale="89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like having a baby in your family. The labor and delivery process is expensive and painful, but then you go home with a healthy baby and it is going to be really good.  I kind of look at going on the electronic medical record as birthing a baby - the end product is the best thing in the world, but it is going to be painful getting there.”</a:t>
            </a:r>
            <a:endParaRPr b="0" lang="en-US" sz="3200" spc="-1" strike="noStrike">
              <a:solidFill>
                <a:srgbClr val="ffffff"/>
              </a:solidFill>
              <a:latin typeface="Arial"/>
            </a:endParaRPr>
          </a:p>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2AF3-B325-477B-8884-5A9FAE8CF0B0}"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ject Goals</a:t>
            </a:r>
            <a:endParaRPr b="1" lang="en-US" sz="4000" spc="-1" strike="noStrike">
              <a:solidFill>
                <a:srgbClr val="ffff00"/>
              </a:solidFill>
              <a:latin typeface="Arial"/>
            </a:endParaRPr>
          </a:p>
        </p:txBody>
      </p:sp>
      <p:sp>
        <p:nvSpPr>
          <p:cNvPr id="97" name=""/>
          <p:cNvSpPr txBox="1"/>
          <p:nvPr/>
        </p:nvSpPr>
        <p:spPr>
          <a:xfrm>
            <a:off x="60912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otential barriers to meeting the eligibility criteria for receiving incentive payments under the Medicaid EHR Incentive Program; barriers to adoption, implementation, or upgrading of EHR systems; and barriers to achieving meaningful use. </a:t>
            </a:r>
            <a:endParaRPr b="0" lang="en-US" sz="2800" spc="-1" strike="noStrike">
              <a:solidFill>
                <a:srgbClr val="ffffff"/>
              </a:solidFill>
              <a:latin typeface="Arial"/>
            </a:endParaRPr>
          </a:p>
          <a:p>
            <a:pPr marL="353160" indent="-3531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recommendations to Medicaid agencies for ways that they can help providers overcome these potential barriers as well as provide recommendations for technical assistance that would aid Medicaid agencies in their effort to assist providers.</a:t>
            </a:r>
            <a:endParaRPr b="0" lang="en-US" sz="2800" spc="-1" strike="noStrike">
              <a:solidFill>
                <a:srgbClr val="ffffff"/>
              </a:solidFill>
              <a:latin typeface="Arial"/>
            </a:endParaRPr>
          </a:p>
        </p:txBody>
      </p:sp>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9321-7AC3-4DA5-A103-E5A11B4A478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4C87-90D6-4FB6-A0CC-2CC4A69032B1}"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63"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080B-1145-4551-98AF-74B309FF9757}"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Workflow Challenges (1)</a:t>
            </a:r>
            <a:endParaRPr b="1" lang="en-US" sz="3600" spc="-1" strike="noStrike">
              <a:solidFill>
                <a:srgbClr val="ffff00"/>
              </a:solidFill>
              <a:latin typeface="Arial"/>
            </a:endParaRPr>
          </a:p>
        </p:txBody>
      </p:sp>
      <p:sp>
        <p:nvSpPr>
          <p:cNvPr id="165"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95000"/>
          </a:bodyPr>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to create “work-arounds” </a:t>
            </a:r>
            <a:endParaRPr b="0" lang="en-US" sz="3200" spc="-1" strike="noStrike">
              <a:solidFill>
                <a:srgbClr val="ffffff"/>
              </a:solidFill>
              <a:latin typeface="Arial"/>
            </a:endParaRPr>
          </a:p>
          <a:p>
            <a:pPr lvl="1" marL="927360" indent="-3765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program I’m using – it doesn’t really have a good problem list so I put people’s problem lists in their demographics.”</a:t>
            </a:r>
            <a:endParaRPr b="0" lang="en-US" sz="28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additional time to use EHRs</a:t>
            </a:r>
            <a:endParaRPr b="0" lang="en-US" sz="3200" spc="-1" strike="noStrike">
              <a:solidFill>
                <a:srgbClr val="ffffff"/>
              </a:solidFill>
              <a:latin typeface="Arial"/>
            </a:endParaRPr>
          </a:p>
          <a:p>
            <a:pPr lvl="1" marL="927360" indent="-3765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ctually get behind at times to where I actually write everything on paper and spend 2 to 3 hours a night typing in my notes because the computer is so slow and cumbers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7D63-2342-42E3-A9A3-AA0E7B2CC30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6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FFF6-67A0-4F27-B643-1BCBE5C33026}"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Workflow Challenges (2)</a:t>
            </a:r>
            <a:endParaRPr b="1" lang="en-US" sz="3600" spc="-1" strike="noStrike">
              <a:solidFill>
                <a:srgbClr val="ffff00"/>
              </a:solidFill>
              <a:latin typeface="Arial"/>
            </a:endParaRPr>
          </a:p>
        </p:txBody>
      </p:sp>
      <p:sp>
        <p:nvSpPr>
          <p:cNvPr id="169"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97000"/>
          </a:bodyPr>
          <a:p>
            <a:pPr marL="451080" indent="-451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HRs detract from clinical care</a:t>
            </a:r>
            <a:endParaRPr b="0" lang="en-US" sz="32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used to draw a lot of pictures…that would help me with a lot of my recall of where an injury was.”</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get click fatigue.”</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ybe in 6 months, maybe a year, the computer system will be better, the templates will be better…but right now I lack total confidence in my ability to take care of the patient using the EH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spectives</a:t>
            </a:r>
            <a:endParaRPr b="1" lang="en-US" sz="3600" spc="-1" strike="noStrike">
              <a:solidFill>
                <a:srgbClr val="ffff00"/>
              </a:solidFill>
              <a:latin typeface="Arial"/>
            </a:endParaRPr>
          </a:p>
        </p:txBody>
      </p:sp>
      <p:sp>
        <p:nvSpPr>
          <p:cNvPr id="171" name=""/>
          <p:cNvSpPr txBox="1"/>
          <p:nvPr/>
        </p:nvSpPr>
        <p:spPr>
          <a:xfrm>
            <a:off x="609120" y="1676160"/>
            <a:ext cx="7993080" cy="2895480"/>
          </a:xfrm>
          <a:prstGeom prst="rect">
            <a:avLst/>
          </a:prstGeom>
          <a:noFill/>
          <a:ln w="0">
            <a:noFill/>
          </a:ln>
        </p:spPr>
        <p:txBody>
          <a:bodyPr lIns="90360" rIns="90360" tIns="44280" bIns="44280" anchor="t">
            <a:normAutofit fontScale="75000"/>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is system was designed by one of the academics, or maybe one of the three-piece suits with the attaché case, but it certainly was not somebody in the trenches seeing patients, up to 90 patients a day. It makes absolutely no sense whatsoever.”</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many physicians are misled to think you turn it on and it is a word processor and you buy a new version of Microsoft Word and you learn it in an hour but it is not like that.  It is a totally different way of thinking about the encounter.”</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6DF5-93B0-42A6-B142-67F7126965CD}"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AFE9-E716-4452-BA7C-A9441EFEBE1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74"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3813-3C44-404D-B635-74A66AF978D7}"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Patient-Provider Interactions</a:t>
            </a:r>
            <a:endParaRPr b="1" lang="en-US" sz="3600" spc="-1" strike="noStrike">
              <a:solidFill>
                <a:srgbClr val="ffff00"/>
              </a:solidFill>
              <a:latin typeface="Arial"/>
            </a:endParaRPr>
          </a:p>
        </p:txBody>
      </p:sp>
      <p:sp>
        <p:nvSpPr>
          <p:cNvPr id="176"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mpact of using EHR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lot of my communication is nonverbal.  I feel like I’m missing the things that I used to be able to pick up.”</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lose that physician or provider/patient contact because you are constantly looking at the computer screen and patients want you to look at th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1F69-B006-49FB-BF85-8DEABF61FB01}"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78"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32BD-B91E-469F-8357-7D613C5FD682}"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79"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rriers to A/I/U: </a:t>
            </a:r>
            <a:br>
              <a:rPr sz="3200"/>
            </a:br>
            <a:r>
              <a:rPr b="1" lang="en-US" sz="3200" spc="-1" strike="noStrike">
                <a:solidFill>
                  <a:srgbClr val="ffff00"/>
                </a:solidFill>
                <a:latin typeface="Arial"/>
              </a:rPr>
              <a:t>Characteristics of Medicaid-Insured Patient Population</a:t>
            </a:r>
            <a:endParaRPr b="1" lang="en-US" sz="3200" spc="-1" strike="noStrike">
              <a:solidFill>
                <a:srgbClr val="ffff00"/>
              </a:solidFill>
              <a:latin typeface="Arial"/>
            </a:endParaRPr>
          </a:p>
        </p:txBody>
      </p:sp>
      <p:sp>
        <p:nvSpPr>
          <p:cNvPr id="180"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87000"/>
          </a:bodyPr>
          <a:p>
            <a:pPr marL="404640" indent="-40464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st did not indicate that being covered by </a:t>
            </a:r>
            <a:r>
              <a:rPr b="0" i="1" lang="en-US" sz="3000" spc="-1" strike="noStrike">
                <a:solidFill>
                  <a:srgbClr val="ffffff"/>
                </a:solidFill>
                <a:latin typeface="Arial"/>
              </a:rPr>
              <a:t>Medicaid </a:t>
            </a:r>
            <a:r>
              <a:rPr b="0" lang="en-US" sz="3000" spc="-1" strike="noStrike">
                <a:solidFill>
                  <a:srgbClr val="ffffff"/>
                </a:solidFill>
                <a:latin typeface="Arial"/>
              </a:rPr>
              <a:t> made a difference, but noted:</a:t>
            </a:r>
            <a:endParaRPr b="0" lang="en-US" sz="3000" spc="-1" strike="noStrike">
              <a:solidFill>
                <a:srgbClr val="ffffff"/>
              </a:solidFill>
              <a:latin typeface="Arial"/>
            </a:endParaRPr>
          </a:p>
          <a:p>
            <a:pPr lvl="1" marL="849240" indent="-3448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tly changed phone numbers/addresses impedes reminders</a:t>
            </a:r>
            <a:endParaRPr b="0" lang="en-US" sz="2800" spc="-1" strike="noStrike">
              <a:solidFill>
                <a:srgbClr val="ffffff"/>
              </a:solidFill>
              <a:latin typeface="Arial"/>
            </a:endParaRPr>
          </a:p>
          <a:p>
            <a:pPr lvl="1" marL="849240" indent="-3448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Internet access impedes online access to health information</a:t>
            </a:r>
            <a:endParaRPr b="0" lang="en-US" sz="2800" spc="-1" strike="noStrike">
              <a:solidFill>
                <a:srgbClr val="ffffff"/>
              </a:solidFill>
              <a:latin typeface="Arial"/>
            </a:endParaRPr>
          </a:p>
          <a:p>
            <a:pPr lvl="1" marL="849240" indent="-3448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barriers impedes patient educational resources</a:t>
            </a:r>
            <a:endParaRPr b="0" lang="en-US" sz="2800" spc="-1" strike="noStrike">
              <a:solidFill>
                <a:srgbClr val="ffffff"/>
              </a:solidFill>
              <a:latin typeface="Arial"/>
            </a:endParaRPr>
          </a:p>
          <a:p>
            <a:pPr lvl="1" marL="849240" indent="-3448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diatricians-specific: Computer equipment in the exam room with small children; confidentiality of adolescent health infor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F7CB-8B9F-4D6A-9A29-E5E35069DBFC}"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8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3618-0BDA-474F-A071-41C06EB9897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Using Structured Data</a:t>
            </a:r>
            <a:endParaRPr b="1" lang="en-US" sz="3600" spc="-1" strike="noStrike">
              <a:solidFill>
                <a:srgbClr val="ffff00"/>
              </a:solidFill>
              <a:latin typeface="Arial"/>
            </a:endParaRPr>
          </a:p>
        </p:txBody>
      </p:sp>
      <p:sp>
        <p:nvSpPr>
          <p:cNvPr id="184"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93000"/>
          </a:bodyPr>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and negative comments in about equal number</a:t>
            </a:r>
            <a:endParaRPr b="0" lang="en-US" sz="3200" spc="-1" strike="noStrike">
              <a:solidFill>
                <a:srgbClr val="ffffff"/>
              </a:solidFill>
              <a:latin typeface="Arial"/>
            </a:endParaRPr>
          </a:p>
          <a:p>
            <a:pPr lvl="1" marL="907920" indent="-368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n terms of medication and medication allergies, I think that’s really important to put that into the structured data because that’s where you get the medication interaction lists.”</a:t>
            </a:r>
            <a:endParaRPr b="0" lang="en-US" sz="2800" spc="-1" strike="noStrike">
              <a:solidFill>
                <a:srgbClr val="ffffff"/>
              </a:solidFill>
              <a:latin typeface="Arial"/>
            </a:endParaRPr>
          </a:p>
          <a:p>
            <a:pPr lvl="1" marL="907920" indent="-368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ometimes if you’re looking for a particular diagnosis, they have 30 diagnoses related to that diagnosis, and you have to go through it all to find the one that fits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6B46-EC9B-4773-8368-16CFFF0E91B0}"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8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15F7-B2CF-41D7-B125-D3262E938D26}"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I/U: </a:t>
            </a:r>
            <a:br>
              <a:rPr sz="3600"/>
            </a:br>
            <a:r>
              <a:rPr b="1" lang="en-US" sz="3600" spc="-1" strike="noStrike">
                <a:solidFill>
                  <a:srgbClr val="ffff00"/>
                </a:solidFill>
                <a:latin typeface="Arial"/>
              </a:rPr>
              <a:t>Health Information Exchange</a:t>
            </a:r>
            <a:endParaRPr b="1" lang="en-US" sz="3600" spc="-1" strike="noStrike">
              <a:solidFill>
                <a:srgbClr val="ffff00"/>
              </a:solidFill>
              <a:latin typeface="Arial"/>
            </a:endParaRPr>
          </a:p>
        </p:txBody>
      </p:sp>
      <p:sp>
        <p:nvSpPr>
          <p:cNvPr id="188"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fontScale="92000"/>
          </a:bodyPr>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oratory interfaces most common, but others frustrated at expense</a:t>
            </a:r>
            <a:endParaRPr b="0" lang="en-US" sz="32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veryone wants a chunk of money to set up an interface and we had so much difficulty trying to negotiate with some of the labs…so unless it is mandatory or someone is saying ‘here, we’re doing this gratis for you,’ we hit a brick wall.”</a:t>
            </a:r>
            <a:endParaRPr b="0" lang="en-US" sz="2800" spc="-1" strike="noStrike">
              <a:solidFill>
                <a:srgbClr val="ffffff"/>
              </a:solidFill>
              <a:latin typeface="Arial"/>
            </a:endParaRPr>
          </a:p>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interested in HIE but do not experience it, and are skeptical that it will be available anytime so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8384-35EF-41FE-B918-A33461B46C20}"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90"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2FC6-D415-4928-8A38-239C7C2AFB1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chieving MU</a:t>
            </a:r>
            <a:endParaRPr b="1" lang="en-US" sz="3600" spc="-1" strike="noStrike">
              <a:solidFill>
                <a:srgbClr val="ffff00"/>
              </a:solidFill>
              <a:latin typeface="Arial"/>
            </a:endParaRPr>
          </a:p>
        </p:txBody>
      </p:sp>
      <p:sp>
        <p:nvSpPr>
          <p:cNvPr id="192" name="PlaceHolder 2"/>
          <p:cNvSpPr>
            <a:spLocks noGrp="1"/>
          </p:cNvSpPr>
          <p:nvPr>
            <p:ph/>
          </p:nvPr>
        </p:nvSpPr>
        <p:spPr>
          <a:xfrm>
            <a:off x="680760" y="1447560"/>
            <a:ext cx="7993080" cy="5257800"/>
          </a:xfrm>
          <a:prstGeom prst="rect">
            <a:avLst/>
          </a:prstGeom>
          <a:noFill/>
          <a:ln w="0">
            <a:noFill/>
          </a:ln>
        </p:spPr>
        <p:txBody>
          <a:bodyPr lIns="90360" rIns="90360" tIns="44280" bIns="44280" anchor="t">
            <a:normAutofit fontScale="99000"/>
          </a:bodyPr>
          <a:p>
            <a:pPr marL="460440" indent="-46044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jority of respondents reported use of many Stage 1 MU objectives, with some reported barriers</a:t>
            </a:r>
            <a:endParaRPr b="0" lang="en-US" sz="3000" spc="-1" strike="noStrike">
              <a:solidFill>
                <a:srgbClr val="ffffff"/>
              </a:solidFill>
              <a:latin typeface="Arial"/>
            </a:endParaRPr>
          </a:p>
          <a:p>
            <a:pPr marL="460440" indent="-46044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ast frequently used functions:</a:t>
            </a:r>
            <a:endParaRPr b="0" lang="en-US" sz="3000" spc="-1" strike="noStrike">
              <a:solidFill>
                <a:srgbClr val="ffffff"/>
              </a:solidFill>
              <a:latin typeface="Arial"/>
            </a:endParaRPr>
          </a:p>
          <a:p>
            <a:pPr lvl="1" marL="966240" indent="-39240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re measures: clinical decision support, providing e-copy of health info on request, providing clinical summaries</a:t>
            </a:r>
            <a:endParaRPr b="0" lang="en-US" sz="2600" spc="-1" strike="noStrike">
              <a:solidFill>
                <a:srgbClr val="ffffff"/>
              </a:solidFill>
              <a:latin typeface="Arial"/>
            </a:endParaRPr>
          </a:p>
          <a:p>
            <a:pPr lvl="1" marL="966240" indent="-39240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nu measures: drug formulary checks, lab test results as structured data, patient-specific educational materials, medication reconciliation, patient reminders, giving patients electronic access to health information</a:t>
            </a:r>
            <a:endParaRPr b="0" lang="en-US" sz="2600" spc="-1" strike="noStrike">
              <a:solidFill>
                <a:srgbClr val="ffffff"/>
              </a:solidFill>
              <a:latin typeface="Arial"/>
            </a:endParaRPr>
          </a:p>
          <a:p>
            <a:pPr lvl="2" marL="1425600" indent="0">
              <a:lnSpc>
                <a:spcPct val="90000"/>
              </a:lnSpc>
              <a:spcBef>
                <a:spcPts val="9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rPr>
              <a:t>Another Perspective</a:t>
            </a:r>
            <a:endParaRPr b="1" lang="en-US" sz="4000" spc="-1" strike="noStrike">
              <a:solidFill>
                <a:srgbClr val="ffff00"/>
              </a:solidFill>
              <a:latin typeface="Arial"/>
            </a:endParaRPr>
          </a:p>
        </p:txBody>
      </p:sp>
      <p:sp>
        <p:nvSpPr>
          <p:cNvPr id="194" name=""/>
          <p:cNvSpPr txBox="1"/>
          <p:nvPr/>
        </p:nvSpPr>
        <p:spPr>
          <a:xfrm>
            <a:off x="609120" y="1676160"/>
            <a:ext cx="7993080" cy="3733560"/>
          </a:xfrm>
          <a:prstGeom prst="rect">
            <a:avLst/>
          </a:prstGeom>
          <a:noFill/>
          <a:ln w="0">
            <a:noFill/>
          </a:ln>
        </p:spPr>
        <p:txBody>
          <a:bodyPr lIns="90360" rIns="90360" tIns="44280" bIns="44280"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think to the insurance company or to the statistician…they [EHRs] are a wonderful thing, but I said, before you can make dessert…, you have to eat your meat and potatoes.  Right now we’re starving to death because this computer won’t let us cook things or you know, process things quick enough.”</a:t>
            </a:r>
            <a:endParaRPr b="0" lang="en-US" sz="3200" spc="-1" strike="noStrike">
              <a:solidFill>
                <a:srgbClr val="ffffff"/>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E554-57CE-47C2-9E0B-E9965C134647}"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1EBB-4735-429D-B955-BC692472FB42}"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97"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B227-2ED6-46E6-8554-08F1BE19812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chieving MU</a:t>
            </a:r>
            <a:endParaRPr b="1" lang="en-US" sz="3600" spc="-1" strike="noStrike">
              <a:solidFill>
                <a:srgbClr val="ffff00"/>
              </a:solidFill>
              <a:latin typeface="Arial"/>
            </a:endParaRPr>
          </a:p>
        </p:txBody>
      </p:sp>
      <p:sp>
        <p:nvSpPr>
          <p:cNvPr id="199" name="PlaceHolder 2"/>
          <p:cNvSpPr>
            <a:spLocks noGrp="1"/>
          </p:cNvSpPr>
          <p:nvPr>
            <p:ph/>
          </p:nvPr>
        </p:nvSpPr>
        <p:spPr>
          <a:xfrm>
            <a:off x="680760" y="1447560"/>
            <a:ext cx="7993080" cy="4267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ed awareness of RECs, but majority wanted more info on their REC</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need for more technical assistance in selecting and using EHR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worked with REC had positive experie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DBE0-858E-409F-BE10-AACACC1E4710}"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00"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9D59-D042-47F4-BC7B-475229E5A62D}"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am Members</a:t>
            </a:r>
            <a:endParaRPr b="1" lang="en-US" sz="3600" spc="-1" strike="noStrike">
              <a:solidFill>
                <a:srgbClr val="ffff00"/>
              </a:solidFill>
              <a:latin typeface="Arial"/>
            </a:endParaRPr>
          </a:p>
        </p:txBody>
      </p:sp>
      <p:sp>
        <p:nvSpPr>
          <p:cNvPr id="102" name="PlaceHolder 2"/>
          <p:cNvSpPr>
            <a:spLocks noGrp="1"/>
          </p:cNvSpPr>
          <p:nvPr>
            <p:ph/>
          </p:nvPr>
        </p:nvSpPr>
        <p:spPr>
          <a:xfrm>
            <a:off x="609120" y="1676160"/>
            <a:ext cx="3048120" cy="3429000"/>
          </a:xfrm>
          <a:prstGeom prst="rect">
            <a:avLst/>
          </a:prstGeom>
          <a:noFill/>
          <a:ln w="0">
            <a:noFill/>
          </a:ln>
        </p:spPr>
        <p:txBody>
          <a:bodyPr lIns="90360" rIns="90360" tIns="44280" bIns="44280" anchor="t">
            <a:normAutofit/>
          </a:bodyPr>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00"/>
                </a:solidFill>
                <a:latin typeface="Arial"/>
              </a:rPr>
              <a:t>Project Team</a:t>
            </a:r>
            <a:endParaRPr b="0" lang="en-US" sz="20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her Johnson-Skrivanek, AHRQ  </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uck Thompson, RT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phanie Kissam, RT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ison Banger, RT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da Dimitropoulos, RT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hn Marks, WVM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ricia Ruddick, WVMI</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ricia MacTaggart, GWU</a:t>
            </a:r>
            <a:endParaRPr b="0" lang="en-US" sz="1600" spc="-1" strike="noStrike">
              <a:solidFill>
                <a:srgbClr val="ffffff"/>
              </a:solidFill>
              <a:latin typeface="Arial"/>
            </a:endParaRPr>
          </a:p>
        </p:txBody>
      </p:sp>
      <p:sp>
        <p:nvSpPr>
          <p:cNvPr id="103" name="Rectangle 3"/>
          <p:cNvSpPr/>
          <p:nvPr/>
        </p:nvSpPr>
        <p:spPr>
          <a:xfrm>
            <a:off x="4572000" y="1676520"/>
            <a:ext cx="3048120" cy="304776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chnical Expert Panel</a:t>
            </a:r>
            <a:endParaRPr b="0" lang="en-US" sz="20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in Grace, AHRQ</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ndy Brach, AHRQ</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ry Clark, CMS</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ug Fridsma, ONC</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el Harris, HRSA</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ss Kahn, CMS</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Kendall, ONC</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na Poker, HRSA</a:t>
            </a:r>
            <a:endParaRPr b="0" lang="en-US" sz="1600" spc="-1" strike="noStrike">
              <a:solidFill>
                <a:srgbClr val="ffffff"/>
              </a:solidFill>
              <a:latin typeface="Franklin Gothic Book"/>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h Seidman, ONC</a:t>
            </a:r>
            <a:endParaRPr b="0" lang="en-US" sz="1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rriers to Achieving MU</a:t>
            </a:r>
            <a:endParaRPr b="1" lang="en-US" sz="3600" spc="-1" strike="noStrike">
              <a:solidFill>
                <a:srgbClr val="ffff00"/>
              </a:solidFill>
              <a:latin typeface="Arial"/>
            </a:endParaRPr>
          </a:p>
        </p:txBody>
      </p:sp>
      <p:sp>
        <p:nvSpPr>
          <p:cNvPr id="201" name=""/>
          <p:cNvSpPr txBox="1"/>
          <p:nvPr/>
        </p:nvSpPr>
        <p:spPr>
          <a:xfrm>
            <a:off x="609120" y="1676160"/>
            <a:ext cx="7993080" cy="2895480"/>
          </a:xfrm>
          <a:prstGeom prst="rect">
            <a:avLst/>
          </a:prstGeom>
          <a:noFill/>
          <a:ln w="0">
            <a:noFill/>
          </a:ln>
        </p:spPr>
        <p:txBody>
          <a:bodyPr lIns="90360" rIns="90360" tIns="44280" bIns="44280" anchor="t">
            <a:normAutofit fontScale="89000"/>
          </a:bodyPr>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barriers to using EHRs for MU for all types of providers, with some differences:</a:t>
            </a:r>
            <a:endParaRPr b="0" lang="en-US" sz="32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tists: Lack of certified EHR products, irrelevant MU objectives</a:t>
            </a:r>
            <a:endParaRPr b="0" lang="en-US" sz="2800" spc="-1" strike="noStrike">
              <a:solidFill>
                <a:srgbClr val="ffffff"/>
              </a:solidFill>
              <a:latin typeface="Arial"/>
            </a:endParaRPr>
          </a:p>
          <a:p>
            <a:pPr lvl="1" marL="868680" indent="-3528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diatricians, obstetricians, gynecologists, certified nurse midwives: Irrelevant MU objectives</a:t>
            </a:r>
            <a:endParaRPr b="0" lang="en-US" sz="2800" spc="-1" strike="noStrike">
              <a:solidFill>
                <a:srgbClr val="ffffff"/>
              </a:solidFill>
              <a:latin typeface="Arial"/>
            </a:endParaRPr>
          </a:p>
          <a:p>
            <a:pPr marL="413640" indent="-4136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C4B4-D098-4EBA-B274-F9B8647F2DE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1</a:t>
            </a:r>
            <a:endParaRPr b="1" lang="en-US" sz="4000" spc="-1" strike="noStrike">
              <a:solidFill>
                <a:srgbClr val="ffff00"/>
              </a:solidFill>
              <a:latin typeface="Arial"/>
            </a:endParaRPr>
          </a:p>
        </p:txBody>
      </p:sp>
      <p:sp>
        <p:nvSpPr>
          <p:cNvPr id="204" name=""/>
          <p:cNvSpPr txBox="1"/>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a more proactive approach for Medicaid agencies to assist Medicaid providers in achieving MU.</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direct communication about the requirements of the Medicaid EHR Incentive Program.</a:t>
            </a:r>
            <a:endParaRPr b="0" lang="en-US" sz="24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sending letters to providers directly</a:t>
            </a:r>
            <a:endParaRPr b="0" lang="en-US" sz="18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channels of communication that will reach providers at different times and in different ways</a:t>
            </a:r>
            <a:endParaRPr b="0" lang="en-US" sz="1800" spc="-1" strike="noStrike">
              <a:solidFill>
                <a:srgbClr val="ffffff"/>
              </a:solidFill>
              <a:latin typeface="Arial"/>
            </a:endParaRPr>
          </a:p>
          <a:p>
            <a:pPr lvl="1" marL="976320" indent="-396720">
              <a:lnSpc>
                <a:spcPct val="90000"/>
              </a:lnSpc>
              <a:spcBef>
                <a:spcPts val="82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ducate providers on technical assistance that is available.</a:t>
            </a:r>
            <a:endParaRPr b="0" lang="en-US" sz="22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s – share provider lists with RECs, contract with RECs to provide TA to non-primary-care Medicaid EPs.</a:t>
            </a:r>
            <a:endParaRPr b="0" lang="en-US" sz="1800" spc="-1" strike="noStrike">
              <a:solidFill>
                <a:srgbClr val="ffffff"/>
              </a:solidFill>
              <a:latin typeface="Arial"/>
            </a:endParaRPr>
          </a:p>
          <a:p>
            <a:pPr lvl="2" marL="1440000" indent="-349560">
              <a:lnSpc>
                <a:spcPct val="9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RSA toolkits, webinars, video modules are available.</a:t>
            </a:r>
            <a:endParaRPr b="0" lang="en-US" sz="18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C296-5FB3-4789-83E3-DC7A63FE7BB7}"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1 (cont.)</a:t>
            </a:r>
            <a:endParaRPr b="1" lang="en-US" sz="4000" spc="-1" strike="noStrike">
              <a:solidFill>
                <a:srgbClr val="ffff00"/>
              </a:solidFill>
              <a:latin typeface="Arial"/>
            </a:endParaRPr>
          </a:p>
        </p:txBody>
      </p:sp>
      <p:sp>
        <p:nvSpPr>
          <p:cNvPr id="207" name=""/>
          <p:cNvSpPr txBox="1"/>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a more proactive approach for Medicaid agencies to assist Medicaid providers in achieving MU.</a:t>
            </a:r>
            <a:endParaRPr b="0" lang="en-US" sz="32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ocate for State HIE services, such as creating interfaces with laboratories and radiology facilitie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identification of business process improvements to help increase reimbursements as well as cost containment strategies to help reduce ongoing costs.</a:t>
            </a:r>
            <a:endParaRPr b="0" lang="en-US" sz="20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6541-EB0C-4AF4-A273-4CCB7441083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2</a:t>
            </a:r>
            <a:endParaRPr b="1" lang="en-US" sz="4000" spc="-1" strike="noStrike">
              <a:solidFill>
                <a:srgbClr val="ffff00"/>
              </a:solidFill>
              <a:latin typeface="Arial"/>
            </a:endParaRPr>
          </a:p>
        </p:txBody>
      </p:sp>
      <p:sp>
        <p:nvSpPr>
          <p:cNvPr id="210" name=""/>
          <p:cNvSpPr txBox="1"/>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t>
            </a:r>
            <a:r>
              <a:rPr b="0" lang="en-US" sz="3200" spc="-1" strike="noStrike">
                <a:solidFill>
                  <a:srgbClr val="ffffff"/>
                </a:solidFill>
                <a:latin typeface="Arial"/>
              </a:rPr>
              <a:t>more targeted, coordinated technical assistance tools, methods and processes for Stage 1 MU for Medicaid providers</a:t>
            </a:r>
            <a:endParaRPr b="0" lang="en-US" sz="32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 with EHR selection process, including explanation of EHR certification.</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ion on EHR capabilities and ways to optimize use in practice setting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assistance to optimize workflow, office set-up, and patient education.</a:t>
            </a:r>
            <a:endParaRPr b="0" lang="en-US" sz="20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29FF-DAAD-46D1-8686-241E7C886873}"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3</a:t>
            </a:r>
            <a:endParaRPr b="1" lang="en-US" sz="4000" spc="-1" strike="noStrike">
              <a:solidFill>
                <a:srgbClr val="ffff00"/>
              </a:solidFill>
              <a:latin typeface="Arial"/>
            </a:endParaRPr>
          </a:p>
        </p:txBody>
      </p:sp>
      <p:sp>
        <p:nvSpPr>
          <p:cNvPr id="213" name=""/>
          <p:cNvSpPr txBox="1"/>
          <p:nvPr/>
        </p:nvSpPr>
        <p:spPr>
          <a:xfrm>
            <a:off x="609120" y="1523880"/>
            <a:ext cx="7993080" cy="4267440"/>
          </a:xfrm>
          <a:prstGeom prst="rect">
            <a:avLst/>
          </a:prstGeom>
          <a:noFill/>
          <a:ln w="0">
            <a:noFill/>
          </a:ln>
        </p:spPr>
        <p:txBody>
          <a:bodyPr lIns="90360" rIns="90360" tIns="44280" bIns="44280" anchor="t">
            <a:normAutofit/>
          </a:bodyPr>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planning for the Stage 2 MU requirement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that helps achieve both Stage 1 and Stage 2, focused on:</a:t>
            </a:r>
            <a:endParaRPr b="0" lang="en-US" sz="28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ing clinical decision support rule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porating lab results as structured data</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ing online access for patients to view health information, and encouraging its us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ing clinical summaries</a:t>
            </a:r>
            <a:endParaRPr b="0" lang="en-US" sz="20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9F80-31DC-4071-AE74-58A25B07E04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ommendation 4</a:t>
            </a:r>
            <a:endParaRPr b="1" lang="en-US" sz="4000" spc="-1" strike="noStrike">
              <a:solidFill>
                <a:srgbClr val="ffff00"/>
              </a:solidFill>
              <a:latin typeface="Arial"/>
            </a:endParaRPr>
          </a:p>
        </p:txBody>
      </p:sp>
      <p:sp>
        <p:nvSpPr>
          <p:cNvPr id="216" name=""/>
          <p:cNvSpPr txBox="1"/>
          <p:nvPr/>
        </p:nvSpPr>
        <p:spPr>
          <a:xfrm>
            <a:off x="609120" y="1523880"/>
            <a:ext cx="7993080" cy="5029200"/>
          </a:xfrm>
          <a:prstGeom prst="rect">
            <a:avLst/>
          </a:prstGeom>
          <a:noFill/>
          <a:ln w="0">
            <a:noFill/>
          </a:ln>
        </p:spPr>
        <p:txBody>
          <a:bodyPr lIns="90360" rIns="90360" tIns="44280" bIns="44280" anchor="t">
            <a:normAutofit fontScale="96000"/>
          </a:bodyPr>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short- and long-term research agenda that addresses many of the sociocultural, technical and training/technical assistance needs of Medicaid providers, and other providers, that have been identified in this study</a:t>
            </a:r>
            <a:r>
              <a:rPr b="0" lang="en-US" sz="2800" spc="-1" strike="noStrike">
                <a:solidFill>
                  <a:srgbClr val="ffffff"/>
                </a:solidFill>
                <a:latin typeface="Arial"/>
              </a:rPr>
              <a:t>.</a:t>
            </a:r>
            <a:endParaRPr b="0" lang="en-US" sz="28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better ways to help providers “fit” systems to their practice needs and work flow</a:t>
            </a:r>
            <a:endParaRPr b="0" lang="en-US" sz="20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better ways to match TA (from RECs and others) to practice needs</a:t>
            </a:r>
            <a:endParaRPr b="0" lang="en-US" sz="20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best practices related to documentation</a:t>
            </a:r>
            <a:endParaRPr b="0" lang="en-US" sz="20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ination of current system utilization “work-arounds” to inform technology and/or work flow redesign</a:t>
            </a:r>
            <a:endParaRPr b="0" lang="en-US" sz="2000" spc="-1" strike="noStrike">
              <a:solidFill>
                <a:srgbClr val="ffffff"/>
              </a:solidFill>
              <a:latin typeface="Arial"/>
            </a:endParaRPr>
          </a:p>
          <a:p>
            <a:pPr lvl="2" marL="1382400" indent="-33552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ination of current system utilization “work-arounds” that may impact patient safety</a:t>
            </a:r>
            <a:endParaRPr b="0" lang="en-US" sz="20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36E2-4D25-41C3-966D-BA0486239A1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ne final thought</a:t>
            </a:r>
            <a:endParaRPr b="1" lang="en-US" sz="4000" spc="-1" strike="noStrike">
              <a:solidFill>
                <a:srgbClr val="ffff00"/>
              </a:solidFill>
              <a:latin typeface="Arial"/>
            </a:endParaRPr>
          </a:p>
        </p:txBody>
      </p:sp>
      <p:sp>
        <p:nvSpPr>
          <p:cNvPr id="219" name=""/>
          <p:cNvSpPr txBox="1"/>
          <p:nvPr/>
        </p:nvSpPr>
        <p:spPr>
          <a:xfrm>
            <a:off x="609120" y="1676160"/>
            <a:ext cx="7993080" cy="2895480"/>
          </a:xfrm>
          <a:prstGeom prst="rect">
            <a:avLst/>
          </a:prstGeom>
          <a:noFill/>
          <a:ln w="0">
            <a:noFill/>
          </a:ln>
        </p:spPr>
        <p:txBody>
          <a:bodyPr lIns="90360" rIns="90360" tIns="44280" bIns="44280" anchor="t">
            <a:normAutofit fontScale="83000"/>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eally there are still a lot of advantages to transitioning to an EMR. Always remember, “What are your headaches with the paper charts?” And if you always think about the problems you have with paper charts, keep those in mind when you’re banging your head against the wall during your training session…remember, “What were the problems with paper charts and why we want to change?” I always have to remind myself—why are we doing this again?”</a:t>
            </a:r>
            <a:endParaRPr b="0" lang="en-US" sz="2800" spc="-1" strike="noStrike">
              <a:solidFill>
                <a:srgbClr val="ffffff"/>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73E9-6E3E-487A-B358-8707B7D0310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0F87-75FF-4697-9D8D-AC0A68C08ECF}"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222"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7697-B307-46D7-AC37-4F5D76675E91}"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2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ussion</a:t>
            </a:r>
            <a:endParaRPr b="1" lang="en-US" sz="4000" spc="-1" strike="noStrike">
              <a:solidFill>
                <a:srgbClr val="ffff00"/>
              </a:solidFill>
              <a:latin typeface="Arial"/>
            </a:endParaRPr>
          </a:p>
        </p:txBody>
      </p:sp>
      <p:sp>
        <p:nvSpPr>
          <p:cNvPr id="224"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her Johnson-Skrivanek, Task Order Officer</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1"/>
              </a:rPr>
              <a:t>heather.johnson-skrivanek@ahrq.hhs.gov</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1-427-1569</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da Dimitropoulos, PhD</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2"/>
              </a:rPr>
              <a:t>lld@rti.org</a:t>
            </a:r>
            <a:endParaRPr b="0" lang="en-US" sz="2400" spc="-1" strike="noStrike">
              <a:solidFill>
                <a:srgbClr val="ffffff"/>
              </a:solidFill>
              <a:latin typeface="Arial"/>
            </a:endParaRPr>
          </a:p>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2-456-5246</a:t>
            </a:r>
            <a:endParaRPr b="0" lang="en-US" sz="2400" spc="-1" strike="noStrike">
              <a:solidFill>
                <a:srgbClr val="ffffff"/>
              </a:solidFill>
              <a:latin typeface="Arial"/>
            </a:endParaRPr>
          </a:p>
          <a:p>
            <a:pPr lvl="1" marL="4651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 report to be posted to AHRQ Web Site </a:t>
            </a:r>
            <a:r>
              <a:rPr b="0" lang="en-US" sz="2000" spc="-1" strike="noStrike" u="sng">
                <a:solidFill>
                  <a:srgbClr val="fafd00"/>
                </a:solidFill>
                <a:uFillTx/>
                <a:latin typeface="Arial"/>
                <a:hlinkClick r:id="rId3"/>
              </a:rPr>
              <a:t>http://healthit.ahrq.gov/Medicaid-SCHIP</a:t>
            </a:r>
            <a:endParaRPr b="0" lang="en-US" sz="2000" spc="-1" strike="noStrike">
              <a:solidFill>
                <a:srgbClr val="ffffff"/>
              </a:solidFill>
              <a:latin typeface="Arial"/>
            </a:endParaRPr>
          </a:p>
          <a:p>
            <a:pPr marL="4651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cus Group Participants</a:t>
            </a:r>
            <a:endParaRPr b="1" lang="en-US" sz="4000" spc="-1" strike="noStrike">
              <a:solidFill>
                <a:srgbClr val="ffff00"/>
              </a:solidFill>
              <a:latin typeface="Arial"/>
            </a:endParaRPr>
          </a:p>
        </p:txBody>
      </p:sp>
      <p:sp>
        <p:nvSpPr>
          <p:cNvPr id="105" name=""/>
          <p:cNvSpPr txBox="1"/>
          <p:nvPr/>
        </p:nvSpPr>
        <p:spPr>
          <a:xfrm>
            <a:off x="609120" y="1676160"/>
            <a:ext cx="7993080" cy="2895480"/>
          </a:xfrm>
          <a:prstGeom prst="rect">
            <a:avLst/>
          </a:prstGeom>
          <a:noFill/>
          <a:ln w="0">
            <a:noFill/>
          </a:ln>
        </p:spPr>
        <p:txBody>
          <a:bodyPr lIns="90360" rIns="90360" tIns="44280" bIns="44280" anchor="t">
            <a:normAutofit fontScale="93000"/>
          </a:bodyPr>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rs eligible for Medicaid EHR Incentive Program</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s: Physicians (particularly pediatricians), dentists, nurse practitioners, certified nurse midwives, and physician assistants who practice at an FQHC led by a PA</a:t>
            </a:r>
            <a:endParaRPr b="0" lang="en-US" sz="3200" spc="-1" strike="noStrike">
              <a:solidFill>
                <a:srgbClr val="ffffff"/>
              </a:solidFill>
              <a:latin typeface="Arial"/>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44AD-0D92-4649-B3EA-C057C780F875}"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108"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tion in Medicaid Incentive Program</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for the EHR incentive program (e.g., determining % Medicaid)</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 of incentive program on decision to adopt/implement/upgrade or use</a:t>
            </a:r>
            <a:endParaRPr b="0" lang="en-US" sz="2800" spc="-1" strike="noStrike">
              <a:solidFill>
                <a:srgbClr val="ffffff"/>
              </a:solidFill>
              <a:latin typeface="Arial"/>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E704-2CD9-45B5-9406-882750A26B0E}"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111" name=""/>
          <p:cNvSpPr txBox="1"/>
          <p:nvPr/>
        </p:nvSpPr>
        <p:spPr>
          <a:xfrm>
            <a:off x="609120" y="1676160"/>
            <a:ext cx="7993080" cy="2895480"/>
          </a:xfrm>
          <a:prstGeom prst="rect">
            <a:avLst/>
          </a:prstGeom>
          <a:noFill/>
          <a:ln w="0">
            <a:noFill/>
          </a:ln>
        </p:spPr>
        <p:txBody>
          <a:bodyPr lIns="90360" rIns="90360" tIns="44280" bIns="44280" anchor="t">
            <a:normAutofit fontScale="92000"/>
          </a:bodyPr>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 to A/I/U</a:t>
            </a:r>
            <a:endParaRPr b="0" lang="en-US" sz="32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ng or upgrading EHR</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ct of HIE capability on EHR adoption and use</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 of participation with REC or HCCN</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itioning from non-certified to certified EHR</a:t>
            </a:r>
            <a:endParaRPr b="0" lang="en-US" sz="2800" spc="-1" strike="noStrike">
              <a:solidFill>
                <a:srgbClr val="ffffff"/>
              </a:solidFill>
              <a:latin typeface="Arial"/>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A68D-E80C-42F9-902A-EA751C48A135}"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114" name=""/>
          <p:cNvSpPr txBox="1"/>
          <p:nvPr/>
        </p:nvSpPr>
        <p:spPr>
          <a:xfrm>
            <a:off x="609120" y="1676160"/>
            <a:ext cx="7993080" cy="2895480"/>
          </a:xfrm>
          <a:prstGeom prst="rect">
            <a:avLst/>
          </a:prstGeom>
          <a:noFill/>
          <a:ln w="0">
            <a:noFill/>
          </a:ln>
        </p:spPr>
        <p:txBody>
          <a:bodyPr lIns="90360" rIns="90360" tIns="44280" bIns="44280" anchor="t">
            <a:normAutofit fontScale="92000"/>
          </a:bodyPr>
          <a:p>
            <a:pPr marL="427680" indent="-4276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 to Achieving MU</a:t>
            </a:r>
            <a:endParaRPr b="0" lang="en-US" sz="32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tion by practitioner type</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 the objectives</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es related to specific EHR functions</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with structured data</a:t>
            </a:r>
            <a:endParaRPr b="0" lang="en-US" sz="2800" spc="-1" strike="noStrike">
              <a:solidFill>
                <a:srgbClr val="ffffff"/>
              </a:solidFill>
              <a:latin typeface="Arial"/>
            </a:endParaRPr>
          </a:p>
          <a:p>
            <a:pPr lvl="1" marL="898200" indent="-3646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riers unique to Medicaid providers</a:t>
            </a:r>
            <a:endParaRPr b="0" lang="en-US" sz="2800" spc="-1" strike="noStrike">
              <a:solidFill>
                <a:srgbClr val="ffffff"/>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F62D-1043-4F62-8144-6C9352879DF9}"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cus Group Configuration</a:t>
            </a:r>
            <a:endParaRPr b="1" lang="en-US" sz="3600" spc="-1" strike="noStrike">
              <a:solidFill>
                <a:srgbClr val="ffff00"/>
              </a:solidFill>
              <a:latin typeface="Arial"/>
            </a:endParaRPr>
          </a:p>
        </p:txBody>
      </p:sp>
      <p:sp>
        <p:nvSpPr>
          <p:cNvPr id="117" name=""/>
          <p:cNvSpPr txBox="1"/>
          <p:nvPr/>
        </p:nvSpPr>
        <p:spPr>
          <a:xfrm>
            <a:off x="609120" y="1676160"/>
            <a:ext cx="7993080" cy="2895480"/>
          </a:xfrm>
          <a:prstGeom prst="rect">
            <a:avLst/>
          </a:prstGeom>
          <a:noFill/>
          <a:ln w="0">
            <a:noFill/>
          </a:ln>
        </p:spPr>
        <p:txBody>
          <a:bodyPr lIns="90360" rIns="90360" tIns="44280" bIns="44280" anchor="t">
            <a:normAutofit fontScale="86000"/>
          </a:bodyPr>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 focus groups (3 in-person, 14 virtual)</a:t>
            </a: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8 participants from 9 states</a:t>
            </a: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jority private practice and urban</a:t>
            </a: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arly 50% solo practitioners</a:t>
            </a: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s many dentists and FQHC/CHC staff participated as targeted</a:t>
            </a:r>
            <a:endParaRPr b="0" lang="en-US" sz="3200" spc="-1" strike="noStrike">
              <a:solidFill>
                <a:srgbClr val="ffffff"/>
              </a:solidFill>
              <a:latin typeface="Arial"/>
            </a:endParaRPr>
          </a:p>
          <a:p>
            <a:pPr marL="399960" indent="-3999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99960" indent="-3999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82D7-C52B-4478-BD07-EB210619D333}"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
        <p:nvSpPr>
          <p:cNvPr id="119" name="Rectangle 1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7617-2C4C-45D4-BDA6-9F6778DE7EC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a:t>
            </a:r>
            <a:r>
              <a:rPr b="1" lang="en-US" sz="3600" spc="-1" strike="noStrike">
                <a:solidFill>
                  <a:srgbClr val="ffff00"/>
                </a:solidFill>
                <a:latin typeface="Arial"/>
              </a:rPr>
              <a:t>Findings</a:t>
            </a:r>
            <a:endParaRPr b="1" lang="en-US" sz="3600" spc="-1" strike="noStrike">
              <a:solidFill>
                <a:srgbClr val="ffff00"/>
              </a:solidFill>
              <a:latin typeface="Arial"/>
            </a:endParaRPr>
          </a:p>
        </p:txBody>
      </p:sp>
      <p:sp>
        <p:nvSpPr>
          <p:cNvPr id="121" name=""/>
          <p:cNvSpPr txBox="1"/>
          <p:nvPr/>
        </p:nvSpPr>
        <p:spPr>
          <a:xfrm>
            <a:off x="609120" y="1676160"/>
            <a:ext cx="7993080" cy="38862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me of reference…</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aimed at teasing out barriers, so findings are often negativ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comments highlighted where they refuted a potential barrie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both positive experiences and challenges in using specific EHR functions noted in the report</a:t>
            </a:r>
            <a:endParaRPr b="0" lang="en-US" sz="2800" spc="-1" strike="noStrike">
              <a:solidFill>
                <a:srgbClr val="ffffff"/>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A16A-ADFF-4A3A-B638-B35C85925E88}" type="slidenum">
              <a:rPr b="0" lang="en-US" sz="1400" spc="-1" strike="noStrike">
                <a:solidFill>
                  <a:srgbClr val="ffffff"/>
                </a:solidFill>
                <a:latin typeface="Franklin Gothic Book"/>
              </a:rPr>
              <a:t>&lt;number&gt;</a:t>
            </a:fld>
            <a:endParaRPr b="0"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5:09:13Z</dcterms:created>
  <dc:creator>Linda Dimitropoulos</dc:creator>
  <dc:description/>
  <dc:language>en-US</dc:language>
  <cp:lastModifiedBy>Linda Dimitropoulos</cp:lastModifiedBy>
  <cp:lastPrinted>2012-09-09T02:36:40Z</cp:lastPrinted>
  <dcterms:modified xsi:type="dcterms:W3CDTF">2012-09-10T11:27:39Z</dcterms:modified>
  <cp:revision>488</cp:revision>
  <dc:subject/>
  <dc:title>Slide 1</dc:title>
</cp:coreProperties>
</file>