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87280" y="701280"/>
            <a:ext cx="4646880" cy="34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283080" y="8905680"/>
            <a:ext cx="937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ctr">
            <a:sp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40BCA81-0C9B-45A5-98ED-E78907D4C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111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8195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esity, Medication Use and Expenditures among Nonelderly Adults with Asthm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920" y="3962520"/>
            <a:ext cx="67737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ic M. Sarp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Confere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10, 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4688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mmary: Differences in Treated Prevalence and Medication Use by BMI Categori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ong nonelderly adults with reported treatment for asthm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2.5% percent were obese, 27.7% were overweight, and 29.9% were normal weigh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ese patients were prescribed 1.8 asthma medicines on average compared with 1.7 for normal weight pati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ese patients filled 40.4 prescribed medications on average compared with 26.1 for overweight patients and 23.7 for normal weight patient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54552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penditures for Adults with Treatment for Asthma by BMI Categori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380880" y="571500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MEPS, 2005–2009. BMI = Body mass index (normal weight: 18.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gt; BMI ≤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 overweight: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lt; BMI &lt; 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and obese: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≥ BMI ≤ 10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). All expenditures for all years are CPI-U adjusted to 2009 U.S. dollars. Estimate is significantly different from normal weight category at: ** p&lt;0.05, *p&lt;0.10. Estimate is significantly different from overweight category at: †† p&lt;0.05, †p&lt;0.1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Chart 6" descr=""/>
          <p:cNvPicPr/>
          <p:nvPr/>
        </p:nvPicPr>
        <p:blipFill>
          <a:blip r:embed="rId1"/>
          <a:stretch/>
        </p:blipFill>
        <p:spPr>
          <a:xfrm>
            <a:off x="682560" y="1444680"/>
            <a:ext cx="77788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4688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mmary: Differences in Medications and Total Health Care Expenditures by BMI Categori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nonelderly adults with reported treatment for asth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sthma medications expenditures were 19.3 percent higher for obese patients ($867) compared with those for normal weight patients ($726)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ll prescribed medication expenditures were more than 40 percent higher for obese patients ($3,251) than those for overweight patients ($2,243) and normal weight patients ($2,019)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tal health care expenditures were about 30 percent higher for obese patients ($9,750) than those for overweight patients ($7,468) and normal weight patients ($7,486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468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lected Characteristics of Nonelderly Adults with Reported Treatment for Asthma by BMI Categori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57200" y="6095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: MEPS, 2005–2009. BMI = Body mass index (normal weight: 18.5 k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&gt; BMI ≤ 25 k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; overweight: 25 k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&lt; BMI &lt; 30 k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, and obese: 30 k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≥ BMI ≤ 100 k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). ). NH = non-Hispanic; FPL = Federal poverty line. Estimate is significantly different from normal weight category at: ** p&lt;0.05, *p&lt;0.10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1371600"/>
          <a:ext cx="7620120" cy="4572000"/>
        </p:xfrm>
        <a:graphic>
          <a:graphicData uri="http://schemas.openxmlformats.org/drawingml/2006/table">
            <a:tbl>
              <a:tblPr/>
              <a:tblGrid>
                <a:gridCol w="2140200"/>
                <a:gridCol w="1523880"/>
                <a:gridCol w="1392120"/>
                <a:gridCol w="146160"/>
                <a:gridCol w="1171440"/>
                <a:gridCol w="147600"/>
                <a:gridCol w="1098720"/>
              </a:tblGrid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riab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rmal weigh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verweigh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e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e in year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 to 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.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.77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.62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 to 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.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.23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.38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ce-ethnicity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H Whi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.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.03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H Blac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.23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span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.74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alth insurance status: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y priva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.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.17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blic onl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.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.00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nsur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mily income (% of FPL)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ddle/high income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.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.58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inc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.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.30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or/near po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.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.12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ital statu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 marri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.63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.10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ri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.37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.90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ived health statu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cellent/very good/goo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.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.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.98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ir/poo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.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.02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orbidity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 comorbid condi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.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.67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.23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orbid condi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.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.33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.77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46884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mmary: Selected Characteristics of Nonelderly Adults with Reported Treatment for Asthma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ong nonelderly adults with reported treatment for asthm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e adults were more likely than normal weight adul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older (ages 45-64), NH Black and Hispanic, covered by public insurance, poor and low income, married, in fair or poor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ave comorbid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6468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ffects of BMI on Medication Use and Expenditures.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457200" y="525780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MEPS, 2005–2009. ‡ Differences in observed and predicted changes in BMI categories on outcomes. (a) GLM with Poisson family and log link; (b) GLM with gamma family and power link; (c) GLM with gamma family and log link. BMI = Body mass index (normal weight: 18.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gt; BMI ≤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 overweight: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lt; BMI &lt; 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and obese: 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≥ BMI ≤ 10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). NH = non-Hispanic; FPL = Federal poverty line. All expenditures for all years are CPI-U adjusted to 2009 U.S. dollars. GLM Models are estimated with controls for age, sex, race-ethnicity, health insurance, family income, employment status, marital status, family size, health status, comorbidities, medication beliefs and year dummies. Significance level: *** p&lt;0.01, ** p&lt;0.05, *p&lt;0.1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1676520"/>
          <a:ext cx="8534160" cy="3429000"/>
        </p:xfrm>
        <a:graphic>
          <a:graphicData uri="http://schemas.openxmlformats.org/drawingml/2006/table">
            <a:tbl>
              <a:tblPr/>
              <a:tblGrid>
                <a:gridCol w="2590560"/>
                <a:gridCol w="1219320"/>
                <a:gridCol w="76320"/>
                <a:gridCol w="1187280"/>
                <a:gridCol w="108000"/>
                <a:gridCol w="1219320"/>
                <a:gridCol w="75960"/>
                <a:gridCol w="1148040"/>
                <a:gridCol w="101520"/>
                <a:gridCol w="807840"/>
              </a:tblGrid>
              <a:tr h="3823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dication U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penditure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erfactual BMI categories 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thma Medications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 Medications 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thma Medications 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 Medications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alth Care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c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verweight as normal weight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.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ese as normal weight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07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2.09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93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992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433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ese as overweight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.20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9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29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073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468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erpretation of Effects of BMI on Outcome Variabl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udy finds that, controlling for other socio-demographic, economic and health characteristi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obese nonelderly adults were counterfactually switched to normal weight or overw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ean number of all prescribed medication would decrease by 12.1 and 10.2 fill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penditures on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thma medications would decrease by $93 and $89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 prescribed medications would decrease by $992 and $82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tal health care would decrease by $2,433 and $2,07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6468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ffects of Selected Characteristic on Medication Use and Expenditures.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57200" y="56386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MEPS, 2005–2009. ‡Marginal effects of characteristics  on outcomes: (a) GLM with Poisson family and log link; (b) GLM with gamma family and power link; (c) GLM with gamma family and log link. BMI = Body mass index (normal weight: 18.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gt; BMI ≤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 overweight: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lt; BMI &lt; 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and obese: 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≥ BMI ≤ 10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). NH = non-Hispanic; FPL = Federal poverty line. All expenditures for all years are CPI-U adjusted to 2009 U.S. dollars. GLM Models are estimated with controls for age, sex, race-ethnicity, health insurance, family income, employment status, marital status, family size, health status, comorbidities, medication beliefs and year dummies. Significance level: *** p&lt;0.01, ** p&lt;0.05, *p&lt;0.1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1447920"/>
          <a:ext cx="8459640" cy="4197240"/>
        </p:xfrm>
        <a:graphic>
          <a:graphicData uri="http://schemas.openxmlformats.org/drawingml/2006/table">
            <a:tbl>
              <a:tblPr/>
              <a:tblGrid>
                <a:gridCol w="1854360"/>
                <a:gridCol w="1444320"/>
                <a:gridCol w="104760"/>
                <a:gridCol w="1168560"/>
                <a:gridCol w="104760"/>
                <a:gridCol w="1455840"/>
                <a:gridCol w="104760"/>
                <a:gridCol w="1152360"/>
                <a:gridCol w="106560"/>
                <a:gridCol w="963360"/>
              </a:tblGrid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dication Us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penditures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riabl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thma Medications</a:t>
                      </a:r>
                      <a:r>
                        <a:rPr b="1" lang="en-US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 Medications </a:t>
                      </a:r>
                      <a:r>
                        <a:rPr b="1" lang="en-US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thma Medications </a:t>
                      </a:r>
                      <a:r>
                        <a:rPr b="1" lang="en-US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 Medications</a:t>
                      </a:r>
                      <a:r>
                        <a:rPr b="1" lang="en-US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alth Care</a:t>
                      </a:r>
                      <a:r>
                        <a:rPr b="1" lang="en-US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c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e in years (18 to 44)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 to 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9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27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5.83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8.79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27.08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ce-ethnicity (NH Whit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H Blac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18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.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62.61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84.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560.63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sp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24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.08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537.94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729.56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971.89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alth insurance status (Any private)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blic onl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84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5.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1.58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335.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nsure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28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7.23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32.37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31.39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6363.33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mily income (% of FPL)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iddle/high income)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or/near poo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.81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51.12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68.25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192.58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ived health status (Excellent/very good/ good)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ir/poor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0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.08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3.27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45.48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57.14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orbidity (No comorbid condition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orbid condi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.95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6.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85.90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50.94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468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Interpretation of Marginal Effects of Characteristics on Outcome Variables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9930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al characteristics were significantly related to the outcome vari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45-64 and fair or poor health status incr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cted number of asthma medications and all prescribed medication f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nditures for asthma medication, all prescribed medications and total health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NH Black and Hispanic race-ethnicity decr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cted number of all prescribed medication f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nditures for asthma medication, all prescribed medications and total health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public insurance and low income incr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cted number of all prescribed medication fills and corresponding expendi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rbid conditions incre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cted number of all prescribed medication fills, and expenditures for all prescribed medications and total health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mit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7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MI calculated using self-reported measures of height and weigh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y result in underestimate of the true effects of BMI on medication use and expenditur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7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mitted variables and residual confounding effects cannot be exclu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.g., asthma severity may play a critical role in the effects of BMI on medication use and expendit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ults may change if severity differs across  BMI grou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7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lusion of comorbidities – an intermediate pathway through which BMI affects health services use and expenditures may  affect resul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7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n-causal regression mod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valence of asthma in adults – chronic and complex health condition increased over the past deca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Zahran et al., 20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valence of obesity, an important risk factor for asthma remains hi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gden et al., 201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thma more difficult to control in obese asthma pati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Lavoie et al., 2006 Saint-Pierre et al., 2006 Dixon et al.,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th conditions result in increased resource use and co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imated healthcare costs of asthma in the U.S. - $18 billi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ullivan et al., 201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8 estimated  healthcare costs of obesity in the U.S. - $147 billi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Finkelstein  et al., 200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esence of obesity in asthma patients may exacerbate medication use and expendit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monstrates that obesity is associated with increased medication use and expenditures in nonelderly adults with asth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variate analysis showed that counterfactually switching obese nonelderly adults to normal weight would decrease medication use and expendi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ica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e appears to be an association between obesity and high costs of care for the treatment of asth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study suggest maintaining a normal weight could reduce both asthma related and overall health care costs for nonelderly adults with asth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392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Research Objective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insights on the role of obesity in generating health resource use and costs for asthma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used nationally representative data on nonelderly adults with treatment for asthma to examine the relationship between obesity an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hma medication and all prescribed med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di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hma medication, all prescribed medications and total health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vious Litera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 between asthma and obesity well documen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Ford, 2005; Shore and Johnston, 2006; Shore, 2006, 2007, 2008; Dixon et al.,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studies in the U.S., however, have examined the contribution of obesity to increased medication use and expenditures in adult asthma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aylor et al (2008): obese asthma patients had increased medication use compared to non-overweight asthma patients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sen et al (2008): obese individuals more likely to report use of oral corticosteroid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h et al (2011) estimated medical costs attributable to obesity in asthma patients - $1,08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ibu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ious literature limi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administrative claims data, key variables unavailable or uses regional samp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ses do not examine the use of all prescribed medications in addition to asthma medic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ious studies differ from this study on a number of dimen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75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periods  and population (e.g., ≥ 18 years, ≥ 35 years, patients with diagnosed asth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75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ree to which confounding variables  are controlled for across  bodyweight categ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tudy uses regression-based modeling approaches to help inform policymakers about  how obesity exacerbates medication use and expendi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468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ta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5-2009 Medical Expenditure Panel Survey (M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tionally representative data on U.S. civilian non-institutionalized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tailed information on drug therapeutic classifications, quantities purchased, and sources of payment (OOP payments and private and public insurance paymen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information on health conditions, economic and socio-demographic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tical sample of adults (ages 18-64) with reported treatment for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ported treatment implies health service use associated with asthm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ple of 3,580 (964 = normal weight: 18.5 kg/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&gt; BMI ≤ 25 kg/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; 985 overweight: 25 kg/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&lt; BMI &lt; 30 kg/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and 1,631 obese: 30 kg/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≥ BMI ≤ 100 kg/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316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alytic Approach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differences in treated prevalence of asthma, medication use and expenditures by BMI 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generalized linear models (GLM) to estimate the effects of BMI categories 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asthma and all prescribed medications used (Poisson family and log link fun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hma and all prescribed medications expenditures (gamma family and power link funct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health care expenditures (gamma family and log link fun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GLM estimates control for age, sex, race-ethnicity, health insurance, family income, employment status, marital status, family size, health status, comorbidities, medication 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s  of BMI presented as differences in observed and predicted 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s of Characteristics presented as marginal eff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Nonelderly Adults with Treatment for Asthma by BMI Categories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457200" y="5791320"/>
            <a:ext cx="80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MEPS, 2005–2009. BMI = Body mass index (normal weight: 18.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gt; BMI ≤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 overweight: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lt; BMI &lt; 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and obese: 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≥ BMI ≤ 10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). Estimate is significantly different from normal weight category at: ** p&lt;0.05, *p&lt;0.10. Estimate is significantly different from overweight category at: †† p&lt;0.05, †p&lt;0.1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Chart 4" descr=""/>
          <p:cNvPicPr/>
          <p:nvPr/>
        </p:nvPicPr>
        <p:blipFill>
          <a:blip r:embed="rId1"/>
          <a:stretch/>
        </p:blipFill>
        <p:spPr>
          <a:xfrm>
            <a:off x="1292400" y="1517760"/>
            <a:ext cx="70164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Medication Use Among Adults With Treatment for Asthma by BMI Categories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609480" y="58672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MEPS, 2005–2009. BMI = Body mass index (normal weight: 18.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gt; BMI ≤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 overweight: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lt; BMI &lt; 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and obese: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≥ BMI ≤ 10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). Estimate is significantly different from normal weight category at: ** p&lt;0.05, *p&lt;0.10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Chart 5" descr=""/>
          <p:cNvPicPr/>
          <p:nvPr/>
        </p:nvPicPr>
        <p:blipFill>
          <a:blip r:embed="rId1"/>
          <a:stretch/>
        </p:blipFill>
        <p:spPr>
          <a:xfrm>
            <a:off x="755640" y="1517760"/>
            <a:ext cx="76327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Eric M. Sarpong</dc:creator>
  <dc:description>9/20/11</dc:description>
  <cp:keywords>Childhood Asthma Treatment Use Expenditures</cp:keywords>
  <dc:language>en-US</dc:language>
  <cp:lastModifiedBy>Eric Sarpong</cp:lastModifiedBy>
  <cp:lastPrinted>2003-01-21T20:19:23Z</cp:lastPrinted>
  <dcterms:modified xsi:type="dcterms:W3CDTF">2012-09-13T15:59:06Z</dcterms:modified>
  <cp:revision>1604</cp:revision>
  <dc:subject>Asthma</dc:subject>
  <dc:title>Racial and Ethnic Disparities in Childhood Asthma Treatment and Outcomes</dc:title>
</cp:coreProperties>
</file>