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87280" y="701280"/>
            <a:ext cx="4646880" cy="34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83080" y="8905680"/>
            <a:ext cx="93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ctr">
            <a:sp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7C3386-FB70-492B-BBA4-E34F75299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6720" y="44175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8195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esity, Medication Use and Expenditures among Nonelderly Adults with Asthm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773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 M. Sarp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Confer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10,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468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: Differences in Treated Prevalence and Medication Use by BMI Categor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ong nonelderly adults with reported treatment for asthm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2.5% percent were obese, 27.7% were overweight, and 29.9% were normal weigh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ese patients were prescribed 1.8 asthma medicines on average compared with 1.7 for normal weight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ese patients filled 40.4 prescribed medications on average compared with 26.1 for overweight patients and 23.7 for normal weight patient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545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penditures for Adults with Treatment for Asthma by BMI Categor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80880" y="571500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All expenditures for all years are CPI-U adjusted to 2009 U.S. dollars. Estimate is significantly different from normal weight category at: ** p&lt;0.05, *p&lt;0.10. Estimate is significantly different from overweight category at: †† p&lt;0.05, †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Chart 6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77788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468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: Differences in Medications and Total Health Care Expenditures by BMI Categori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nonelderly adults with reported treatment for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sthma medications expenditures were 19.3 percent higher for obese patients ($867) compared with those for normal weight patients ($726)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l prescribed medication expenditures were more than 40 percent higher for obese patients ($3,251) than those for overweight patients ($2,243) and normal weight patients ($2,019)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tal health care expenditures were about 30 percent higher for obese patients ($9,750) than those for overweight patients ($7,468) and normal weight patients ($7,486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ected Characteristics of Nonelderly Adults with Reported Treatment for Asthma by BMI Categori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57200" y="60958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). ). NH = non-Hispanic; FPL = Federal poverty line. Estimate is significantly different from normal weight category at: ** p&lt;0.05, *p&lt;0.10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371600"/>
          <a:ext cx="7620120" cy="4572000"/>
        </p:xfrm>
        <a:graphic>
          <a:graphicData uri="http://schemas.openxmlformats.org/drawingml/2006/table">
            <a:tbl>
              <a:tblPr/>
              <a:tblGrid>
                <a:gridCol w="2140200"/>
                <a:gridCol w="1523880"/>
                <a:gridCol w="1392120"/>
                <a:gridCol w="146160"/>
                <a:gridCol w="1171440"/>
                <a:gridCol w="147600"/>
                <a:gridCol w="1098720"/>
              </a:tblGrid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ab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 weigh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weigh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e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 in year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 to 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.7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.62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 to 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.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.2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.38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ce-ethnicity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 Wh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0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 Bl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2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span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74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insurance status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y priv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1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 onl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.0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nsur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mily income (% of FPL)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ddle/high income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.58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w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3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r/near po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12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tal statu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t marr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.6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.1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ri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.3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.90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ived health statu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cellent/very good/g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.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98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ir/po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.02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ity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comorbid cond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.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.6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2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 cond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.33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.77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mmary: Selected Characteristics of Nonelderly Adults with Reported Treatment for Asthm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mong nonelderly adults with reported treatment for asth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ese adults were more likely than normal weight adul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lder (ages 45-64), NH Black and Hispanic, covered by public insurance, poor and low income, married, in fair or poor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ave comorbid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fects of BMI on Medication Use and Expenditur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457200" y="525780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MEPS, 2005–2009. ‡ Differences in observed and predicted changes in BMI categories on outcomes. (a) GLM with Poisson family and log link; (b) GLM with gamma family and power link; (c) GLM with gamma family and log link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NH = non-Hispanic; FPL = Federal poverty line. All expenditures for all years are CPI-U adjusted to 2009 U.S. dollars. GLM Models are estimated with controls for age, sex, race-ethnicity, health insurance, family income, employment status, marital status, family size, health status, comorbidities, medication beliefs and year dummies. Significance level: *** p&lt;0.01, ** p&lt;0.05, *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676520"/>
          <a:ext cx="8534160" cy="3429000"/>
        </p:xfrm>
        <a:graphic>
          <a:graphicData uri="http://schemas.openxmlformats.org/drawingml/2006/table">
            <a:tbl>
              <a:tblPr/>
              <a:tblGrid>
                <a:gridCol w="2590560"/>
                <a:gridCol w="1219320"/>
                <a:gridCol w="76320"/>
                <a:gridCol w="1187280"/>
                <a:gridCol w="108000"/>
                <a:gridCol w="1219320"/>
                <a:gridCol w="75960"/>
                <a:gridCol w="1148040"/>
                <a:gridCol w="101520"/>
                <a:gridCol w="807840"/>
              </a:tblGrid>
              <a:tr h="382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cation U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nditur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erfactual BMI categories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Care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c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weight as normal weight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ese as normal weight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7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.09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3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92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433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ese as overweight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.20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29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73*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pretation of Effects of BMI on Outcome Variabl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y finds that, controlling for other socio-demographic, economic and health characteristi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obese nonelderly adults were counterfactually switched to normal weight or overw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ean number of all prescribed medication would decrease by 12.1 and 10.2 fil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enditures o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thma medications would decrease by $93 and $89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 prescribed medications would decrease by $992 and $82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tal health care would decrease by $2,433 and $2,07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ffects of Selected Characteristic on Medication Use and Expenditur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57200" y="56386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MEPS, 2005–2009. ‡Marginal effects of characteristics  on outcomes: (a) GLM with Poisson family and log link; (b) GLM with gamma family and power link; (c) GLM with gamma family and log link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NH = non-Hispanic; FPL = Federal poverty line. All expenditures for all years are CPI-U adjusted to 2009 U.S. dollars. GLM Models are estimated with controls for age, sex, race-ethnicity, health insurance, family income, employment status, marital status, family size, health status, comorbidities, medication beliefs and year dummies. Significance level: *** p&lt;0.01, ** p&lt;0.05, *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447920"/>
          <a:ext cx="8459640" cy="4197240"/>
        </p:xfrm>
        <a:graphic>
          <a:graphicData uri="http://schemas.openxmlformats.org/drawingml/2006/table">
            <a:tbl>
              <a:tblPr/>
              <a:tblGrid>
                <a:gridCol w="1854360"/>
                <a:gridCol w="1444320"/>
                <a:gridCol w="104760"/>
                <a:gridCol w="1168560"/>
                <a:gridCol w="104760"/>
                <a:gridCol w="1455840"/>
                <a:gridCol w="104760"/>
                <a:gridCol w="1152360"/>
                <a:gridCol w="106560"/>
                <a:gridCol w="963360"/>
              </a:tblGrid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cation Us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nditures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riabl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 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thma Medications 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l Medications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Care</a:t>
                      </a:r>
                      <a:r>
                        <a:rPr b="1" lang="en-US" sz="1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c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 in years (18 to 44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 to 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27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5.83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8.7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27.0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ce-ethnicity (NH Whit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 Blac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8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.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62.6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84.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60.63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ispan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2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.0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537.9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729.56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971.8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alth insurance status (Any private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blic onl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8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5.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1.5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335.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nsur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2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7.23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32.37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31.3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6363.33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mily income (% of FPL)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Middle/high income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or/near po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.8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1.12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68.25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192.58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ceived health status (Excellent/very good/ good)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ir/poor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0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.0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3.27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5.4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57.1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ity (No comorbid condition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orbid condi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.95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85.90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50.94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Interpretation of Marginal Effects of Characteristics on Outcome Variables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characteristics were significantly related to the outcome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45-64 and fair or poor health status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sthma medications and all prescribed medication f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ditures for asthma medication,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NH Black and Hispanic race-ethnicity de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ll prescribed medication f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ditures for asthma medication,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public insurance and low income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ll prescribed medication fills and corresponding expendi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rbid conditions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number of all prescribed medication fills, and expenditures for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MI calculated using self-reported measures of height and weigh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y result in underestimate of the true effects of BMI on medication use and expenditur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mitted variables and residual confounding effects cannot be exclu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.g., asthma severity may play a critical role in the effects of BMI on medication use and expendi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ults may change if severity differs across  BMI grou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lusion of comorbidities – an intermediate pathway through which BMI affects health services use and expenditures may  affect resul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n-causal regression mod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valence of asthma in adults – chronic and complex health condition increased over the past deca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Zahran et al., 20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valence of obesity, an important risk factor for asthma remains hi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gden et al., 20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thma more difficult to control in obese asthma pati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avoie et al., 2006 Saint-Pierre et al., 2006 Dixon et al.,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conditions result in increased resource use and co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imated healthcare costs of asthma in the U.S. - $18 billi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ullivan et al., 201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8 estimated  healthcare costs of obesity in the U.S. - $147 billi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Finkelstein  et al., 200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esence of obesity in asthma patients may exacerbate medication use and expendi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monstrates that obesity is associated with increased medication use and expenditures in nonelderly adults with asth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variate analysis showed that counterfactually switching obese nonelderly adults to normal weight would decrease medication use and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ca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appears to be an association between obesity and high costs of care for the treatment of asth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tudy suggest maintaining a normal weight could reduce both asthma related and overall health care costs for nonelderly adults with asth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Research Objective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nsights on the role of obesity in generating health resource use and costs for asthma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used nationally representative data on nonelderly adults with treatment for asthma to examine the relationship between obesity an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medication and all prescribed med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medication, all prescribed medications and total 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ious Litera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between asthma and obesity well documen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ord, 2005; Shore and Johnston, 2006; Shore, 2006, 2007, 2008; Dixon et al.,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udies in the U.S., however, have examined the contribution of obesity to increased medication use and expenditures in adult asthma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ylor et al (2008): obese asthma patients had increased medication use compared to non-overweight asthma patients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en et al (2008): obese individuals more likely to report use of oral corticosteroid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h et al (2011) estimated medical costs attributable to obesity in asthma patients - $1,08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ib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literature limi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dministrative claims data, key variables unavailable or uses regional samp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es do not examine the use of all prescribed medications in addition to asthma med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ious studies differ from this study on a number of dimen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periods  and population (e.g., ≥ 18 years, ≥ 35 years, patients with diagnosed asth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ee to which confounding variables  are controlled for across  bodyweight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tudy uses regression-based modeling approaches to help inform policymakers about  how obesity exacerbates medication use and expendi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-2009 Medical Expenditure Panel Survey (M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ionally representative data on U.S. civilian non-institutionalized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tailed information on drug therapeutic classifications, quantities purchased, and sources of payment (OOP payments and private and public insurance payme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information on health conditions, economic and socio-demographic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tical sample of adults (ages 18-64) with reported treatment for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orted treatment implies health service use associated with asthm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ple of 3,580 (964 = normal weight: 18.5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&gt; BMI ≤ 25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 985 overweight: 25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&lt; BMI &lt; 30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and 1,631 obese: 30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≥ BMI ≤ 100 kg/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316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tic Approach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differences in treated prevalence of asthma, medication use and expenditures by BMI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generalized linear models (GLM) to estimate the effects of BMI categories 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asthma and all prescribed medications used (Poisson family and log link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and all prescribed medications expenditures (gamma family and power link func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health care expenditures (gamma family and log link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LM estimates control for age, sex, race-ethnicity, health insurance, family income, employment status, marital status, family size, health status, comorbidities, medicatio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 of BMI presented as differences in observed and predicted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s of Characteristics presented as marginal eff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Nonelderly Adults with Treatment for Asthma by BMI Categories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57200" y="579132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Estimate is significantly different from normal weight category at: ** p&lt;0.05, *p&lt;0.10. Estimate is significantly different from overweight category at: †† p&lt;0.05, †p&lt;0.1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hart 4" descr=""/>
          <p:cNvPicPr/>
          <p:nvPr/>
        </p:nvPicPr>
        <p:blipFill>
          <a:blip r:embed="rId1"/>
          <a:stretch/>
        </p:blipFill>
        <p:spPr>
          <a:xfrm>
            <a:off x="1292400" y="1517760"/>
            <a:ext cx="70164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Medication Use Among Adults With Treatment for Asthma by BMI Categories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09480" y="58672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MEPS, 2005–2009. BMI = Body mass index (normal weight: 18.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gt; BMI ≤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 overweight: 25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&lt; BMI &lt; 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and obese:3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≥ BMI ≤ 100 k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). Estimate is significantly different from normal weight category at: ** p&lt;0.05, *p&lt;0.10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Chart 5" descr=""/>
          <p:cNvPicPr/>
          <p:nvPr/>
        </p:nvPicPr>
        <p:blipFill>
          <a:blip r:embed="rId1"/>
          <a:stretch/>
        </p:blipFill>
        <p:spPr>
          <a:xfrm>
            <a:off x="755640" y="1517760"/>
            <a:ext cx="76327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Eric M. Sarpong</dc:creator>
  <dc:description>9/20/11</dc:description>
  <cp:keywords>Childhood Asthma Treatment Use Expenditures</cp:keywords>
  <dc:language>en-US</dc:language>
  <cp:lastModifiedBy>Eric Sarpong</cp:lastModifiedBy>
  <cp:lastPrinted>2003-01-21T20:19:23Z</cp:lastPrinted>
  <dcterms:modified xsi:type="dcterms:W3CDTF">2012-09-13T15:59:06Z</dcterms:modified>
  <cp:revision>1604</cp:revision>
  <dc:subject>Asthma</dc:subject>
  <dc:title>Racial and Ethnic Disparities in Childhood Asthma Treatment and Outcomes</dc:title>
</cp:coreProperties>
</file>