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6680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33280" y="693360"/>
            <a:ext cx="459252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123960" y="88023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64B06-D505-48A8-97A3-22382B40A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6680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2382-4DC7-43BF-AACD-7497FA5ED585}" type="slidenum"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5080" y="6937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448-8D74-4139-82DB-6234F937EA0F}" type="slidenum"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5080" y="6937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D70D-1E71-4EE6-8932-6E2B98B49011}" type="slidenum"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5080" y="6937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437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Insurance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plication of ACA Definitions in 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Linked Employee-Employer Data S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773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. Edward M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mas M. Sel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sica P. Vist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Conference September 10,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tion of establishments,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workers' family income, 2010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76520"/>
          <a:ext cx="8077320" cy="3181320"/>
        </p:xfrm>
        <a:graphic>
          <a:graphicData uri="http://schemas.openxmlformats.org/drawingml/2006/table">
            <a:tbl>
              <a:tblPr/>
              <a:tblGrid>
                <a:gridCol w="2895840"/>
                <a:gridCol w="1676160"/>
                <a:gridCol w="1676520"/>
                <a:gridCol w="182880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Offering E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ot Off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Offering E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Total estabs 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jority of workers wi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ercent of Establish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g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52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l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7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5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139 to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7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5"/>
          <p:cNvSpPr/>
          <p:nvPr/>
        </p:nvSpPr>
        <p:spPr>
          <a:xfrm>
            <a:off x="609480" y="518148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establishment weights.  We did not estimate standard errors for point estimates from our simulation mode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33520" y="1447920"/>
          <a:ext cx="8028000" cy="3971880"/>
        </p:xfrm>
        <a:graphic>
          <a:graphicData uri="http://schemas.openxmlformats.org/drawingml/2006/table">
            <a:tbl>
              <a:tblPr/>
              <a:tblGrid>
                <a:gridCol w="2666880"/>
                <a:gridCol w="1371600"/>
                <a:gridCol w="1371600"/>
                <a:gridCol w="1330200"/>
                <a:gridCol w="128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workers within-establishment  by income (MAGI as percentage of FP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 2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jority of workers with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g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l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139-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jority of workers with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g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l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139-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9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9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674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tion of incomes for full-time, eligible workers in establishments that offer ESI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33520" y="556272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establishment weights. We did not estimate standard errors for point estimates from our simulation model.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Insuran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 definition of affordabil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P premium for single coverage &lt; 9.5% of MA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definition of affordable dependent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ent coverage if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P premium for dependent coverage &lt; 9.5% of MAG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Employer-Sim Model to examine afford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weight the data to produce worker-level estima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workers with MAGI between 139-400% FP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entially eligible for subsidized Exchange cover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 full-time workers with MAGI 139-400% FPL, who are offered insurance, we examine the percent of workers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ordable single coverage (legal ACA defini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ordable’ dependent coverage from own emplo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options for workers with “unaffordable” dependent cover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usal offer of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eligible for public coverage with 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Dependent Cover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needed coverage for each family memb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e persons ≤138% FPL, children with free public coverage, and persons with Medicare or Tricare do not need E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s are assumed to need ESI provided by the wor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he number of persons in workers’ health insurance eligibility unit (HIEU) who need ES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veat: MEPS HIEU definition does not account for new ACA rules for dependents up to age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OOP premium, from own employer, to cover all who need E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whether OOP premium &lt; 9.5% of MAG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tion of OOP Premiums: Workers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752480"/>
          <a:ext cx="8339400" cy="336240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762120"/>
                <a:gridCol w="990720"/>
                <a:gridCol w="914400"/>
                <a:gridCol w="990360"/>
                <a:gridCol w="990720"/>
                <a:gridCol w="947880"/>
              </a:tblGrid>
              <a:tr h="398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depen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ile of the OOP premium distribu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ingle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Dependent coverage</a:t>
                      </a:r>
                      <a:r>
                        <a:rPr b="0" lang="en-US" sz="1800" spc="-1" strike="noStrike" baseline="30000">
                          <a:solidFill>
                            <a:srgbClr val="00279f"/>
                          </a:solidFill>
                          <a:latin typeface="Arial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8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,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9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1,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3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,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380880" y="5257800"/>
            <a:ext cx="830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Premiums for dependent coverage are conditional on an offer of dependent coverag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Single ESI: Workers 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447920"/>
          <a:ext cx="7916760" cy="4047840"/>
        </p:xfrm>
        <a:graphic>
          <a:graphicData uri="http://schemas.openxmlformats.org/drawingml/2006/table">
            <a:tbl>
              <a:tblPr/>
              <a:tblGrid>
                <a:gridCol w="2590560"/>
                <a:gridCol w="1447920"/>
                <a:gridCol w="1523880"/>
                <a:gridCol w="1143000"/>
                <a:gridCol w="1211400"/>
              </a:tblGrid>
              <a:tr h="370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with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depen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 esta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esta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Total workers 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verage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0,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0,1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0,4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28,7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owest OOP single prem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,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,0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lacking affordable single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7" name="TextBox 5"/>
          <p:cNvSpPr/>
          <p:nvPr/>
        </p:nvSpPr>
        <p:spPr>
          <a:xfrm>
            <a:off x="533520" y="555156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Single ESI: Workers 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1676520"/>
          <a:ext cx="8034120" cy="3774960"/>
        </p:xfrm>
        <a:graphic>
          <a:graphicData uri="http://schemas.openxmlformats.org/drawingml/2006/table">
            <a:tbl>
              <a:tblPr/>
              <a:tblGrid>
                <a:gridCol w="2819160"/>
                <a:gridCol w="1219320"/>
                <a:gridCol w="1523880"/>
                <a:gridCol w="1143000"/>
                <a:gridCol w="1328760"/>
              </a:tblGrid>
              <a:tr h="370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depen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Total workers 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verage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2,9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1,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2,7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0,5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owest OOP single prem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,1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lacking affordable single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5"/>
          <p:cNvSpPr/>
          <p:nvPr/>
        </p:nvSpPr>
        <p:spPr>
          <a:xfrm>
            <a:off x="533520" y="555156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Dependent ESI: Workers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752480"/>
          <a:ext cx="8034480" cy="4068720"/>
        </p:xfrm>
        <a:graphic>
          <a:graphicData uri="http://schemas.openxmlformats.org/drawingml/2006/table">
            <a:tbl>
              <a:tblPr/>
              <a:tblGrid>
                <a:gridCol w="2819520"/>
                <a:gridCol w="1371600"/>
                <a:gridCol w="1371600"/>
                <a:gridCol w="1143000"/>
                <a:gridCol w="132876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depen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ercent of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cking affordable dependent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4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4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ot offered dependent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Offered but not afford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6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8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533520" y="570384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ternative sources of dependent coverage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rkers with MAGI 139%-400% FPL, 2010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447920"/>
          <a:ext cx="8231040" cy="3835440"/>
        </p:xfrm>
        <a:graphic>
          <a:graphicData uri="http://schemas.openxmlformats.org/drawingml/2006/table">
            <a:tbl>
              <a:tblPr/>
              <a:tblGrid>
                <a:gridCol w="2895480"/>
                <a:gridCol w="1401840"/>
                <a:gridCol w="1390680"/>
                <a:gridCol w="1143000"/>
                <a:gridCol w="1400040"/>
              </a:tblGrid>
              <a:tr h="70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in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mall firms with dependents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ck affordable dependent cove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Dependent Cov. Off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Dep. Cov. Not Off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ercent of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pouse offer**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hildren eligi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o spouse offer or eligible child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9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5"/>
          <p:cNvSpPr/>
          <p:nvPr/>
        </p:nvSpPr>
        <p:spPr>
          <a:xfrm>
            <a:off x="533520" y="5410080"/>
            <a:ext cx="807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Workers may have both  a spousal offer and eligible children, so percentages do not sum to 100%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le Care Act (ACA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A will expand access to health insurance by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idizing Exchange coverage (139-400% FP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ding Medicaid (≤138%  FP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has found a relationship between employers’ insurance decisions and alternative forms of coverage for employe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usal offers of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A will present employers with important new sources of insurance coverage to consi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 not calculate standard errors (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 SEs must account for multiple sources of vari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ing of MEPS-HC workers to MEPS-IC establis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samples of MEPS-HC workers to estimate summary statistics for each establish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ing variation in the MEPS-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 standard errors (RSEs) for our point estimates are likely to be lar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sources of error are attributable to the HC-IC linkage 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A-related incentives raise important considerations for private employers regarding the provision of E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establishments have a majority of workers who are income-eligible for Medicaid or Exchange cove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-firm heterogeneity in workers’ incomes complicates employers’ dec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workers with MAGI 139-400% FPL have access to affordable single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estimate that about  750,000 workers lacked affordable single coverage in 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those with lack of access to ‘affordable’ dependent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half lacked an alternative source of dependent cove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rther Work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the affordability of dependent coverage using all availabl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er’s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use’s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’s eligibility for public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workers’ net benefits of Exchange coverage by comparing costs of moving to the Exchange with the costs of the most affordable alternati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ine the within-establishment concentration of workers who would benefit from Exchange cove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ortant Information to Assess the A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categories of Modified Adjusted Gross Family Income (MAGI) in the ACA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8% FP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edicaid eligib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9-250% FP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Large Exchange Subsid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1-400% FP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mall Exchange Subsid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400% FP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No Subsid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-employer distribution of  workers’ MAGI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ternative sources of coverage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miu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ationally representative data set has all required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loyer-Sim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thetic workforc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household data on workers to ‘populate’ establishment-level data on employers and their health insurance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S Insurance Component (IC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0 data on private establis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-of-Pocket (OOP) premiums for all plans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S Household Component (HC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5-2007: pooled data on workers and their 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I: constructed per ACA rules, CPI-adjusted to 2010 $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nking Workers to Establishmen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76520"/>
          <a:ext cx="7993080" cy="222876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/ Type of Information 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tate, Census region / div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Indu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 Digit NAICS / collapsed c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ulti-location firm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Y/N indic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Establishment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umber of employees in ran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Establishment offers insurance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Y/N indic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4267080"/>
            <a:ext cx="7993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raw a sample of 300+ workers that match each establishment on these characterist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 100+ low, medium and high wage work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rkers are sampled with replac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king Workers Weigh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76520"/>
          <a:ext cx="7993080" cy="222876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/ Type of Information 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Age 50 pl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In un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W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Low, medium, high w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Full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Full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267080"/>
            <a:ext cx="7993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/1 variables for MEPS HC wo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cent distributions in MEPS IC establishm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eratively adjust MEPS HC sample weights until worker characteristics match estab. % distribu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thetic Workfo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tic workforces (in principle) can be used to examine any employee/family characteristic from the MEPS H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depends on correlation between the HC characteristic and variables used in linking and r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 do not provide standard errors, which could be quite large given the multiple sources of data and imperfections in the synthetic mat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d adjusted gross incomes are strongly related to many of the variables available to construct synthetic workfor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al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how many employers have a majority of workers who are income-eligible for ACA-related cover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predominantly subsidy-eligible firms, examine the degree of variation in workers’ inco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issues related to the affordability of insu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tify Analysis by Firm-Siz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rms (50+ full-time work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fines if at least one full-time employee gets subsidized  Exchange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firms ( &lt; 50 full-time work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enalties for employees accessing Exchange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 credits for some firms with &lt; 25 workers (started in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DHHS</cp:lastModifiedBy>
  <cp:lastPrinted>2003-01-21T20:19:23Z</cp:lastPrinted>
  <dcterms:modified xsi:type="dcterms:W3CDTF">2012-11-20T13:22:28Z</dcterms:modified>
  <cp:revision>511</cp:revision>
  <dc:subject/>
  <dc:title>AHRQ Slide Template 2004</dc:title>
</cp:coreProperties>
</file>